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F53-F699-4793-8042-B6FCA30C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F34-76CE-4968-9ECB-E09DBF21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867-990B-47B6-BBAC-B07869A3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D90-852A-471B-8982-9C78874E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619-68DC-4AC9-B358-B7787EE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C96-5EED-4F8E-BD21-7C5F7709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C20-684E-4867-986C-99850910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A52-A576-4A9B-BE52-F28D1335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0D3-06E3-4CA5-84F3-DF97BEC3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95F-E387-4D84-8C31-C4015A8F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055-7F9C-4CB3-B74E-1445B347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82F-497F-47C0-B999-2E5BF5D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90FD-AE81-4324-9005-F490612F6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32403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Что могут называть слова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Галина\Desktop\i3MACE1MA.jpg"/>
          <p:cNvPicPr/>
          <p:nvPr/>
        </p:nvPicPr>
        <p:blipFill>
          <a:blip r:embed="rId2"/>
          <a:stretch/>
        </p:blipFill>
        <p:spPr>
          <a:xfrm>
            <a:off x="438120" y="-47520"/>
            <a:ext cx="870588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Галина\Desktop\i3WJK316N.jpg"/>
          <p:cNvPicPr/>
          <p:nvPr/>
        </p:nvPicPr>
        <p:blipFill>
          <a:blip r:embed="rId2"/>
          <a:stretch/>
        </p:blipFill>
        <p:spPr>
          <a:xfrm>
            <a:off x="0" y="399960"/>
            <a:ext cx="895356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Галина\Desktop\iWFLYAR7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Галина\Desktop\iOSZ3O07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Галина\Desktop\iDKGT4V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Галина\Desktop\i[10].jpg"/>
          <p:cNvPicPr/>
          <p:nvPr/>
        </p:nvPicPr>
        <p:blipFill>
          <a:blip r:embed="rId2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Галина\Desktop\iO9E843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Галина\Desktop\img7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Галина\Desktop\iLH71FVBZ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Галина\Desktop\0007-007-Kto[1].jpg"/>
          <p:cNvPicPr/>
          <p:nvPr/>
        </p:nvPicPr>
        <p:blipFill>
          <a:blip r:embed="rId2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Галина\Desktop\iEUDTXRA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Галина\Desktop\i1LHF94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Галина\Desktop\hello_html_m601cc1a7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Галина\Desktop\i[1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4T10:05:37Z</dcterms:created>
  <dc:creator>Galina</dc:creator>
  <dc:description/>
  <dc:language>en-US</dc:language>
  <cp:lastModifiedBy>Admin</cp:lastModifiedBy>
  <dcterms:modified xsi:type="dcterms:W3CDTF">2020-04-07T08:14:02Z</dcterms:modified>
  <cp:revision>6</cp:revision>
  <dc:subject/>
  <dc:title>Что могут называть слова?</dc:title>
</cp:coreProperties>
</file>