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61B-34FD-4FFC-9D5B-245841D2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821-A48C-46FE-92F6-0FB6FD54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46B-B22D-4873-8440-D2E3A007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EFC-4937-4AAD-86E5-52FA2334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B8730-2562-44AC-B68E-B90DCA9C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FDDCE-DEA9-4804-8AC4-51321C88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66B76-EF0A-4B21-BD2F-D157B594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59DE0-0523-475F-BB4F-CA44CBF3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C860A-DB6A-48E0-8EA4-1DD81719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74AC6-1C28-4F81-9B97-46FB5F5C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F4CB7-2790-46F1-AE9A-D8B00722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573-01E0-4A6D-A7F5-9F0078D5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FC944-755C-4B2A-8EC2-5707F1B5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69E87-1E4B-4F22-9344-9E1DCC0D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01D7A-B08C-44F3-85F6-A4B1A445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F8227-47A0-4E9E-8087-641D5BBA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6F640-5BBF-422D-B436-B35AAB96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F081E-AF10-4AC0-80EA-928BF5A7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630C7-5355-4087-B967-80077B04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EEF0-89A9-4865-8C73-4EEC9019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F5896-B571-400D-95F4-90230F17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0230-B850-4E61-A452-4084B11C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CF0-ED48-4A43-B97C-77C0C9D8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A8927-8AB4-429E-911E-D424E002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DDBD9-9963-4779-BDDC-FE0B7263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2B2E-B8DB-41C6-99F5-C3E192F3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3E4DF-27D7-4492-ABC9-93042F21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935B5-AACA-4A30-8D29-7DB86ABD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04FC7-3916-4E6B-8B6C-DD23212F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541B-33A3-4C9A-9511-B839D577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6AE502-8C2D-4BD5-B843-B2685868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31713F-790B-45F0-8C1C-EDC5E3D7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BC0E17-F58A-48E0-ABA7-AF1E8B54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043-B577-4F7F-B623-95E4484F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AEE18-3D90-4DE1-BA6F-DDEC703D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474E0E-92E7-4166-92D7-0341DDA1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C4C3BF-19A2-474F-A136-89A6C515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820643-E906-4727-9D21-FC2AA8EA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FA21D5-DAF9-48F3-9A12-C68D3FC6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E5ABDF-E4DB-4B37-BFDD-0742EE55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CD735-1BE6-43AB-9A9F-9E9CAEC4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FF2EE5-C1B6-4EE7-88C3-5D6AF85F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83D70C-A045-4BC1-9618-3D9794F0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5F1936-A96B-4372-8252-758F6B65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857-4CD2-43B5-BD91-20408029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C7D2B-B560-4503-BD04-DDFA2D7B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83B567-CD7E-49F7-A9F6-76043F1D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68BE44-EC0E-4A1C-A648-59398055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E8C33-59B1-42B8-9BC4-BC3CADA3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09066-25C1-45DA-849D-3A6DBE37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5A053E-0F79-4870-9B7C-7FFB67C4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89590-FC5C-440F-8810-B3943E99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2AD18-2251-42B8-9A78-85146509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D36CF-0361-4F64-B769-D0D8713D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52AF7-9C46-430E-9C8B-C26D71EB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4B3-7A42-43F8-849B-A477BF4C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1F82C-EAF1-4A68-9043-1A1A2955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950DBC-33FB-4603-940E-AD8F801C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BF347-BFEB-46E3-BD64-733C69F6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28DAF-18F5-414F-ABAF-52468971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715261-E515-4332-ADF1-4C76D0FA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CA3DF2-CD2E-4CD7-BB31-EAA4374D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B3CDA8-D414-4E18-8E8A-E80DE488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3AC25-5A09-4D1A-A66E-C2E881F7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C697A-54C4-4EDA-ADF8-F2159ABE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6BBD1-3F8B-4026-A23D-AB3D1187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60C-B6B0-4BA7-BB2B-81BEC980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03272-748A-4609-BD8B-92B6CA20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E9001-126B-418C-8708-4815999B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7D401-1C92-4019-8F1E-E654D492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C00-73F1-4530-9BC3-59E2F990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64C-87C3-4DC7-BFAF-67582B8C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821D-655F-4EB7-AFE4-3B434EE0301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7C87-E44A-407A-A6FD-868A3282904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09F8-7153-46A8-AD1F-3AD1EDA9BCE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FEFA-AB52-49B9-9FC3-08FD5F0D521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E92A-F8AB-4EB8-9035-EB66789467E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194F-787B-4892-B067-0F4B9A92E5D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556000" y="5300280"/>
            <a:ext cx="640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ac9"/>
                </a:solidFill>
                <a:latin typeface="Constantia"/>
              </a:rPr>
              <a:t>Подготовила: Бойко О.Ю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609480" y="1914480"/>
            <a:ext cx="777240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4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442360" cy="1481400"/>
          </a:xfrm>
          <a:prstGeom prst="rect">
            <a:avLst/>
          </a:prstGeom>
          <a:ln w="0">
            <a:noFill/>
          </a:ln>
        </p:spPr>
      </p:pic>
      <p:sp>
        <p:nvSpPr>
          <p:cNvPr id="277" name="Line 5"/>
          <p:cNvSpPr/>
          <p:nvPr/>
        </p:nvSpPr>
        <p:spPr>
          <a:xfrm>
            <a:off x="611280" y="1341360"/>
            <a:ext cx="792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 flipH="1">
            <a:off x="1186920" y="1341360"/>
            <a:ext cx="79236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7"/>
          <p:cNvSpPr/>
          <p:nvPr/>
        </p:nvSpPr>
        <p:spPr>
          <a:xfrm>
            <a:off x="6659640" y="1341360"/>
            <a:ext cx="649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539640" y="2133720"/>
            <a:ext cx="3311640" cy="647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4643280" y="2133720"/>
            <a:ext cx="3311640" cy="647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611280" y="21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НАРХ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4788000" y="21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СПУБЛ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611280" y="3357720"/>
            <a:ext cx="324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Абсолют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Дуалист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Парламент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13"/>
          <p:cNvSpPr/>
          <p:nvPr/>
        </p:nvSpPr>
        <p:spPr>
          <a:xfrm>
            <a:off x="4211640" y="1341360"/>
            <a:ext cx="73080" cy="496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4643280" y="3357720"/>
            <a:ext cx="36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Президент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Смеша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Парламент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Унитарное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(единая структура гос.аппарата, власть главы государства на территории всей страны, единое гражданство, единая система прав, единая судебная система, одноканальная система налогов);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Федеративное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(два уровня гос.аппарата – федеральный и республиканский, двойное гражданство, двухканальная система налогов);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едеративное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(объединение государств на договорной основе, субъекты конфедерации являются полностью самостоятельными государствами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одружество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( объединение государств, в основе которого могут быть общие язык, права и т.д.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281160" y="476280"/>
            <a:ext cx="841824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МОКРАТИЧЕСКИЙ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(народовластие, 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ТОТАЛИТАРНЫЙ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(тираническая, диктаторская власть, тотальный контроль за поведением, деятельностью и мышлением людей, бессудные репрессии, милитаризация, внешнеполитическая агрессивность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ВТОРИТАРНЫЙ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(жесткая власть, которая не покушается на основные гражданские свободы, реально принадлежит в основном одному лицу, правление осуществляется на силовой основе, выборы проводятся нерегулярно и часто фальсифицируются, СМИ не отражают весь спектр мнений различных слоев населения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0" name="Rectangle 4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44236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611280" y="32446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539640" y="2060640"/>
            <a:ext cx="813600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это основной институт политической системы общества, организующий, направляющий и контролирующий совместную деятельность и взаимоотношения людей, групп, страт, классов, организаций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– главный институт власт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6"/>
          <p:cNvSpPr/>
          <p:nvPr/>
        </p:nvSpPr>
        <p:spPr>
          <a:xfrm>
            <a:off x="3419640" y="2852640"/>
            <a:ext cx="2592360" cy="1800360"/>
          </a:xfrm>
          <a:custGeom>
            <a:avLst/>
            <a:gdLst>
              <a:gd name="textAreaLeft" fmla="*/ 259200 w 2592360"/>
              <a:gd name="textAreaRight" fmla="*/ 2333160 w 2592360"/>
              <a:gd name="textAreaTop" fmla="*/ 1028880 h 1800360"/>
              <a:gd name="textAreaBottom" fmla="*/ 1543320 h 180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2771640" y="20606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СУДАР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0" y="37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Л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5508720" y="37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ЛИТ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Rectangle 10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44236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общественный;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классовый;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политико-правовой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Единая территор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Единая система управления территорие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Единая система закон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онополия на легальное применение сил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аво на взимание налог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бязательность членства в государстве – гражданств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едставительство от имени общества в международных организация, переговора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уверенитет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Rectangle 4" descr=""/>
          <p:cNvPicPr/>
          <p:nvPr/>
        </p:nvPicPr>
        <p:blipFill>
          <a:blip r:embed="rId1"/>
          <a:stretch/>
        </p:blipFill>
        <p:spPr>
          <a:xfrm>
            <a:off x="231840" y="334800"/>
            <a:ext cx="846756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ВНУТРЕННИЕ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олитическая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(укрепление основ власти, формирование ее органов, обеспечение суверенитета государства, политической стабильности и т.д.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оциальная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(забота о благополучии граждан, особенно о слабо защищенных, об осуществлении их социальных прав, корректировка отрицательных последствий рыночных отношений и др.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экономическая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(воздействие через законодательство, налоги и пошлины на экономическую жизнь страны, защита экономических прав граждан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Rectangle 5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оохранительна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поддержание порядка в обществе, борьба с криминальными элементами, защита прав и свобод человека от преступных посягательст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логическ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осуществление природоохранных мероприятий, участие в разработке и финансировании программ по охране окружающей сред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ционально-культурн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способствование развитию национального самосознания и национальной культуры, организация и финансирование образования, науки, культур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Rectangle 6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ВНЕШНИЕ: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борона страны, развитие дипломатических отношений, экономическая, политическая и военная помощь другим странам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Rectangle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8"/>
          <p:cNvSpPr/>
          <p:nvPr/>
        </p:nvSpPr>
        <p:spPr>
          <a:xfrm>
            <a:off x="2340000" y="1557360"/>
            <a:ext cx="4249800" cy="374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682560" y="262080"/>
            <a:ext cx="8461440" cy="14270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2411280" y="1628640"/>
            <a:ext cx="3961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e58b6"/>
                </a:solidFill>
                <a:uFillTx/>
                <a:latin typeface="Arial"/>
                <a:hlinkClick r:id="rId2" action="ppaction://hlinksldjump"/>
              </a:rPr>
              <a:t>Форма  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то и как правит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250920" y="4365720"/>
            <a:ext cx="43210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e58b6"/>
                </a:solidFill>
                <a:uFillTx/>
                <a:latin typeface="Arial"/>
                <a:hlinkClick r:id="rId3" action="ppaction://hlinksldjump"/>
              </a:rPr>
              <a:t>Форма государственного устрой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ак объединено население на территории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4643280" y="4292640"/>
            <a:ext cx="432144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e58b6"/>
                </a:solidFill>
                <a:uFillTx/>
                <a:latin typeface="Arial"/>
                <a:hlinkClick r:id="rId4" action="ppaction://hlinksldjump"/>
              </a:rPr>
              <a:t>Форма политического реж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аким способом осуществляется власть в обществе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7:24:57Z</dcterms:created>
  <dc:creator>домашний компьютер</dc:creator>
  <dc:description/>
  <dc:language>en-US</dc:language>
  <cp:lastModifiedBy>User</cp:lastModifiedBy>
  <dcterms:modified xsi:type="dcterms:W3CDTF">2020-04-07T10:59:09Z</dcterms:modified>
  <cp:revision>11</cp:revision>
  <dc:subject/>
  <dc:title>Государство</dc:title>
</cp:coreProperties>
</file>