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38.jpeg" ContentType="image/jpeg"/>
  <Override PartName="/ppt/media/image32.jpeg" ContentType="image/jpeg"/>
  <Override PartName="/ppt/media/image12.png" ContentType="image/png"/>
  <Override PartName="/ppt/media/image1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C99-5A47-409C-91EF-118F9362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060-FF50-4322-9D53-30F28D0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E83-C1A3-4698-9A8A-C6E00366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D9C-4725-4442-8A22-174176AD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6966-C75D-45A2-8ADE-04B91A5C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BF68-71A8-488B-85A1-0A06F74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797-E0A7-401F-911A-9EC3C2E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2EFB-7025-47A0-ACAD-A3185E9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96FB-84DB-4B20-996E-8C544C0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8F5-1DC9-4472-B9EC-28B7B1C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CA96-69A1-4AFD-BF6A-81C5E4A1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8A6-7041-4BF8-B347-357251E9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A846-F6B8-498E-80FC-DEF402A1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8393-C96F-41FB-8841-40A0B9F1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76C-4B1D-4FB2-8CFC-186492E8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B66E-5BC5-4E41-8723-2BCD6C6C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AAB-DA3A-4672-85C0-2928F451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3E70-831F-4B6D-832A-19DB0A78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032A-31D8-4390-8980-D291D776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9D24-358B-4909-B484-303D6300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4FD8-1AC3-42BF-B969-FE7E80C5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EDA4-7257-43B8-A13F-5099A457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DC6-244B-4D9B-B626-D0D0C1A2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CBBD-CE08-4BC8-BE96-1279814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C05A-774D-45B6-9C88-51F65A8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7C80-2F35-499D-9D55-DC151FF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A5C0-3FF9-4094-99AB-CF8016C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D458-DE8E-4E83-B999-36B638D8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C2E4-3D63-42E8-B737-8B53CFDD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B304-46A0-4D7A-8394-903E167A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DC09-4953-415A-9B09-B9938E7A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FE0C-EC0B-4E14-BB82-A3D539C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C3B4-CBE1-42FD-BE07-229E801F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6E4-2A8B-4C30-8475-C1CD276C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F3F0-0131-4EA6-9874-725B6FE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06E61-CAF7-4137-AB4E-7DD2CE3D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17A7-9BFC-42B6-A923-820D7FE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7D9C-E7D9-4725-BD2C-A1DBF76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2BE2-270A-496D-A64B-A9F5379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82B0-49E8-4512-B2B1-6B3E670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1D16-5F5E-445C-8D5B-5F05066C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7AC3-9687-44FA-90AC-BDD54897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4E37-2F91-49C0-A0A0-767DBC1E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E1C-CB98-462F-84C4-BE013708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0E6-D40A-469E-A43B-8952303D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D69-CBCC-43D6-91CC-2F9EE6A0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E37-A139-44A3-BAA6-33DE75A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B28-D8CB-4F41-A2FA-4D9EF32C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9A2-1DA8-4B8D-9F97-4D77E082B2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32D-A995-4314-873F-805D2FE8046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91D1-8BE8-4852-A54D-589F66EC25A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38D8-DA37-4C18-A1AA-57D385F804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384120"/>
            <a:ext cx="7772400" cy="2054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nstantia"/>
              </a:rPr>
              <a:t>День космонавтики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Apolli.bmp"/>
          <p:cNvPicPr/>
          <p:nvPr/>
        </p:nvPicPr>
        <p:blipFill>
          <a:blip r:embed="rId2"/>
          <a:stretch/>
        </p:blipFill>
        <p:spPr>
          <a:xfrm>
            <a:off x="304920" y="1905120"/>
            <a:ext cx="1771560" cy="1971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98" name="Рисунок 4" descr="shatti.bmp"/>
          <p:cNvPicPr/>
          <p:nvPr/>
        </p:nvPicPr>
        <p:blipFill>
          <a:blip r:embed="rId3"/>
          <a:stretch/>
        </p:blipFill>
        <p:spPr>
          <a:xfrm>
            <a:off x="6934320" y="1981080"/>
            <a:ext cx="1771560" cy="1971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457200" y="1143000"/>
            <a:ext cx="3286080" cy="52578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4"/>
          <p:cNvSpPr/>
          <p:nvPr/>
        </p:nvSpPr>
        <p:spPr>
          <a:xfrm>
            <a:off x="4038480" y="3733920"/>
            <a:ext cx="4648320" cy="2590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елла и памятник Ю. А. Гагарину на месте приземления. «Гагаринское поле» находится в 27 км от центра г. Энгельса в юго-западном направлении. На обелиске слова: «Здесь 12 апреля 1961 года  в 10 часов 55 минут приземлился первый космонавт в мире Ю.А. Гагар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вел Григорьевич Антокольский (поэт, 12 апреля 1961 года написал стихотворение, посвященное гагаринскому полёту и назвал его «Мужество»). Там есть такие строк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Я за то вам страстно благодар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за то вас полюбил навек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Юрий Алексеевич Гагарин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ыкновенный человек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вы шли в пространство мирово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 идут в атаку в полный рос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когда, безумствуя и во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корость звука поджимала хвост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 не знали страха и унынь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д грозным риском не склоняс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дет ваше мужество отны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алоном мужества для нас!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тсюда уходят  космические кораб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stari.bmp"/>
          <p:cNvPicPr/>
          <p:nvPr/>
        </p:nvPicPr>
        <p:blipFill>
          <a:blip r:embed="rId1"/>
          <a:stretch/>
        </p:blipFill>
        <p:spPr>
          <a:xfrm>
            <a:off x="533520" y="1523880"/>
            <a:ext cx="219060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4" name="Рисунок 4" descr="05pp003i.bmp"/>
          <p:cNvPicPr/>
          <p:nvPr/>
        </p:nvPicPr>
        <p:blipFill>
          <a:blip r:embed="rId2"/>
          <a:stretch/>
        </p:blipFill>
        <p:spPr>
          <a:xfrm>
            <a:off x="6477120" y="1523880"/>
            <a:ext cx="219060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5" name="Рисунок 5" descr="starti.bmp"/>
          <p:cNvPicPr/>
          <p:nvPr/>
        </p:nvPicPr>
        <p:blipFill>
          <a:blip r:embed="rId3"/>
          <a:stretch/>
        </p:blipFill>
        <p:spPr>
          <a:xfrm>
            <a:off x="1676520" y="4114800"/>
            <a:ext cx="2286000" cy="25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6" name="Рисунок 6" descr="6dvs002i.bmp"/>
          <p:cNvPicPr/>
          <p:nvPr/>
        </p:nvPicPr>
        <p:blipFill>
          <a:blip r:embed="rId4"/>
          <a:stretch/>
        </p:blipFill>
        <p:spPr>
          <a:xfrm>
            <a:off x="3505320" y="1523880"/>
            <a:ext cx="2209680" cy="245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7" name="Рисунок 7" descr="vostok1.bmp"/>
          <p:cNvPicPr/>
          <p:nvPr/>
        </p:nvPicPr>
        <p:blipFill>
          <a:blip r:embed="rId5"/>
          <a:stretch/>
        </p:blipFill>
        <p:spPr>
          <a:xfrm>
            <a:off x="4876920" y="4114800"/>
            <a:ext cx="33685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акая у космонавтов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3" descr="prf019i.bmp"/>
          <p:cNvPicPr/>
          <p:nvPr/>
        </p:nvPicPr>
        <p:blipFill>
          <a:blip r:embed="rId1"/>
          <a:stretch/>
        </p:blipFill>
        <p:spPr>
          <a:xfrm>
            <a:off x="3352680" y="2590920"/>
            <a:ext cx="260208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0" name="Рисунок 4" descr="Apolli.bmp"/>
          <p:cNvPicPr/>
          <p:nvPr/>
        </p:nvPicPr>
        <p:blipFill>
          <a:blip r:embed="rId2"/>
          <a:stretch/>
        </p:blipFill>
        <p:spPr>
          <a:xfrm>
            <a:off x="6400800" y="2819520"/>
            <a:ext cx="2228760" cy="248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Рисунок 5" descr="soyuz19i.bmp"/>
          <p:cNvPicPr/>
          <p:nvPr/>
        </p:nvPicPr>
        <p:blipFill>
          <a:blip r:embed="rId3"/>
          <a:stretch/>
        </p:blipFill>
        <p:spPr>
          <a:xfrm>
            <a:off x="380880" y="3124080"/>
            <a:ext cx="2752920" cy="221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 открытом космос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3" descr="k_598i.bmp"/>
          <p:cNvPicPr/>
          <p:nvPr/>
        </p:nvPicPr>
        <p:blipFill>
          <a:blip r:embed="rId1"/>
          <a:stretch/>
        </p:blipFill>
        <p:spPr>
          <a:xfrm>
            <a:off x="1066680" y="1981080"/>
            <a:ext cx="29448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4" name="Рисунок 4" descr="prf018i.bmp"/>
          <p:cNvPicPr/>
          <p:nvPr/>
        </p:nvPicPr>
        <p:blipFill>
          <a:blip r:embed="rId2"/>
          <a:stretch/>
        </p:blipFill>
        <p:spPr>
          <a:xfrm>
            <a:off x="4952880" y="1981080"/>
            <a:ext cx="29448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Женщины - космонав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pt_042.bmp"/>
          <p:cNvPicPr/>
          <p:nvPr/>
        </p:nvPicPr>
        <p:blipFill>
          <a:blip r:embed="rId1"/>
          <a:stretch/>
        </p:blipFill>
        <p:spPr>
          <a:xfrm>
            <a:off x="457200" y="20574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Прямоугольник 5"/>
          <p:cNvSpPr/>
          <p:nvPr/>
        </p:nvSpPr>
        <p:spPr>
          <a:xfrm>
            <a:off x="2666880" y="15238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ЕШКОВА Валентина Владимировна (р. 1937), российский космонавт. Летчик-космонавт СССР (1963), первая в мире женщина-космонавт, кандидат технических наук, полковник (1970), общественный деятель, Герой Советского Союза (1963). Полет на «Востоке-6» (июнь 1963). Председатель Комитета советских женщин (1968-87), вице-президент Международной демократической федерации женщин с 1969. С 1987-92 председатель Президиума Союза советских обществ дружбы и культурной связи с зарубежными странами. С 1994 руководитель Российского центра международного научного и культурного сотрудн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4" descr="ps_040.bmp"/>
          <p:cNvPicPr/>
          <p:nvPr/>
        </p:nvPicPr>
        <p:blipFill>
          <a:blip r:embed="rId1"/>
          <a:stretch/>
        </p:blipFill>
        <p:spPr>
          <a:xfrm>
            <a:off x="609480" y="1600200"/>
            <a:ext cx="177192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Прямоугольник 5"/>
          <p:cNvSpPr/>
          <p:nvPr/>
        </p:nvSpPr>
        <p:spPr>
          <a:xfrm>
            <a:off x="2743200" y="1720800"/>
            <a:ext cx="518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ИЦКАЯ Светлана Евгеньевна (р. 1948), российский космонавт, летчик-космонавт СССР, дважды Герой Советского Союза (1982, 1984), заслуженный мастер спорта (1970). Дочь Е. Я. Савицкого. В 60-70-е гг. чемпионка и рекордсменка мира по самолетному и парашютному спорту. Полет на «Союзе Т-5, Т-7» и орбитальной станции «Салют-7» (август 1982), «Союзе Т-12» и орбитальной станции «Салют-7» (июль 198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смический вернисаж (галактики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001AAA.JPG"/>
          <p:cNvPicPr/>
          <p:nvPr/>
        </p:nvPicPr>
        <p:blipFill>
          <a:blip r:embed="rId1"/>
          <a:stretch/>
        </p:blipFill>
        <p:spPr>
          <a:xfrm>
            <a:off x="457200" y="1828800"/>
            <a:ext cx="371952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2" name="Рисунок 5" descr="Andromeda Galaxy.jpg"/>
          <p:cNvPicPr/>
          <p:nvPr/>
        </p:nvPicPr>
        <p:blipFill>
          <a:blip r:embed="rId2"/>
          <a:stretch/>
        </p:blipFill>
        <p:spPr>
          <a:xfrm>
            <a:off x="4495680" y="4267080"/>
            <a:ext cx="2776680" cy="22100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0041.jpg"/>
          <p:cNvPicPr/>
          <p:nvPr/>
        </p:nvPicPr>
        <p:blipFill>
          <a:blip r:embed="rId3"/>
          <a:stretch/>
        </p:blipFill>
        <p:spPr>
          <a:xfrm>
            <a:off x="4876920" y="1676520"/>
            <a:ext cx="3120840" cy="234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ланета Земля из космос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3" descr="11.jpg"/>
          <p:cNvPicPr/>
          <p:nvPr/>
        </p:nvPicPr>
        <p:blipFill>
          <a:blip r:embed="rId1"/>
          <a:stretch/>
        </p:blipFill>
        <p:spPr>
          <a:xfrm>
            <a:off x="685800" y="2590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2.jpg"/>
          <p:cNvPicPr/>
          <p:nvPr/>
        </p:nvPicPr>
        <p:blipFill>
          <a:blip r:embed="rId2"/>
          <a:stretch/>
        </p:blipFill>
        <p:spPr>
          <a:xfrm>
            <a:off x="6858000" y="2590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04.jpg"/>
          <p:cNvPicPr/>
          <p:nvPr/>
        </p:nvPicPr>
        <p:blipFill>
          <a:blip r:embed="rId3"/>
          <a:stretch/>
        </p:blipFill>
        <p:spPr>
          <a:xfrm>
            <a:off x="3124080" y="37339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ругие плане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3" descr="~______1.JPG"/>
          <p:cNvPicPr/>
          <p:nvPr/>
        </p:nvPicPr>
        <p:blipFill>
          <a:blip r:embed="rId1"/>
          <a:stretch/>
        </p:blipFill>
        <p:spPr>
          <a:xfrm>
            <a:off x="1600200" y="205740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0004.jpg"/>
          <p:cNvPicPr/>
          <p:nvPr/>
        </p:nvPicPr>
        <p:blipFill>
          <a:blip r:embed="rId2"/>
          <a:stretch/>
        </p:blipFill>
        <p:spPr>
          <a:xfrm>
            <a:off x="5257800" y="129528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12.jpg"/>
          <p:cNvPicPr/>
          <p:nvPr/>
        </p:nvPicPr>
        <p:blipFill>
          <a:blip r:embed="rId3"/>
          <a:stretch/>
        </p:blipFill>
        <p:spPr>
          <a:xfrm>
            <a:off x="53352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035.jpg"/>
          <p:cNvPicPr/>
          <p:nvPr/>
        </p:nvPicPr>
        <p:blipFill>
          <a:blip r:embed="rId4"/>
          <a:stretch/>
        </p:blipFill>
        <p:spPr>
          <a:xfrm>
            <a:off x="2743200" y="4343400"/>
            <a:ext cx="3121200" cy="23414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NEPTUNE.JPG"/>
          <p:cNvPicPr/>
          <p:nvPr/>
        </p:nvPicPr>
        <p:blipFill>
          <a:blip r:embed="rId5"/>
          <a:stretch/>
        </p:blipFill>
        <p:spPr>
          <a:xfrm>
            <a:off x="6324480" y="40384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Главный конструктор космических корабле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pk_047.bmp"/>
          <p:cNvPicPr/>
          <p:nvPr/>
        </p:nvPicPr>
        <p:blipFill>
          <a:blip r:embed="rId1"/>
          <a:stretch/>
        </p:blipFill>
        <p:spPr>
          <a:xfrm>
            <a:off x="533520" y="190512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1" name="Прямоугольник 4"/>
          <p:cNvSpPr/>
          <p:nvPr/>
        </p:nvSpPr>
        <p:spPr>
          <a:xfrm>
            <a:off x="2514600" y="182880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 Сергей Павлович (1906/07-1966), российский ученый и конструктор, академик АН СССР (1958), дважды Герой Социалистического Труда (1956, 1961). Под руководством Королева созданы баллистические и геофизические ракеты, первые искусственные спутники Земли, спутники различного назначения («Электрон», «Молния-1», «Космос», «Зонд» и др.), космические корабли «Восток », «Восход », на которых впервые в истории совершены космический полет человека и выход человека в кос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4" descr="shatti.bmp"/>
          <p:cNvPicPr/>
          <p:nvPr/>
        </p:nvPicPr>
        <p:blipFill>
          <a:blip r:embed="rId2"/>
          <a:stretch/>
        </p:blipFill>
        <p:spPr>
          <a:xfrm>
            <a:off x="7086600" y="3657600"/>
            <a:ext cx="1771560" cy="197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брати внимание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ё много интересного ты узнаешь, если прочитаешь книг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Ю.А.Гагарин «Дорога в космос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Ю.Нагибин «Рассказы о Гагарин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.Лебедев «Сыны голубой планет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.И.Россошанский «Феномен Гагарин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00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ланета Земля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3" descr="00004.JPG"/>
          <p:cNvPicPr/>
          <p:nvPr/>
        </p:nvPicPr>
        <p:blipFill>
          <a:blip r:embed="rId1"/>
          <a:stretch/>
        </p:blipFill>
        <p:spPr>
          <a:xfrm>
            <a:off x="1646280" y="3733920"/>
            <a:ext cx="3454200" cy="2590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3"/>
          <p:cNvSpPr/>
          <p:nvPr/>
        </p:nvSpPr>
        <p:spPr>
          <a:xfrm>
            <a:off x="457200" y="1371600"/>
            <a:ext cx="8153280" cy="2209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 Облетев  Землю  в  корабле – спутнике,  я  увидел,  как  прекрасна  наша планета.  Люди,  будем  хранить  и  приумножать   эту  красоту, 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 разрушать  её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Ю. А.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Юрий Алексеевич Гагар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pg_004.bmp"/>
          <p:cNvPicPr/>
          <p:nvPr/>
        </p:nvPicPr>
        <p:blipFill>
          <a:blip r:embed="rId1"/>
          <a:stretch/>
        </p:blipFill>
        <p:spPr>
          <a:xfrm>
            <a:off x="2660760" y="2209680"/>
            <a:ext cx="2984400" cy="332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ГАГАРИН Юрий Алексеевич (1934-68), российский космонавт, летчик-космонавт СССР (1961), полковник, Герой Советского Союза (1961). 12 апреля 1961 впервые в истории человечества совершил полет в космос на космическом корабле «Восток». Участвовал в обучении и тренировке экипажей космонавтов. Погиб во время тренировочного полета на самолете. Имя Гагарина носят учебные заведения, улицы и площади многих городов мира и др. Именем Гагарина назван кратер на обратной стороне Луны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vostok1.bmp"/>
          <p:cNvPicPr/>
          <p:nvPr/>
        </p:nvPicPr>
        <p:blipFill>
          <a:blip r:embed="rId1"/>
          <a:stretch/>
        </p:blipFill>
        <p:spPr>
          <a:xfrm>
            <a:off x="4648320" y="4973760"/>
            <a:ext cx="2209680" cy="164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2" name="Рисунок 4" descr="ГАГАРИН12.jpg"/>
          <p:cNvPicPr/>
          <p:nvPr/>
        </p:nvPicPr>
        <p:blipFill>
          <a:blip r:embed="rId2"/>
          <a:stretch/>
        </p:blipFill>
        <p:spPr>
          <a:xfrm>
            <a:off x="2209680" y="4800600"/>
            <a:ext cx="1295640" cy="1946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чему именно Юрий Гагари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А. Карпов, первый начальник Центра подготовки космонавтов: «Для первого полёта нужен был человек, в характере которого переплетались бы как можно больше положительных качеств. И тут были приняты во внимание такие неоспоримые гагаринские достоинств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ззаветный патриотиз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преклонная вера в успех полё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личное здоровь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истощимый оптимиз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бкость ума и любозна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мелость и реши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ккурат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удолюб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держ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стота и скром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шая человеческая теплота и внимание к окружающим людям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смический корабль «Восток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487680" cy="364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 память о Ю. А. Гагари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Объект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75400" cy="4389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рослав</cp:lastModifiedBy>
  <dcterms:modified xsi:type="dcterms:W3CDTF">2020-04-07T11:13:47Z</dcterms:modified>
  <cp:revision>19</cp:revision>
  <dc:subject/>
  <dc:title>12 апреля</dc:title>
</cp:coreProperties>
</file>