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33.jpeg" ContentType="image/jpeg"/>
  <Override PartName="/ppt/media/image26.jpeg" ContentType="image/jpeg"/>
  <Override PartName="/ppt/media/image24.png" ContentType="image/png"/>
  <Override PartName="/ppt/media/image11.jpeg" ContentType="image/jpeg"/>
  <Override PartName="/ppt/media/image23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36.jpeg" ContentType="image/jpeg"/>
  <Override PartName="/ppt/media/image39.jpeg" ContentType="image/jpeg"/>
  <Override PartName="/ppt/media/image8.png" ContentType="image/png"/>
  <Override PartName="/ppt/media/image14.jpeg" ContentType="image/jpeg"/>
  <Override PartName="/ppt/media/image13.png" ContentType="image/png"/>
  <Override PartName="/ppt/media/image37.jpeg" ContentType="image/jpeg"/>
  <Override PartName="/ppt/media/image29.jpeg" ContentType="image/jpeg"/>
  <Override PartName="/ppt/media/image5.png" ContentType="image/png"/>
  <Override PartName="/ppt/media/image10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png" ContentType="image/png"/>
  <Override PartName="/ppt/media/image28.png" ContentType="image/png"/>
  <Override PartName="/ppt/media/image38.jpeg" ContentType="image/jpeg"/>
  <Override PartName="/ppt/media/image32.jpeg" ContentType="image/jpeg"/>
  <Override PartName="/ppt/media/image12.png" ContentType="image/png"/>
  <Override PartName="/ppt/media/image18.png" ContentType="image/png"/>
  <Override PartName="/ppt/media/image34.jpeg" ContentType="image/jpeg"/>
  <Override PartName="/ppt/media/image7.png" ContentType="image/png"/>
  <Override PartName="/ppt/media/image35.jpeg" ContentType="image/jpeg"/>
  <Override PartName="/ppt/media/image1.jpeg" ContentType="image/jpeg"/>
  <Override PartName="/ppt/media/image9.png" ContentType="image/png"/>
  <Override PartName="/ppt/media/image22.jpeg" ContentType="image/jpeg"/>
  <Override PartName="/ppt/media/image6.png" ContentType="image/png"/>
  <Override PartName="/ppt/media/image3.png" ContentType="image/png"/>
  <Override PartName="/ppt/media/image17.jpeg" ContentType="image/jpeg"/>
  <Override PartName="/ppt/media/image15.jpeg" ContentType="image/jpeg"/>
  <Override PartName="/ppt/media/image16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60F2C-C2ED-4B53-9E91-F2669F745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B63D7-B323-4C63-9681-25064D876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DABA5-7ABC-47B6-AA53-8116E8DCD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41F63-359F-485F-999D-51B7AAFB2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CF13E-B563-4C8B-BDB6-752CD32A5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B4898-482D-4FF5-B508-F7A75C947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D6915-E054-4577-BD49-26F4F7BAF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9DD1B-05BC-4D53-B95C-DC496B64A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A88C3-DE18-4FBA-B3C1-68FEE433C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6044B-8C5A-44B3-98C3-AADBCAC10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F32C9-7F5F-49BD-9DE9-A2CF893DD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4E165-F820-4CB9-A076-44276AD38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60F46-970C-4C24-BC70-4ABABB143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DE5BE-6BDF-4C5B-90D5-24C6EC49D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2B73A-091C-442E-BEF3-048746704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84770-071E-4C46-AD7B-7F22B6BAA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26EF5-EA39-42BA-9A84-56F483AE5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C05834-7FB8-48A0-B1EB-42D285A45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7FDD80-5F69-475E-B6EF-436915C99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AD3C99-53D4-4C9B-9AC9-DE943EB51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83CC61-453A-4B9D-8CE6-AB32A2764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05F2B8-4F04-4445-9043-D6C625533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484E8-1435-40D6-9C37-A5D459C68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EA7F00-1A4A-4CD2-94F7-5621A3470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5F652C-0626-4E90-A34B-42847FC24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40C80A-2E23-4B19-A313-7A48D99AB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F33BE6-CAF7-4CA5-BD88-FBEAF3A38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E8C6E3-ADC9-4255-B651-98B6F72CA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7FA3F4-790F-444F-89BC-74E90D3A0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73BAB9-84A5-484E-81FF-2830250BA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9BD519-CA7F-45D4-8DEB-AB6697CE4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3EA083-B18C-4BC1-8F3F-3990E92CB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AE495A-6E5D-47B5-B193-2912837DD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67F32-F5CF-46A3-9525-42986506C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092F6E-0DBD-4B70-BEFE-56C904EEF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F2C38F-8171-467D-B0B1-8908C2C7B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258921-92EF-455F-A921-49439CC68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925C37-4D1A-48E4-BBBC-21F19720F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37ACAA-4E5F-403D-94E5-28891B74B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ADA655-B4E4-4C6E-9BD2-B9B2830AE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F82A0F-D1A5-441E-8A2D-C49C4FD89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914FFA-3C0C-41A1-A967-2874B55CE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35121B-035A-4756-8DA7-6011F912D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BE412-5584-42EA-B471-576E8C801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7CBAC-4B48-44FA-ABD2-5170B7328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2ECE0-327D-41D6-A267-8E523F667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FAF13-8B1F-4109-A276-741D11365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8EE68-19C1-48F5-813D-AFCFAE048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40EAC-5E83-430F-93D6-93A5C3465CDF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EE258-56E1-46A5-864E-0001BB8E81FA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E55CE-095D-4757-B437-7460F4D5AA26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0E208-BAAA-4001-ACAE-EE656942D361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7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image" Target="../media/image39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1"/>
          <a:stretch/>
        </p:blipFill>
        <p:spPr>
          <a:xfrm>
            <a:off x="689040" y="384120"/>
            <a:ext cx="7772400" cy="205416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1371600" y="2971440"/>
            <a:ext cx="64008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ff0000"/>
                </a:solidFill>
                <a:latin typeface="Constantia"/>
              </a:rPr>
              <a:t>День космонавтики</a:t>
            </a:r>
            <a:endParaRPr b="0" lang="en-US" sz="6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7" name="Рисунок 3" descr="Apolli.bmp"/>
          <p:cNvPicPr/>
          <p:nvPr/>
        </p:nvPicPr>
        <p:blipFill>
          <a:blip r:embed="rId2"/>
          <a:stretch/>
        </p:blipFill>
        <p:spPr>
          <a:xfrm>
            <a:off x="304920" y="1905120"/>
            <a:ext cx="1771560" cy="197172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pic>
        <p:nvPicPr>
          <p:cNvPr id="198" name="Рисунок 4" descr="shatti.bmp"/>
          <p:cNvPicPr/>
          <p:nvPr/>
        </p:nvPicPr>
        <p:blipFill>
          <a:blip r:embed="rId3"/>
          <a:stretch/>
        </p:blipFill>
        <p:spPr>
          <a:xfrm>
            <a:off x="6934320" y="1981080"/>
            <a:ext cx="1771560" cy="197172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</p:spTree>
  </p:cSld>
  <p:transition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Содержимое 3" descr="Рисунок1.jpg"/>
          <p:cNvPicPr/>
          <p:nvPr/>
        </p:nvPicPr>
        <p:blipFill>
          <a:blip r:embed="rId1"/>
          <a:stretch/>
        </p:blipFill>
        <p:spPr>
          <a:xfrm>
            <a:off x="457200" y="1143000"/>
            <a:ext cx="3286080" cy="5257800"/>
          </a:xfrm>
          <a:prstGeom prst="rect">
            <a:avLst/>
          </a:prstGeom>
          <a:ln w="0">
            <a:noFill/>
          </a:ln>
        </p:spPr>
      </p:pic>
      <p:sp>
        <p:nvSpPr>
          <p:cNvPr id="220" name="Прямоугольник 4"/>
          <p:cNvSpPr/>
          <p:nvPr/>
        </p:nvSpPr>
        <p:spPr>
          <a:xfrm>
            <a:off x="4038480" y="3733920"/>
            <a:ext cx="4648320" cy="259056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Стелла и памятник Ю. А. Гагарину на месте приземления. «Гагаринское поле» находится в 27 км от центра г. Энгельса в юго-западном направлении. На обелиске слова: «Здесь 12 апреля 1961 года  в 10 часов 55 минут приземлился первый космонавт в мире Ю.А. Гагарин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457200" y="1142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42640" indent="-242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Павел Григорьевич Антокольский (поэт, 12 апреля 1961 года написал стихотворение, посвященное гагаринскому полёту и назвал его «Мужество»). Там есть такие строки: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«Я за то вам страстно благодарен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И за то вас полюбил навек,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Юрий Алексеевич Гагарин,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Необыкновенный человек,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Что вы шли в пространство мировое,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Как идут в атаку в полный рост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И когда, безумствуя и воя,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Скорость звука поджимала хвост,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Вы не знали страха и унынья,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Перед грозным риском не склонясь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Будет ваше мужество отныне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Эталоном мужества для нас!»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8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4617b"/>
                </a:solidFill>
                <a:latin typeface="Calibri"/>
              </a:rPr>
              <a:t>Отсюда уходят  космические корабли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3" name="Содержимое 3" descr="stari.bmp"/>
          <p:cNvPicPr/>
          <p:nvPr/>
        </p:nvPicPr>
        <p:blipFill>
          <a:blip r:embed="rId1"/>
          <a:stretch/>
        </p:blipFill>
        <p:spPr>
          <a:xfrm>
            <a:off x="533520" y="1523880"/>
            <a:ext cx="2190600" cy="24386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224" name="Рисунок 4" descr="05pp003i.bmp"/>
          <p:cNvPicPr/>
          <p:nvPr/>
        </p:nvPicPr>
        <p:blipFill>
          <a:blip r:embed="rId2"/>
          <a:stretch/>
        </p:blipFill>
        <p:spPr>
          <a:xfrm>
            <a:off x="6477120" y="1523880"/>
            <a:ext cx="2190600" cy="24386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225" name="Рисунок 5" descr="starti.bmp"/>
          <p:cNvPicPr/>
          <p:nvPr/>
        </p:nvPicPr>
        <p:blipFill>
          <a:blip r:embed="rId3"/>
          <a:stretch/>
        </p:blipFill>
        <p:spPr>
          <a:xfrm>
            <a:off x="1676520" y="4114800"/>
            <a:ext cx="2286000" cy="25448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226" name="Рисунок 6" descr="6dvs002i.bmp"/>
          <p:cNvPicPr/>
          <p:nvPr/>
        </p:nvPicPr>
        <p:blipFill>
          <a:blip r:embed="rId4"/>
          <a:stretch/>
        </p:blipFill>
        <p:spPr>
          <a:xfrm>
            <a:off x="3505320" y="1523880"/>
            <a:ext cx="2209680" cy="24591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227" name="Рисунок 7" descr="vostok1.bmp"/>
          <p:cNvPicPr/>
          <p:nvPr/>
        </p:nvPicPr>
        <p:blipFill>
          <a:blip r:embed="rId5"/>
          <a:stretch/>
        </p:blipFill>
        <p:spPr>
          <a:xfrm>
            <a:off x="4876920" y="4114800"/>
            <a:ext cx="3368520" cy="25146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p:transition>
    <p:wheel spokes="8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Такая у космонавтов работ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9" name="Содержимое 3" descr="prf019i.bmp"/>
          <p:cNvPicPr/>
          <p:nvPr/>
        </p:nvPicPr>
        <p:blipFill>
          <a:blip r:embed="rId1"/>
          <a:stretch/>
        </p:blipFill>
        <p:spPr>
          <a:xfrm>
            <a:off x="3352680" y="2590920"/>
            <a:ext cx="2602080" cy="28954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230" name="Рисунок 4" descr="Apolli.bmp"/>
          <p:cNvPicPr/>
          <p:nvPr/>
        </p:nvPicPr>
        <p:blipFill>
          <a:blip r:embed="rId2"/>
          <a:stretch/>
        </p:blipFill>
        <p:spPr>
          <a:xfrm>
            <a:off x="6400800" y="2819520"/>
            <a:ext cx="2228760" cy="24811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231" name="Рисунок 5" descr="soyuz19i.bmp"/>
          <p:cNvPicPr/>
          <p:nvPr/>
        </p:nvPicPr>
        <p:blipFill>
          <a:blip r:embed="rId3"/>
          <a:stretch/>
        </p:blipFill>
        <p:spPr>
          <a:xfrm>
            <a:off x="380880" y="3124080"/>
            <a:ext cx="2752920" cy="22100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p:transition>
    <p:wheel spokes="8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В открытом космосе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33" name="Содержимое 3" descr="k_598i.bmp"/>
          <p:cNvPicPr/>
          <p:nvPr/>
        </p:nvPicPr>
        <p:blipFill>
          <a:blip r:embed="rId1"/>
          <a:stretch/>
        </p:blipFill>
        <p:spPr>
          <a:xfrm>
            <a:off x="1066680" y="1981080"/>
            <a:ext cx="2944800" cy="32767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234" name="Рисунок 4" descr="prf018i.bmp"/>
          <p:cNvPicPr/>
          <p:nvPr/>
        </p:nvPicPr>
        <p:blipFill>
          <a:blip r:embed="rId2"/>
          <a:stretch/>
        </p:blipFill>
        <p:spPr>
          <a:xfrm>
            <a:off x="4952880" y="1981080"/>
            <a:ext cx="2944800" cy="32767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p:transition>
    <p:wheel spokes="8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7430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1" lang="ru-RU" sz="3600" spc="-1" strike="noStrike">
                <a:solidFill>
                  <a:srgbClr val="04617b"/>
                </a:solidFill>
                <a:latin typeface="Calibri"/>
              </a:rPr>
              <a:t>Женщины - космонавты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36" name="Содержимое 3" descr="pt_042.bmp"/>
          <p:cNvPicPr/>
          <p:nvPr/>
        </p:nvPicPr>
        <p:blipFill>
          <a:blip r:embed="rId1"/>
          <a:stretch/>
        </p:blipFill>
        <p:spPr>
          <a:xfrm>
            <a:off x="457200" y="2057400"/>
            <a:ext cx="1771560" cy="19717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237" name="Прямоугольник 5"/>
          <p:cNvSpPr/>
          <p:nvPr/>
        </p:nvSpPr>
        <p:spPr>
          <a:xfrm>
            <a:off x="2666880" y="1523880"/>
            <a:ext cx="4572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РЕШКОВА Валентина Владимировна (р. 1937), российский космонавт. Летчик-космонавт СССР (1963), первая в мире женщина-космонавт, кандидат технических наук, полковник (1970), общественный деятель, Герой Советского Союза (1963). Полет на «Востоке-6» (июнь 1963). Председатель Комитета советских женщин (1968-87), вице-президент Международной демократической федерации женщин с 1969. С 1987-92 председатель Президиума Союза советских обществ дружбы и культурной связи с зарубежными странами. С 1994 руководитель Российского центра международного научного и культурного сотрудничест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Содержимое 4" descr="ps_040.bmp"/>
          <p:cNvPicPr/>
          <p:nvPr/>
        </p:nvPicPr>
        <p:blipFill>
          <a:blip r:embed="rId1"/>
          <a:stretch/>
        </p:blipFill>
        <p:spPr>
          <a:xfrm>
            <a:off x="609480" y="1600200"/>
            <a:ext cx="1771920" cy="19717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239" name="Прямоугольник 5"/>
          <p:cNvSpPr/>
          <p:nvPr/>
        </p:nvSpPr>
        <p:spPr>
          <a:xfrm>
            <a:off x="2743200" y="1720800"/>
            <a:ext cx="51814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АВИЦКАЯ Светлана Евгеньевна (р. 1948), российский космонавт, летчик-космонавт СССР, дважды Герой Советского Союза (1982, 1984), заслуженный мастер спорта (1970). Дочь Е. Я. Савицкого. В 60-70-е гг. чемпионка и рекордсменка мира по самолетному и парашютному спорту. Полет на «Союзе Т-5, Т-7» и орбитальной станции «Салют-7» (август 1982), «Союзе Т-12» и орбитальной станции «Салют-7» (июль 1984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590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4617b"/>
                </a:solidFill>
                <a:latin typeface="Calibri"/>
              </a:rPr>
              <a:t>Космический вернисаж (галактики)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41" name="Содержимое 3" descr="001AAA.JPG"/>
          <p:cNvPicPr/>
          <p:nvPr/>
        </p:nvPicPr>
        <p:blipFill>
          <a:blip r:embed="rId1"/>
          <a:stretch/>
        </p:blipFill>
        <p:spPr>
          <a:xfrm>
            <a:off x="457200" y="1828800"/>
            <a:ext cx="3719520" cy="27892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242" name="Рисунок 5" descr="Andromeda Galaxy.jpg"/>
          <p:cNvPicPr/>
          <p:nvPr/>
        </p:nvPicPr>
        <p:blipFill>
          <a:blip r:embed="rId2"/>
          <a:stretch/>
        </p:blipFill>
        <p:spPr>
          <a:xfrm>
            <a:off x="4495680" y="4267080"/>
            <a:ext cx="2776680" cy="2210040"/>
          </a:xfrm>
          <a:prstGeom prst="rect">
            <a:avLst/>
          </a:prstGeom>
          <a:ln w="0">
            <a:noFill/>
          </a:ln>
        </p:spPr>
      </p:pic>
      <p:pic>
        <p:nvPicPr>
          <p:cNvPr id="243" name="Рисунок 5" descr="0041.jpg"/>
          <p:cNvPicPr/>
          <p:nvPr/>
        </p:nvPicPr>
        <p:blipFill>
          <a:blip r:embed="rId3"/>
          <a:stretch/>
        </p:blipFill>
        <p:spPr>
          <a:xfrm>
            <a:off x="4876920" y="1676520"/>
            <a:ext cx="3120840" cy="234144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4617b"/>
                </a:solidFill>
                <a:latin typeface="Calibri"/>
              </a:rPr>
              <a:t>  </a:t>
            </a:r>
            <a:r>
              <a:rPr b="1" lang="ru-RU" sz="3200" spc="-1" strike="noStrike">
                <a:solidFill>
                  <a:srgbClr val="04617b"/>
                </a:solidFill>
                <a:latin typeface="Calibri"/>
              </a:rPr>
              <a:t>Планета Земля из космоса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45" name="Содержимое 3" descr="11.jpg"/>
          <p:cNvPicPr/>
          <p:nvPr/>
        </p:nvPicPr>
        <p:blipFill>
          <a:blip r:embed="rId1"/>
          <a:stretch/>
        </p:blipFill>
        <p:spPr>
          <a:xfrm>
            <a:off x="685800" y="2590920"/>
            <a:ext cx="1625760" cy="1625400"/>
          </a:xfrm>
          <a:prstGeom prst="rect">
            <a:avLst/>
          </a:prstGeom>
          <a:ln w="0">
            <a:noFill/>
          </a:ln>
        </p:spPr>
      </p:pic>
      <p:pic>
        <p:nvPicPr>
          <p:cNvPr id="246" name="Рисунок 4" descr="2.jpg"/>
          <p:cNvPicPr/>
          <p:nvPr/>
        </p:nvPicPr>
        <p:blipFill>
          <a:blip r:embed="rId2"/>
          <a:stretch/>
        </p:blipFill>
        <p:spPr>
          <a:xfrm>
            <a:off x="6858000" y="2590920"/>
            <a:ext cx="1676520" cy="1676160"/>
          </a:xfrm>
          <a:prstGeom prst="rect">
            <a:avLst/>
          </a:prstGeom>
          <a:ln w="0">
            <a:noFill/>
          </a:ln>
        </p:spPr>
      </p:pic>
      <p:pic>
        <p:nvPicPr>
          <p:cNvPr id="247" name="Рисунок 5" descr="04.jpg"/>
          <p:cNvPicPr/>
          <p:nvPr/>
        </p:nvPicPr>
        <p:blipFill>
          <a:blip r:embed="rId3"/>
          <a:stretch/>
        </p:blipFill>
        <p:spPr>
          <a:xfrm>
            <a:off x="3124080" y="3733920"/>
            <a:ext cx="3149640" cy="236196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  </a:t>
            </a:r>
            <a:r>
              <a:rPr b="1" lang="ru-RU" sz="3200" spc="-1" strike="noStrike">
                <a:solidFill>
                  <a:srgbClr val="04617b"/>
                </a:solidFill>
                <a:latin typeface="Calibri"/>
              </a:rPr>
              <a:t>Другие планеты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49" name="Содержимое 3" descr="~______1.JPG"/>
          <p:cNvPicPr/>
          <p:nvPr/>
        </p:nvPicPr>
        <p:blipFill>
          <a:blip r:embed="rId1"/>
          <a:stretch/>
        </p:blipFill>
        <p:spPr>
          <a:xfrm>
            <a:off x="1600200" y="2057400"/>
            <a:ext cx="2805120" cy="2103480"/>
          </a:xfrm>
          <a:prstGeom prst="rect">
            <a:avLst/>
          </a:prstGeom>
          <a:ln w="0">
            <a:noFill/>
          </a:ln>
        </p:spPr>
      </p:pic>
      <p:pic>
        <p:nvPicPr>
          <p:cNvPr id="250" name="Рисунок 4" descr="0004.jpg"/>
          <p:cNvPicPr/>
          <p:nvPr/>
        </p:nvPicPr>
        <p:blipFill>
          <a:blip r:embed="rId2"/>
          <a:stretch/>
        </p:blipFill>
        <p:spPr>
          <a:xfrm>
            <a:off x="5257800" y="1295280"/>
            <a:ext cx="3121200" cy="2341800"/>
          </a:xfrm>
          <a:prstGeom prst="rect">
            <a:avLst/>
          </a:prstGeom>
          <a:ln w="0">
            <a:noFill/>
          </a:ln>
        </p:spPr>
      </p:pic>
      <p:pic>
        <p:nvPicPr>
          <p:cNvPr id="251" name="Рисунок 5" descr="12.jpg"/>
          <p:cNvPicPr/>
          <p:nvPr/>
        </p:nvPicPr>
        <p:blipFill>
          <a:blip r:embed="rId3"/>
          <a:stretch/>
        </p:blipFill>
        <p:spPr>
          <a:xfrm>
            <a:off x="533520" y="457200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252" name="Рисунок 6" descr="035.jpg"/>
          <p:cNvPicPr/>
          <p:nvPr/>
        </p:nvPicPr>
        <p:blipFill>
          <a:blip r:embed="rId4"/>
          <a:stretch/>
        </p:blipFill>
        <p:spPr>
          <a:xfrm>
            <a:off x="2743200" y="4343400"/>
            <a:ext cx="3121200" cy="2341440"/>
          </a:xfrm>
          <a:prstGeom prst="rect">
            <a:avLst/>
          </a:prstGeom>
          <a:ln w="0">
            <a:noFill/>
          </a:ln>
        </p:spPr>
      </p:pic>
      <p:pic>
        <p:nvPicPr>
          <p:cNvPr id="253" name="Рисунок 7" descr="NEPTUNE.JPG"/>
          <p:cNvPicPr/>
          <p:nvPr/>
        </p:nvPicPr>
        <p:blipFill>
          <a:blip r:embed="rId5"/>
          <a:stretch/>
        </p:blipFill>
        <p:spPr>
          <a:xfrm>
            <a:off x="6324480" y="4038480"/>
            <a:ext cx="2152800" cy="215280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4617b"/>
                </a:solidFill>
                <a:latin typeface="Calibri"/>
              </a:rPr>
              <a:t>  </a:t>
            </a:r>
            <a:r>
              <a:rPr b="1" lang="ru-RU" sz="2800" spc="-1" strike="noStrike">
                <a:solidFill>
                  <a:srgbClr val="04617b"/>
                </a:solidFill>
                <a:latin typeface="Calibri"/>
              </a:rPr>
              <a:t>Главный конструктор космических кораблей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0" name="Содержимое 3" descr="pk_047.bmp"/>
          <p:cNvPicPr/>
          <p:nvPr/>
        </p:nvPicPr>
        <p:blipFill>
          <a:blip r:embed="rId1"/>
          <a:stretch/>
        </p:blipFill>
        <p:spPr>
          <a:xfrm>
            <a:off x="533520" y="1905120"/>
            <a:ext cx="1771560" cy="19717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201" name="Прямоугольник 4"/>
          <p:cNvSpPr/>
          <p:nvPr/>
        </p:nvSpPr>
        <p:spPr>
          <a:xfrm>
            <a:off x="2514600" y="1828800"/>
            <a:ext cx="43434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РОЛЕВ Сергей Павлович (1906/07-1966), российский ученый и конструктор, академик АН СССР (1958), дважды Герой Социалистического Труда (1956, 1961). Под руководством Королева созданы баллистические и геофизические ракеты, первые искусственные спутники Земли, спутники различного назначения («Электрон», «Молния-1», «Космос», «Зонд» и др.), космические корабли «Восток », «Восход », на которых впервые в истории совершены космический полет человека и выход человека в космо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Рисунок 4" descr="shatti.bmp"/>
          <p:cNvPicPr/>
          <p:nvPr/>
        </p:nvPicPr>
        <p:blipFill>
          <a:blip r:embed="rId2"/>
          <a:stretch/>
        </p:blipFill>
        <p:spPr>
          <a:xfrm>
            <a:off x="7086600" y="3657600"/>
            <a:ext cx="1771560" cy="19717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p:transition>
    <p:wheel spokes="8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  </a:t>
            </a:r>
            <a:r>
              <a:rPr b="1" lang="ru-RU" sz="3200" spc="-1" strike="noStrike">
                <a:solidFill>
                  <a:srgbClr val="04617b"/>
                </a:solidFill>
                <a:latin typeface="Calibri"/>
              </a:rPr>
              <a:t>Обрати внимание!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Ещё много интересного ты узнаешь, если прочитаешь книги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Ю.А.Гагарин «Дорога в космос»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Ю.Нагибин «Рассказы о Гагарине»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Л.Лебедев «Сыны голубой планеты»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В.И.Россошанский «Феномен Гагарина»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4" name="Содержимое 3" descr="006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229600" cy="2895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000"/>
            </a:br>
            <a:br>
              <a:rPr sz="5000"/>
            </a:br>
            <a:br>
              <a:rPr sz="5000"/>
            </a:br>
            <a:br>
              <a:rPr sz="5000"/>
            </a:b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Планета Земля</a:t>
            </a:r>
            <a:br>
              <a:rPr sz="5000"/>
            </a:b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 </a:t>
            </a:r>
            <a:br>
              <a:rPr sz="1800"/>
            </a:br>
            <a:br>
              <a:rPr sz="1800"/>
            </a:b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6" name="Содержимое 3" descr="00004.JPG"/>
          <p:cNvPicPr/>
          <p:nvPr/>
        </p:nvPicPr>
        <p:blipFill>
          <a:blip r:embed="rId1"/>
          <a:stretch/>
        </p:blipFill>
        <p:spPr>
          <a:xfrm>
            <a:off x="1646280" y="3733920"/>
            <a:ext cx="3454200" cy="2590560"/>
          </a:xfrm>
          <a:prstGeom prst="rect">
            <a:avLst/>
          </a:prstGeom>
          <a:ln w="0">
            <a:noFill/>
          </a:ln>
        </p:spPr>
      </p:pic>
      <p:sp>
        <p:nvSpPr>
          <p:cNvPr id="207" name="Прямоугольник 3"/>
          <p:cNvSpPr/>
          <p:nvPr/>
        </p:nvSpPr>
        <p:spPr>
          <a:xfrm>
            <a:off x="457200" y="1371600"/>
            <a:ext cx="8153280" cy="220968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« Облетев  Землю  в  корабле – спутнике,  я  увидел,  как  прекрасна  наша планета.  Люди,  будем  хранить  и  приумножать   эту  красоту,  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не  разрушать  её.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Ю. А. Гагар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Юрий Алексеевич Гагарин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9" name="Содержимое 3" descr="pg_004.bmp"/>
          <p:cNvPicPr/>
          <p:nvPr/>
        </p:nvPicPr>
        <p:blipFill>
          <a:blip r:embed="rId1"/>
          <a:stretch/>
        </p:blipFill>
        <p:spPr>
          <a:xfrm>
            <a:off x="2660760" y="2209680"/>
            <a:ext cx="2984400" cy="3321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p:transition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04920" y="144792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4617b"/>
                </a:solidFill>
                <a:latin typeface="Calibri"/>
              </a:rPr>
              <a:t>ГАГАРИН Юрий Алексеевич (1934-68), российский космонавт, летчик-космонавт СССР (1961), полковник, Герой Советского Союза (1961). 12 апреля 1961 впервые в истории человечества совершил полет в космос на космическом корабле «Восток». Участвовал в обучении и тренировке экипажей космонавтов. Погиб во время тренировочного полета на самолете. Имя Гагарина носят учебные заведения, улицы и площади многих городов мира и др. Именем Гагарина назван кратер на обратной стороне Луны.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1" name="Содержимое 3" descr="vostok1.bmp"/>
          <p:cNvPicPr/>
          <p:nvPr/>
        </p:nvPicPr>
        <p:blipFill>
          <a:blip r:embed="rId1"/>
          <a:stretch/>
        </p:blipFill>
        <p:spPr>
          <a:xfrm>
            <a:off x="4648320" y="4973760"/>
            <a:ext cx="2209680" cy="16491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212" name="Рисунок 4" descr="ГАГАРИН12.jpg"/>
          <p:cNvPicPr/>
          <p:nvPr/>
        </p:nvPicPr>
        <p:blipFill>
          <a:blip r:embed="rId2"/>
          <a:stretch/>
        </p:blipFill>
        <p:spPr>
          <a:xfrm>
            <a:off x="2209680" y="4800600"/>
            <a:ext cx="1295640" cy="19461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p:transition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1" lang="ru-RU" sz="3600" spc="-1" strike="noStrike">
                <a:solidFill>
                  <a:srgbClr val="04617b"/>
                </a:solidFill>
                <a:latin typeface="Calibri"/>
              </a:rPr>
              <a:t>Почему именно Юрий Гагарин?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Е. А. Карпов, первый начальник Центра подготовки космонавтов: «Для первого полёта нужен был человек, в характере которого переплетались бы как можно больше положительных качеств. И тут были приняты во внимание такие неоспоримые гагаринские достоинства: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Беззаветный патриотизм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Непреклонная вера в успех полёта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Отличное здоровье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Неистощимый оптимизм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Гибкость ума и любознательность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Смелость и решительность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Аккуратность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Трудолюбие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Выдержка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Простота и скромность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Большая человеческая теплота и внимание к окружающим людям»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4617b"/>
                </a:solidFill>
                <a:latin typeface="Calibri"/>
              </a:rPr>
              <a:t>Космический корабль «Восток»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6" name="Объект 3" descr=""/>
          <p:cNvPicPr/>
          <p:nvPr/>
        </p:nvPicPr>
        <p:blipFill>
          <a:blip r:embed="rId1"/>
          <a:stretch/>
        </p:blipFill>
        <p:spPr>
          <a:xfrm>
            <a:off x="2590920" y="2362320"/>
            <a:ext cx="3487680" cy="364464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1" lang="ru-RU" sz="3600" spc="-1" strike="noStrike">
                <a:solidFill>
                  <a:srgbClr val="04617b"/>
                </a:solidFill>
                <a:latin typeface="Calibri"/>
              </a:rPr>
              <a:t>В память о Ю. А. Гагарине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8" name="Объект 5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575400" cy="438948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Ярослав</cp:lastModifiedBy>
  <dcterms:modified xsi:type="dcterms:W3CDTF">2020-04-07T11:13:47Z</dcterms:modified>
  <cp:revision>19</cp:revision>
  <dc:subject/>
  <dc:title>12 апреля</dc:title>
</cp:coreProperties>
</file>