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6B7-1865-48E8-B3A1-A48941A7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1B4-846D-4242-902B-23B485BF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8FDC-A7A6-4289-A44D-8AD18739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5114-8BD9-46D1-B610-2E5D378A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A296-FF22-4329-9036-2461BCF9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49FC-4790-4323-9812-CFEA32BF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47DF-AFD3-4C99-88C2-DFA35736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BD7D-8DDE-40CE-89D7-E0892772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0FAA-4E9E-4250-8F90-5474FE6B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20CB-5AA2-43E3-BCF0-5EEA86F0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808F-FFAE-49F3-9994-BD98E8BE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5D8-53C1-427D-9FE0-44D65870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363F-B7EC-42F3-BC6E-CB262461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5A4B-0961-454A-9059-92557314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AF1C-91C1-40AD-8372-B32BAF41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280A-7226-4F55-AD6D-88182BBD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C8E7-55E6-4957-A422-76FDC859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AD14C-C527-4D4B-9D53-A6694D5E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11B97-A587-4308-B2A1-173CE7E5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24D62-317E-40ED-907B-163ACEA6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93021-4339-4D46-8E52-7A94E565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BF0A4-AF0E-4713-9718-14E41745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28B5-77D8-4B9F-983E-37A6416E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94B55-4D26-4942-B2D9-6FB8EFE8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89D6D-656A-4CBE-A428-865602C2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30688-B243-431F-9482-FE3FA0EB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C18BC-62E7-4339-9CBF-C936B996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6694F-DFA1-47DD-9305-ABA7AC3E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3D569-3DF6-4D3D-9D60-7DE41EC8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90D26-0893-44D1-8056-7B7DC5BF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20C8A-AE8F-474A-94D1-B810B8AC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AD314-1A11-428A-BCF6-AFAF5F03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B4BC5-31E0-4882-A5B3-6EE3B48F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809-0C06-4F20-983F-749E2832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5A715-E50B-4BEF-9BDA-2CC7136C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2F875-CDBB-4B82-A312-9526521A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65B72-0E4C-43E9-8725-3F563D7B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07EC4-B93D-49EF-8E37-3E45FF94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DBB57-6385-4B1A-BF37-BC9A1CB8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1E27C-7140-4FF4-8ABB-88CBE10D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E8144-5371-4558-A571-C544E58C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601F0-75D9-43BB-B16D-96C0B3BB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26003-2FC1-4663-A10A-8ED1BE97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DE1-0836-42F6-8A3D-7F681DB2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7480-747C-4F38-8A8F-33A22FD2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237B-19B2-4BD4-9D2B-69BEC7BC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32B-CC94-4B0F-8F43-DB526242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705-A6ED-4E70-BCB2-056FCE3D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5FA3-F841-4CF7-8319-74C09FE5335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8F78-01D9-4F2F-99EF-D7C89E099A1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6633-078F-4FA0-AC0A-A2BF96A888D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29C4-8C51-4E3C-8478-216EA37A674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дзаголовок 2"/>
          <p:cNvSpPr/>
          <p:nvPr/>
        </p:nvSpPr>
        <p:spPr>
          <a:xfrm>
            <a:off x="971640" y="1916280"/>
            <a:ext cx="7854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Дидактическая игра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«Летает, не летает»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920" y="1484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876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Times New Roman"/>
              </a:rPr>
              <a:t>Правила игры:</a:t>
            </a:r>
            <a:br>
              <a:rPr sz="4000"/>
            </a:br>
            <a:r>
              <a:rPr b="0" lang="en-US" sz="4000" spc="-1" strike="noStrike">
                <a:solidFill>
                  <a:srgbClr val="dbf5f9"/>
                </a:solidFill>
                <a:latin typeface="Times New Roman"/>
              </a:rPr>
              <a:t>Детям нужно из представленных животных, выбрать то, которое летает, если вы верно угадаете оно улетит.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3" descr="C:\Users\днс\Desktop\картинки\Без названия (5).jpg"/>
          <p:cNvPicPr/>
          <p:nvPr/>
        </p:nvPicPr>
        <p:blipFill>
          <a:blip r:embed="rId2"/>
          <a:stretch/>
        </p:blipFill>
        <p:spPr>
          <a:xfrm>
            <a:off x="1143000" y="2500200"/>
            <a:ext cx="3286080" cy="3643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Users\днс\Desktop\картинки\Без названия (2).jpg"/>
          <p:cNvPicPr/>
          <p:nvPr/>
        </p:nvPicPr>
        <p:blipFill>
          <a:blip r:embed="rId3"/>
          <a:stretch/>
        </p:blipFill>
        <p:spPr>
          <a:xfrm>
            <a:off x="6715080" y="3071880"/>
            <a:ext cx="1143000" cy="1809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68360" y="1916280"/>
            <a:ext cx="8229600" cy="4389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днс\Desktop\1533804921_bird-4.jpg"/>
          <p:cNvPicPr/>
          <p:nvPr/>
        </p:nvPicPr>
        <p:blipFill>
          <a:blip r:embed="rId5"/>
          <a:stretch/>
        </p:blipFill>
        <p:spPr>
          <a:xfrm>
            <a:off x="4356000" y="836640"/>
            <a:ext cx="9288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6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229600" cy="4389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Users\днс\Desktop\картинки\Без названия.jpg"/>
          <p:cNvPicPr/>
          <p:nvPr/>
        </p:nvPicPr>
        <p:blipFill>
          <a:blip r:embed="rId3"/>
          <a:stretch/>
        </p:blipFill>
        <p:spPr>
          <a:xfrm>
            <a:off x="179280" y="1052640"/>
            <a:ext cx="5362560" cy="4241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Users\днс\Desktop\картинки для игр\441-4417596_bird-png-.jpg"/>
          <p:cNvPicPr/>
          <p:nvPr/>
        </p:nvPicPr>
        <p:blipFill>
          <a:blip r:embed="rId4"/>
          <a:stretch/>
        </p:blipFill>
        <p:spPr>
          <a:xfrm>
            <a:off x="6429240" y="4000680"/>
            <a:ext cx="1143000" cy="981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C:\Users\днс\Desktop\картинки для игр\images (1).jpg"/>
          <p:cNvPicPr/>
          <p:nvPr/>
        </p:nvPicPr>
        <p:blipFill>
          <a:blip r:embed="rId5"/>
          <a:stretch/>
        </p:blipFill>
        <p:spPr>
          <a:xfrm>
            <a:off x="6539040" y="1268280"/>
            <a:ext cx="15508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32192E-006 L -0.00782 -0.81429 E">
                                      <p:cBhvr>
                                        <p:cTn id="32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68360" y="1988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C:\Users\днс\Desktop\картинки\Без названия (9).jpg"/>
          <p:cNvPicPr/>
          <p:nvPr/>
        </p:nvPicPr>
        <p:blipFill>
          <a:blip r:embed="rId3"/>
          <a:stretch/>
        </p:blipFill>
        <p:spPr>
          <a:xfrm>
            <a:off x="857160" y="1643040"/>
            <a:ext cx="1071720" cy="9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C:\Users\днс\Desktop\картинки\Без названия (4).jpg"/>
          <p:cNvPicPr/>
          <p:nvPr/>
        </p:nvPicPr>
        <p:blipFill>
          <a:blip r:embed="rId4"/>
          <a:stretch/>
        </p:blipFill>
        <p:spPr>
          <a:xfrm>
            <a:off x="5724360" y="549360"/>
            <a:ext cx="2708280" cy="5908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C:\Users\днс\Desktop\картинки\Без названия (3).jpg"/>
          <p:cNvPicPr/>
          <p:nvPr/>
        </p:nvPicPr>
        <p:blipFill>
          <a:blip r:embed="rId5"/>
          <a:stretch/>
        </p:blipFill>
        <p:spPr>
          <a:xfrm>
            <a:off x="2095560" y="3429000"/>
            <a:ext cx="24541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2 -0.09227 L 0.0092 -0.4253 E">
                                      <p:cBhvr>
                                        <p:cTn id="48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229600" cy="4389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C:\Users\днс\Desktop\картинки для игр\Без названия (1).jpg"/>
          <p:cNvPicPr/>
          <p:nvPr/>
        </p:nvPicPr>
        <p:blipFill>
          <a:blip r:embed="rId3"/>
          <a:stretch/>
        </p:blipFill>
        <p:spPr>
          <a:xfrm>
            <a:off x="1187280" y="3213000"/>
            <a:ext cx="1940040" cy="1741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Users\днс\Desktop\images.jpg"/>
          <p:cNvPicPr/>
          <p:nvPr/>
        </p:nvPicPr>
        <p:blipFill>
          <a:blip r:embed="rId4"/>
          <a:stretch/>
        </p:blipFill>
        <p:spPr>
          <a:xfrm>
            <a:off x="3564000" y="692280"/>
            <a:ext cx="1143000" cy="1224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Users\днс\Desktop\картинки для игр\images (2).jpg"/>
          <p:cNvPicPr/>
          <p:nvPr/>
        </p:nvPicPr>
        <p:blipFill>
          <a:blip r:embed="rId5"/>
          <a:stretch/>
        </p:blipFill>
        <p:spPr>
          <a:xfrm>
            <a:off x="4643280" y="3068640"/>
            <a:ext cx="37386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64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одзаголовок 2"/>
          <p:cNvSpPr/>
          <p:nvPr/>
        </p:nvSpPr>
        <p:spPr>
          <a:xfrm>
            <a:off x="684360" y="2349360"/>
            <a:ext cx="78548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f6fc6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4T07:05:34Z</dcterms:created>
  <dc:creator>днс</dc:creator>
  <dc:description/>
  <dc:language>en-US</dc:language>
  <cp:lastModifiedBy>user</cp:lastModifiedBy>
  <dcterms:modified xsi:type="dcterms:W3CDTF">2020-04-07T11:05:53Z</dcterms:modified>
  <cp:revision>12</cp:revision>
  <dc:subject/>
  <dc:title>Слайд 1</dc:title>
</cp:coreProperties>
</file>