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BAE-CB21-489B-8FEE-563720F7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460-8E40-4D8A-8925-ED6BC03C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094-E65D-422D-B329-A967D8B3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556-C7C7-4F0D-A46C-181B0E79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8949-16F9-4F58-AFAC-9D1AF96C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9837-6B7E-47A3-9FA1-E6323B35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A56A-4A4F-4A72-9ED3-72F993CA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C26F-913E-4642-8E1D-2957B548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ABD9-DD11-4BE1-8672-3FAA5CF3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8D9C-77FF-413A-9693-F4E197E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EA47-B0EF-4B16-98E5-764B931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F06-C9FD-4CBE-9A8C-1F0C79FA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4E3F-385D-4196-AD7A-782CFEE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F7A0-FFE2-43A3-9187-D8F57C94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7FDE-E14C-451A-8A73-2E81B730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3A35-22D9-4095-8467-F25EA99F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10F8-B5D5-4197-B2DE-DDC850A7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BA3D-861B-4FAB-99CA-CA462A9B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226C-70BC-41E0-B80E-F1A3E39A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EA82D-1AC8-4F68-A957-C32CF262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3EB0-A61E-49AF-A7C9-1B9C6CB6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BCEB-09DE-4487-937E-282B8839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6A7-A044-4B6F-8877-980750D6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50E2-271F-4CE5-9D05-7E752684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8543-8C31-4FA4-A287-90B3946D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5F55-B84F-4B55-9823-312DCD6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73F6-C253-495F-AC41-1148DEE9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44B4-E3F5-496A-A6EB-1738D17E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ACF0-C277-4B51-A44F-DA11B9E4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B7C4-734E-47EB-917E-18649996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ABB5-8F9D-48BF-A24C-92A25194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96BA-11F7-4C3B-B32F-EA6122A9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6D67-7D71-468C-A0A0-02CE78F7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77B-6AAA-4FDF-99B9-56FC61ED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8940-2C1C-43AB-AAF2-59B39C47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BD7F-3046-44C1-987B-237649D5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F3AE-E731-4EFD-8AF0-E8E4A1D5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AD67-3415-473F-8755-53BA37F0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E05C-147A-41C2-8924-B4FCFEA0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75CD-C683-4A1B-8564-E922F5DF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DC3F2-D81C-4762-84B6-BBF5A47E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A4EB-5438-4F9A-9DED-B0760A9F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4855-4505-490A-8F92-63C011A9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22B-F719-461D-BE2C-1D45A92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A46-6C2B-4801-8D53-EF7DF18D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F91-A2BA-443A-A8AB-5F725586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84D-C47C-433F-92F0-625FD09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F85-4499-45BA-9E8A-0D76310E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ABF3-F0A7-4AD9-93D7-5A5C740E09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4CEE-8032-4701-AED7-0F92157E0C0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D356-1138-43D2-97E6-EE2F603F0BF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9D5E-19D2-4104-9848-29FC08E885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дзаголовок 2"/>
          <p:cNvSpPr/>
          <p:nvPr/>
        </p:nvSpPr>
        <p:spPr>
          <a:xfrm>
            <a:off x="971640" y="1916280"/>
            <a:ext cx="7854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Дидактическая игра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«Летает, не летает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76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Times New Roman"/>
              </a:rPr>
              <a:t>Правила игры:</a:t>
            </a:r>
            <a:br>
              <a:rPr sz="4000"/>
            </a:br>
            <a:r>
              <a:rPr b="0" lang="en-US" sz="4000" spc="-1" strike="noStrike">
                <a:solidFill>
                  <a:srgbClr val="dbf5f9"/>
                </a:solidFill>
                <a:latin typeface="Times New Roman"/>
              </a:rPr>
              <a:t>Детям нужно из представленных животных, выбрать то, которое летает, если вы верно угадаете оно улетит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3" descr="C:\Users\днс\Desktop\картинки\Без названия (5).jpg"/>
          <p:cNvPicPr/>
          <p:nvPr/>
        </p:nvPicPr>
        <p:blipFill>
          <a:blip r:embed="rId2"/>
          <a:stretch/>
        </p:blipFill>
        <p:spPr>
          <a:xfrm>
            <a:off x="1143000" y="2500200"/>
            <a:ext cx="3286080" cy="3643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днс\Desktop\картинки\Без названия (2).jpg"/>
          <p:cNvPicPr/>
          <p:nvPr/>
        </p:nvPicPr>
        <p:blipFill>
          <a:blip r:embed="rId3"/>
          <a:stretch/>
        </p:blipFill>
        <p:spPr>
          <a:xfrm>
            <a:off x="6715080" y="3071880"/>
            <a:ext cx="1143000" cy="1809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днс\Desktop\1533804921_bird-4.jpg"/>
          <p:cNvPicPr/>
          <p:nvPr/>
        </p:nvPicPr>
        <p:blipFill>
          <a:blip r:embed="rId5"/>
          <a:stretch/>
        </p:blipFill>
        <p:spPr>
          <a:xfrm>
            <a:off x="4356000" y="836640"/>
            <a:ext cx="9288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днс\Desktop\картинки\Без названия.jpg"/>
          <p:cNvPicPr/>
          <p:nvPr/>
        </p:nvPicPr>
        <p:blipFill>
          <a:blip r:embed="rId3"/>
          <a:stretch/>
        </p:blipFill>
        <p:spPr>
          <a:xfrm>
            <a:off x="179280" y="1052640"/>
            <a:ext cx="5362560" cy="424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Users\днс\Desktop\картинки для игр\441-4417596_bird-png-.jpg"/>
          <p:cNvPicPr/>
          <p:nvPr/>
        </p:nvPicPr>
        <p:blipFill>
          <a:blip r:embed="rId4"/>
          <a:stretch/>
        </p:blipFill>
        <p:spPr>
          <a:xfrm>
            <a:off x="6429240" y="4000680"/>
            <a:ext cx="1143000" cy="981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Users\днс\Desktop\картинки для игр\images (1).jpg"/>
          <p:cNvPicPr/>
          <p:nvPr/>
        </p:nvPicPr>
        <p:blipFill>
          <a:blip r:embed="rId5"/>
          <a:stretch/>
        </p:blipFill>
        <p:spPr>
          <a:xfrm>
            <a:off x="6539040" y="1268280"/>
            <a:ext cx="15508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32192E-006 L -0.00782 -0.81429 E">
                                      <p:cBhvr>
                                        <p:cTn id="3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8360" y="1988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днс\Desktop\картинки\Без названия (9).jpg"/>
          <p:cNvPicPr/>
          <p:nvPr/>
        </p:nvPicPr>
        <p:blipFill>
          <a:blip r:embed="rId3"/>
          <a:stretch/>
        </p:blipFill>
        <p:spPr>
          <a:xfrm>
            <a:off x="857160" y="164304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днс\Desktop\картинки\Без названия (4).jpg"/>
          <p:cNvPicPr/>
          <p:nvPr/>
        </p:nvPicPr>
        <p:blipFill>
          <a:blip r:embed="rId4"/>
          <a:stretch/>
        </p:blipFill>
        <p:spPr>
          <a:xfrm>
            <a:off x="5724360" y="549360"/>
            <a:ext cx="2708280" cy="5908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:\Users\днс\Desktop\картинки\Без названия (3).jpg"/>
          <p:cNvPicPr/>
          <p:nvPr/>
        </p:nvPicPr>
        <p:blipFill>
          <a:blip r:embed="rId5"/>
          <a:stretch/>
        </p:blipFill>
        <p:spPr>
          <a:xfrm>
            <a:off x="2095560" y="3429000"/>
            <a:ext cx="24541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 -0.09227 L 0.0092 -0.4253 E">
                                      <p:cBhvr>
                                        <p:cTn id="4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Users\днс\Desktop\картинки для игр\Без названия (1).jpg"/>
          <p:cNvPicPr/>
          <p:nvPr/>
        </p:nvPicPr>
        <p:blipFill>
          <a:blip r:embed="rId3"/>
          <a:stretch/>
        </p:blipFill>
        <p:spPr>
          <a:xfrm>
            <a:off x="1187280" y="3213000"/>
            <a:ext cx="1940040" cy="1741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Users\днс\Desktop\images.jpg"/>
          <p:cNvPicPr/>
          <p:nvPr/>
        </p:nvPicPr>
        <p:blipFill>
          <a:blip r:embed="rId4"/>
          <a:stretch/>
        </p:blipFill>
        <p:spPr>
          <a:xfrm>
            <a:off x="3564000" y="692280"/>
            <a:ext cx="114300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Users\днс\Desktop\картинки для игр\images (2).jpg"/>
          <p:cNvPicPr/>
          <p:nvPr/>
        </p:nvPicPr>
        <p:blipFill>
          <a:blip r:embed="rId5"/>
          <a:stretch/>
        </p:blipFill>
        <p:spPr>
          <a:xfrm>
            <a:off x="4643280" y="3068640"/>
            <a:ext cx="37386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одзаголовок 2"/>
          <p:cNvSpPr/>
          <p:nvPr/>
        </p:nvSpPr>
        <p:spPr>
          <a:xfrm>
            <a:off x="684360" y="2349360"/>
            <a:ext cx="7854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f6fc6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7:05:34Z</dcterms:created>
  <dc:creator>днс</dc:creator>
  <dc:description/>
  <dc:language>en-US</dc:language>
  <cp:lastModifiedBy>user</cp:lastModifiedBy>
  <dcterms:modified xsi:type="dcterms:W3CDTF">2020-04-07T11:05:53Z</dcterms:modified>
  <cp:revision>12</cp:revision>
  <dc:subject/>
  <dc:title>Слайд 1</dc:title>
</cp:coreProperties>
</file>