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084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4AD0-BBF8-48C6-991D-32389A9AF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3434-205D-466F-8DDC-335E923F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781E-B0A5-4FF9-A6BA-2FBEF2A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F3AB-33DC-4E50-A4DC-D628805260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68E0E-8849-4C0D-AB0C-16B4EB47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F4989-432E-4B14-B150-1C6BF91D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BDA42-1A74-4E33-9AE3-B23DBC3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23FE9-0183-482E-85F5-717C508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A93DC-3C70-4342-9F5B-6CDF78BC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C3966-1181-4859-BB5A-0B43A074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18843-46D1-490E-B05A-11DACF8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7A39-0622-4ADE-BEB6-A86525E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C92A-373C-4C88-9178-F8F8C471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A6D28-09D2-4A79-823C-A3C65930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B8A16-9BDD-4134-B4C8-A1929DB1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FFFCC-DC27-45C2-AC1E-9E09033B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7204B-AA01-41B3-83FD-FD6E2B7A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772F2-68AE-4C42-801E-00E08998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C294B-AEEF-4D30-A782-4F72156C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2A016-AAFA-4C7D-8848-BF3ACF1E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76DBD-48BF-473D-86BE-992A3A9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07C65-EF08-4F68-9D30-4E54DAFA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53C4-952F-47D3-B616-37F6403A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579A5-EC80-418C-B35C-8C3B54E4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9AB83-FB5A-4914-9CAC-EB38376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CE1E3-0F14-4EB5-8779-B5800FD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06A5D-7256-40EE-AE61-20F63DB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A0A40-2855-49C3-8F6A-0C0F6E1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1B271-417E-4CB8-AFAD-93EA233D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417A6-A0D3-46FF-86B5-F2317D9B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B2F9-416F-436A-858E-4B2A4E1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227E-23E3-407A-916C-ED907B52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689C-1128-4593-B696-EC9A7D83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0189-4CA3-4084-BA5F-B3AF49C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73CC-023B-40C2-94F8-6332B854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D2FB-70A1-45D1-8DC1-9798D06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B9E74D-3448-42BF-BAF7-38C8A541989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6960" y="6246360"/>
            <a:ext cx="28875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19C63C-5C02-422A-BF11-D93BDDD371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6960" y="6246360"/>
            <a:ext cx="28875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50022E-2525-4EF4-A8E5-39B104BB8A0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-163440" y="0"/>
            <a:ext cx="9307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42960" y="271440"/>
            <a:ext cx="76438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ервоуральское муниципальное автономное дошкольное образовательное учреждение «Детский сад № 36 «Смайлик»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етодика проведения физкультурных      занятий для детей дошкольного возрас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готовила Свешникова Н.С.                                                                    инструктор по физической культуре                                                          высшая квалификационная категория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.о. Первоуральск 2018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rcRect l="0" t="0" r="15010" b="9991"/>
          <a:stretch/>
        </p:blipFill>
        <p:spPr>
          <a:xfrm>
            <a:off x="2857680" y="2357280"/>
            <a:ext cx="3836880" cy="25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-163440" y="-1440"/>
            <a:ext cx="93074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"/>
          <p:cNvSpPr/>
          <p:nvPr/>
        </p:nvSpPr>
        <p:spPr>
          <a:xfrm>
            <a:off x="792000" y="287280"/>
            <a:ext cx="756000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пособы организации детей на занят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92000" y="863640"/>
            <a:ext cx="7560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онтальный способ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 Все дети одновременно выполняют одно и то же упражнение или делают одновременно разные движени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Поточный способ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Дети поточно друг за другом (с небольшим интервалом), передвигаются, выполняя заданное упражнени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Групповой способ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 Дети по указанию инструктора распределяются  на группы, каждая группа получает определенное задание и выполняет его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Индивидуальный способ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 Применяется при объяснении нового программного материала, когда на примере одного ребенка (наиболее подготовленного) дается показ и объяснение задани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На одном занятии можно чередовать способы организации дете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-163440" y="-71280"/>
            <a:ext cx="9307440" cy="6929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"/>
          <p:cNvSpPr/>
          <p:nvPr/>
        </p:nvSpPr>
        <p:spPr>
          <a:xfrm>
            <a:off x="431640" y="71280"/>
            <a:ext cx="7920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ФОРМЫ ПРОВЕДЕНИЯ ФИЗКУЛЬТУРНЫХ ЗАНЯТИ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31640" y="431640"/>
          <a:ext cx="8137800" cy="6161400"/>
        </p:xfrm>
        <a:graphic>
          <a:graphicData uri="http://schemas.openxmlformats.org/drawingml/2006/table">
            <a:tbl>
              <a:tblPr/>
              <a:tblGrid>
                <a:gridCol w="395280"/>
                <a:gridCol w="1951200"/>
                <a:gridCol w="2278080"/>
                <a:gridCol w="3513240"/>
              </a:tblGrid>
              <a:tr h="609840">
                <a:tc>
                  <a:txBody>
                    <a:bodyPr lIns="90000" rIns="90000" tIns="26244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Формы заня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дачи зан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Особенности построения зан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Традиционный ти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Ознакомление с новым программным материа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Обучение спортивным играм и упражнениям, знакомство с правилами, содержанием, техникой различных видов движ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2624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Смешанного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азучивание новых и совершенствование освоенных ране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Организация дифференцированного обучения с учетом здоровья детей, двигательной активности, уровня освоения двигательных навы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90000" rIns="90000" tIns="26244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Вариативного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Формирование двигательного вообра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 знакомом материале, но с включением усложненных вариантов двигательных зада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тренировоч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развитие двигательных и функциональных возможностей дет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Включает большое количество циклических, музыкально-ритмических движений, элементы акробатики, дифференцированные двигательные задания на развитие быстроты реакции, ловкости и выносливо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-165240" y="0"/>
            <a:ext cx="9307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360360" y="216000"/>
          <a:ext cx="8210520" cy="6499080"/>
        </p:xfrm>
        <a:graphic>
          <a:graphicData uri="http://schemas.openxmlformats.org/drawingml/2006/table">
            <a:tbl>
              <a:tblPr/>
              <a:tblGrid>
                <a:gridCol w="398520"/>
                <a:gridCol w="1968480"/>
                <a:gridCol w="2382840"/>
                <a:gridCol w="3460680"/>
              </a:tblGrid>
              <a:tr h="10792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Игровое зан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формирование двигательного воображ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Построено на основе разнообразных подвижных игр, игр-эстафет, игр-аттракцион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00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Сюжетно-игровое зан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формирование двигательного опыта ребенка, приобретение ЗУНов из окружающего мира (включать задачи по развитию речи, ориентировки в окружающем, обучению счету и др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содержит целостную сюжетно-игровую ситуацию, отражающую в условной форме окружающий мир ребенка. Состоит из разнообразных имитационных движений и упражнений обще развивающего воздействия («Цирк», «Спортсмены», «Зоопарк», «Рыбаки»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097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с использованием тренажеров и спортивных комплек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приобретение определенных двигательных умений и навыков, на обучение самостоятельного пользования тренажерами, овладение приемами страхов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включает разнообразные упражнения: висы, лазание по гимнастической стенке, канату, шесту, веревочной лестнице, упражнения с эспандерами, гантелями, на дисках здоровья, на велотренажерах, бегущих дорожках и т.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-165240" y="-1440"/>
            <a:ext cx="9307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426960" y="174600"/>
          <a:ext cx="8210520" cy="6419880"/>
        </p:xfrm>
        <a:graphic>
          <a:graphicData uri="http://schemas.openxmlformats.org/drawingml/2006/table">
            <a:tbl>
              <a:tblPr/>
              <a:tblGrid>
                <a:gridCol w="398520"/>
                <a:gridCol w="1968480"/>
                <a:gridCol w="2298600"/>
                <a:gridCol w="3544920"/>
              </a:tblGrid>
              <a:tr h="18939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я ритмической гимнастик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развитие и совершенствование музыкально-эстетических чувств, развитие эмоциональной сферы ребе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Проводится под музыкальное сопровождение с включением разных видов ходьбы, бега, прыжков, танцевальных движений. Разучивание движений на этих занятиях не проводится. Материал должен быть знаком детя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04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по интерес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развитие двигательных способностей, формирование индивидуальности, развитие творчества, инициативности и самостоятельности в выборе рода занятий в физкультурно-предметной сред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Детям предоставляется возможность самостоятельного выбора движений с предлагаемыми пособиями. Зал разбит на зоны, где расположены разные физкультурные пособия. Воспитатель предлагает по желанию выбрать любую зону и выполнить произвольные движения с пособиями. Через определенное время дети меняются зона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Тематическое зан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освоение хорошего качества выполнения одного вида физкультурного упражн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Посвящено одному виду физкультурного упражнения: лыжам, элементам игры в теннис, в баскетбол и др. Отрабатывается физическое упражнение, умение пользоваться оборудование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-163440" y="0"/>
            <a:ext cx="93074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324000" y="260280"/>
          <a:ext cx="8319960" cy="5956200"/>
        </p:xfrm>
        <a:graphic>
          <a:graphicData uri="http://schemas.openxmlformats.org/drawingml/2006/table">
            <a:tbl>
              <a:tblPr/>
              <a:tblGrid>
                <a:gridCol w="473040"/>
                <a:gridCol w="2028600"/>
                <a:gridCol w="2289240"/>
                <a:gridCol w="3529080"/>
              </a:tblGrid>
              <a:tr h="3916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«Туриз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закрепление двигательных навыков и умений, полученных ранее с использованием пособий в природном окруж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асстояние, которое дети проходят во время похода – от 1,5 до 3 км, время непрерывного движения - от 15 до 25 минут, длительность промежуточного привала - 5-10 мин., большой привал, на котором организуются игры,  соревнования и отдых перед обратной дорогой - 30-40 минут. Отправляясь в мини-поход с некоторыми его атрибутами (рюкзак, фляжка   с водой), первую часть пути и после привала дети проходят несколько медленнее. Впереди идут менее подготовленные дети, в конце колонны — физически более крепкие, чтобы колонна не растягивалас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58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376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Контрольно-проверочное зан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выявление количественных и качественных результатов в основных видах движений и в развитии физических каче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080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Участвуют воспитатели и методист. Составляются «Протоколы оценки физических качеств и двигательной подготовленности детей» с учетом коэффициента двигательного развития каждого ребенка. Проводится 2 раза в год. Можно проводить в виде соревнований или спартакиа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-165240" y="-1440"/>
            <a:ext cx="9307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727200" y="409680"/>
          <a:ext cx="7554960" cy="5965560"/>
        </p:xfrm>
        <a:graphic>
          <a:graphicData uri="http://schemas.openxmlformats.org/drawingml/2006/table">
            <a:tbl>
              <a:tblPr/>
              <a:tblGrid>
                <a:gridCol w="366480"/>
                <a:gridCol w="1811520"/>
                <a:gridCol w="2114640"/>
                <a:gridCol w="3262320"/>
              </a:tblGrid>
              <a:tr h="29829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564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«Забочусь о своем здоровь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99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приобщение к ценностям здорового образа жизни, получение представления о своем теле и своих физических возможност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99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Обучение приемам расслабления, аутотренингу, самомассажу, проведению закаливающих и гигиенических процедур, оказанию медицинской помощ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564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-сорев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99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Направлено на развитие инициативности, самовыражения, уверенности в своих силах, опирающиеся на разнообразный моторный опы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996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Две команды в ходе различных эстафет выявляют победител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-165240" y="-1440"/>
            <a:ext cx="9307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571680" y="357120"/>
          <a:ext cx="8072280" cy="5929560"/>
        </p:xfrm>
        <a:graphic>
          <a:graphicData uri="http://schemas.openxmlformats.org/drawingml/2006/table">
            <a:tbl>
              <a:tblPr/>
              <a:tblGrid>
                <a:gridCol w="392040"/>
                <a:gridCol w="1933560"/>
                <a:gridCol w="2260440"/>
                <a:gridCol w="3486240"/>
              </a:tblGrid>
              <a:tr h="5929560">
                <a:tc>
                  <a:txBody>
                    <a:bodyPr lIns="90000" rIns="90000" tIns="16992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564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комплексного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нятие по типу круговой трениров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9960" bIns="46800" anchor="t">
                      <a:noAutofit/>
                    </a:bodyPr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Синтезирование разных видов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Сохранение и укрепление здоровья детей, улучшение их двигательного статуса с учётом индивидуальных возможностей и способност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Совершенствование физических качеств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20520" indent="-11160" algn="just">
                        <a:lnSpc>
                          <a:spcPct val="84000"/>
                        </a:lnSpc>
                        <a:tabLst>
                          <a:tab algn="l" pos="0"/>
                          <a:tab algn="l" pos="20520"/>
                          <a:tab algn="l" pos="468360"/>
                          <a:tab algn="l" pos="917640"/>
                          <a:tab algn="l" pos="1366920"/>
                          <a:tab algn="l" pos="1816200"/>
                          <a:tab algn="l" pos="2265480"/>
                          <a:tab algn="l" pos="2714760"/>
                          <a:tab algn="l" pos="3164040"/>
                          <a:tab algn="l" pos="3613320"/>
                          <a:tab algn="l" pos="4062240"/>
                          <a:tab algn="l" pos="4511520"/>
                          <a:tab algn="l" pos="4960800"/>
                          <a:tab algn="l" pos="5410080"/>
                          <a:tab algn="l" pos="5859360"/>
                          <a:tab algn="l" pos="6308640"/>
                          <a:tab algn="l" pos="6757920"/>
                          <a:tab algn="l" pos="7207200"/>
                          <a:tab algn="l" pos="7656480"/>
                          <a:tab algn="l" pos="8105760"/>
                          <a:tab algn="l" pos="8555040"/>
                          <a:tab algn="l" pos="90043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Закрепление двигательных умений и навы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19960" bIns="46800" anchor="t">
                      <a:noAutofit/>
                    </a:bodyPr>
                    <a:p>
                      <a:pPr algn="just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Проводится в форме игровых упражнений, с включением задач из разных разделов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Последовательное выполнение упражнений в процессе прохождения «станций», расположенных по круг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Использование хорошо освоенных упражн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Последовательное включение в работу различных мышечных груп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Регламентация работы и отдыха на каждой «станци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Индивидуализация тренировочной нагруз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84000"/>
                        </a:lnSpc>
                        <a:buClr>
                          <a:srgbClr val="000000"/>
                        </a:buClr>
                        <a:buFont typeface="Wingdings" charset="2"/>
                        <a:buChar char="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Систематическое и постепенное повышение тренировочных требова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-165240" y="-1440"/>
            <a:ext cx="93078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"/>
          <p:cNvSpPr/>
          <p:nvPr/>
        </p:nvSpPr>
        <p:spPr>
          <a:xfrm>
            <a:off x="396720" y="287280"/>
            <a:ext cx="802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Варианты проведения нетрадиционных физкультурных заняти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47640" y="647640"/>
            <a:ext cx="755964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Развивающие занятия по программе «Театр физического воспитания»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представляют собой ситуационную мини игру, в которой дети вступают в этап ролевой, «подражательной» или имитационной игры, выступая то в роли животных, то в роли птиц, кукол или сказочных герое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Занятия с элементами стретчинг - гимнастик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, включают в себя комплекс поз, обеспечивающих наилучшие условия для растягивания определенных групп мышц, снятие в них напряжения, повышения физической работоспособнос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Совместные физкультурные занятия родителей с деть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 – способствую развитию межличностного общения ребенка с взрослым, помогают родителям и детям ощутить радость от совместной двигательной деятельнос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Занятия основанные на гендерных особенностях детей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имеют два вид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4200" indent="-214200" algn="just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Первый вид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 - это совместные занятия для мальчиков и девочек, где в зависимости от пола имеются различия в подборе упражнений, оборудования, дозировке и т. д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4200" indent="-214200" algn="just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Второй вид -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раздельные занятия.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У девочек они, построены на танцевальном материале и музыкально - ритмических движениях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4200" indent="-214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У мальчиков же преобладают  тренировочные занятия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-163440" y="0"/>
            <a:ext cx="93074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"/>
          <p:cNvSpPr/>
          <p:nvPr/>
        </p:nvSpPr>
        <p:spPr>
          <a:xfrm>
            <a:off x="731880" y="343080"/>
            <a:ext cx="755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Роль воспитателя на физкультурном занят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52320" y="647640"/>
            <a:ext cx="762804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07720" algn="just">
              <a:lnSpc>
                <a:spcPct val="100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0960" indent="-207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питатель младшей группы выполняет всё с самого начала занятия: с входом в зал, построения детей в шеренгу и до его окончания: выход из зала спокойным шаг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0960" indent="-207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могает физинструктору в перестроении детей, следит за исходным положением и качеством движений во время выполнения общеразвивающих упражнений  и  в основных видах движений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0960" indent="-207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лает по необходимости замечания детям или поощряет и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0960" indent="-207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ремя подвижных игр следит за детьми, чтобы они правильно передавали игровой образ, не нарушали установленные правил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0960" indent="-207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Участвует в оказании индивидуальной помощи детям по необходимос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0960" indent="-207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Занимается со второй подгруппой (выполняют освоенные движения для их закрепления или в усложнённых условиях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0960" indent="-207720" algn="just">
              <a:lnSpc>
                <a:spcPct val="100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-92160" y="0"/>
            <a:ext cx="93074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"/>
          <p:cNvSpPr/>
          <p:nvPr/>
        </p:nvSpPr>
        <p:spPr>
          <a:xfrm>
            <a:off x="792000" y="503280"/>
            <a:ext cx="7415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808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Роль воспитателя на физкультурном занят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Выполняет раздачу и сбор предметов и атрибутов в ОРУ, помогает расставлять инвентарь для ОВД и убрать его после выполнения детьми упражнени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ролирует физическую нагрузку детей по внешним признакам утомлени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спечивает безопасность детей в процессе занятий физическими упражнения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Следит за соблюдением правил игры, за дисциплиной, за безопасностью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Обеспечивает страховку, чтобы не допустить травматизм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Контролирует поведение дете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ahoma"/>
              </a:rPr>
              <a:t>Оказывает детям первую медицинскую помощь при несчастных случаях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8080"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0" y="-54000"/>
            <a:ext cx="9450360" cy="6962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852480" y="363600"/>
            <a:ext cx="76438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Детский возраст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это время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395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нсивного формирования и развития функций и систем организма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395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крытие способностей, становление личности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агоприятный период для положительного воздействия на развитие детей физической культурой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ой из основных форм двигательной деятельности в ДОУ являются физкультурные занятия или НОД (непосредственно образовательная деятельность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культурные занятия в каждом возрастном периоде имеют свою направленнос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младшей групп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нятия должны доставлять удовольствие; дети учатся ориентироваться в пространстве, правильно работать с оборудованием, учатся приемам элементарной страховк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реднем возраст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развивают физические качества (прежде всего выносливость и силу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тарших группа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формируют потребность в движении, развивают двигательные способности, самостоятельность и т.д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-165240" y="-1440"/>
            <a:ext cx="93078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"/>
          <p:cNvSpPr/>
          <p:nvPr/>
        </p:nvSpPr>
        <p:spPr>
          <a:xfrm>
            <a:off x="792000" y="216000"/>
            <a:ext cx="7780680" cy="63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Используемая литератур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1. Степаненкова Э.Я. Теория и методика физического воспитания и развития ребенка: Учеб. пособие для студ. высш. учеб. заведений /  — 2-е изд., испр. — М.: Издательский центр «Академия», 2006.—368с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2.  Кенеман А.В., Хухлаева Д.В. Теория и методика физического воспитания детей дошкольного возраста. – М.: Просвещение, 1985-271 с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Осокина Т.И. Физическая культура в детском саду. – М.: Просвещение, 1986. – 304 с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Холодов Ж.К. и др. Теория и методика физического воспитания. – М., 2000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Хухлаева Д.В. Методика физического воспитания в дошкольных учреждениях. – М.: Просвещение, 1984. – 207 с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Шебеко В.Н. и др. Методика физического воспитания в дошкольных учреждениях. – Мн., 1998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ahoma"/>
              </a:rPr>
              <a:t>7.  Шебеко В.Н. и др. Физическое воспитание дошкольников. – М.: Издательский центр "Академия", 2000. – 176 с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-165240" y="-1440"/>
            <a:ext cx="93078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792000" y="287280"/>
            <a:ext cx="756000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едагогические и методические принцип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836640"/>
            <a:ext cx="7559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всесторон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 интегрируется как принцип преимущественной направленности на общую физическую подготовку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сознательности и актив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 характеризует отношение занимающихся к  процессу занятий.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циклич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 требует  четкого определения задач, средств и методов для каждого этапа  обучения  и развития детей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повтор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 заключается не только в повторении отдельных упражнений, но и в повторном применении  различных средств    и этапов подготов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постепен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 требует дифференцирования и последовательного усложнения задач физического воспитания в полугодовом и годовом периодах. 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нагляд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 при  обучении двигательным действиям учитывает преобладание зрительномоторных координаций.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 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доступности и индивидуализаци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заключается в том, что из групп, сходных по структуре, выделяют действие, представляющее собой основу техники данной группы движений.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0960" indent="-2109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инцип прикладност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ahoma"/>
              </a:rPr>
              <a:t>предполагает применение всех изученных упражнений и игр в реализации самостоятельной двигательной активност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-163440" y="0"/>
            <a:ext cx="93074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287280"/>
            <a:ext cx="7632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Verdana"/>
              </a:rPr>
              <a:t>Оздоровительные задач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аправлены на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храну и укрепление здоровья детей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лучшение их физического развития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ункциональное совершенствование и повышение работоспособности организма ребенка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каливание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ершенствование координации движений дошкольников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тие и укрепление опорно-двигательного аппарата, сердечно-сосудистой, дыхательной систем детского организм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Verdana"/>
              </a:rPr>
              <a:t>Образовательные задач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едусматриваю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у детей двигательных умений и навыков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витие физических качеств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учение элементарных знаний о своем организме и роли физических упражнений в его жизнедеятельности, способах укрепления собственного здоровь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Verdana"/>
              </a:rPr>
              <a:t>Воспитательные задач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аправлены на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ностороннее развитие детей (умственное, нравственное, эстетическое)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е у них интереса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требности к систематическим занятиям физическими упражнения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-165240" y="-1440"/>
            <a:ext cx="93078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"/>
          <p:cNvSpPr/>
          <p:nvPr/>
        </p:nvSpPr>
        <p:spPr>
          <a:xfrm>
            <a:off x="720720" y="324000"/>
            <a:ext cx="755964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7308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Arial Unicode MS"/>
              </a:rPr>
              <a:t>Структура организации образовательного процесс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Продолжительность непосредственно образовательной деятельности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ля детей 4-го года жизни - не более 15 мину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ля детей 5-го года жизни - не более 20 мину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ля детей 6-го года жизни - не более 25 мину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ля детей 7-о года жизни - не более 30 минут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Занятия по физической культуре для детей в возрасте от 3 до 7 лет организуются не менее 3 раз в неделю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 раза в зале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ля детей 5-7 лет один раз в неделю круглогодично  на открытом воздухе. Проводятся только при отсутствии у детей медицинских противопоказаний и наличии у детей спортивной одежды, соответствующей погодным условиям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7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для детей 3-5 лет ДД проводится один раз на прогулке  на основе подвижных игр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1440" y="-68400"/>
            <a:ext cx="9571320" cy="7051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1871640" y="-144360"/>
            <a:ext cx="60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труктура физкультурного занятия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008000" y="720720"/>
            <a:ext cx="74804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культурное занятие состоит из трех часте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Первая часть - вводная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правлена на улучшение эмоционального состояния, активацию внимания и подготовку детского организма к физическим нагрузкам основной части. В ней используются строевые упражнения, ходьба и бег, упражнения на внимание, упражнения на формирование стопы и осанки, танцевальные движения, подскоки, могут быть упражнения в равновесии, завершается перестроением на выполнение комплекс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Длительность части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няя группа     2 – 3 мин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ршая группа    4 – 5 мин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готовительная группа  4 – 5 ми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ладшая группа   1,5 – 2 мин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-88920" y="-71280"/>
            <a:ext cx="9522000" cy="7016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863640" y="431640"/>
            <a:ext cx="74883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Вторая часть основная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самая большая по объему и значимости), включающая в себя тренировку разных групп мышц, совершенствование всех физиологических функций организма детей. Состоит из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щеразвивающих упражнен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щеразвивающие упражнения это упражнения направленные на все группы мышц, порядок выполнения сверху вниз, учитывается возраст ребенка, индивидуальные особенности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новных видов движен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это движения в виде ползания, лазания, упражнений на пресс, упражнений на равновесия, метания и т. д.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вижной игры высокой активнос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Длительность этой части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ладшая группа: ОРУ  3-5 мин, ОВД  2-3 мин, игра 2–3ми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няя группа:  ОРУ 5-6 мин, ОВД 4-5 мин, игра 3-4 ми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ршая группа:  ОРУ  6-7 мин, ОВД 5–6 мин, игра 5–6 ми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готовительная группа: ОРУ 6–7мин, ОВД 6-7мин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гра 6–7 ми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-165240" y="0"/>
            <a:ext cx="93078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792000" y="287280"/>
            <a:ext cx="7632720" cy="62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Последняя часть занятия это заключительная часть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 ходе которой выравнивается функциональное состояние организма дете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 ней используютс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рекционные и дыхательные упражнения, направленные на снижение двигательной активности, восстановление дыхания;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одьба в спокойном темпе;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а малой подвижности;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ведение итогов занятия;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вой самомассаж;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на расслабле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Verdana"/>
              </a:rPr>
              <a:t>Длительность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адшая группа — 2 ми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няя группа — 3 ми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ршая группа 3 — 4 ми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ительная группа 3 - 4 ми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6640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-163440" y="-3240"/>
            <a:ext cx="93074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792000" y="317520"/>
            <a:ext cx="7488360" cy="61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Verdana"/>
              </a:rPr>
              <a:t>Наглядные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наглядно – зрительные приемы (показ техники выполнения физических упражнений, использование наглядных пособий и физкультурного оборудования, зрительные ориентиры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тактильно – мышечные приемы (непосредственная помощь инструктора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Verdana"/>
              </a:rPr>
              <a:t>Словесные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бъяснения, пояснения, указани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подача команд, распоряжений, сигнал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опросы к детям и поиск ответ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бразный сюжетный рассказ, бесед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словесная инструкци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слушание музыкальных произведений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Verdana"/>
              </a:rPr>
              <a:t>Практические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ыполнение и повторение упражнений без изменения и с изменениям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ыполнение упражнений в игровой форме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ыполнение упражнений в соревновательной форме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самостоятельное выполнение упражнений на детском спортивном оборудовании в свободной игр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09:25:00Z</dcterms:created>
  <dc:creator>Анастасия Николаевна</dc:creator>
  <dc:description/>
  <cp:keywords/>
  <dc:language>en-US</dc:language>
  <cp:lastModifiedBy>Acer</cp:lastModifiedBy>
  <dcterms:modified xsi:type="dcterms:W3CDTF">2020-04-07T18:16:13Z</dcterms:modified>
  <cp:revision>50</cp:revision>
  <dc:subject/>
  <dc:title>Слайд 1</dc:title>
</cp:coreProperties>
</file>