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9DE-1E09-4074-A174-AC42C290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552-930F-40B9-9981-783F456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8E9A0-82C0-4078-932B-152BBDC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5327A-7D79-4320-9A30-D43E6B45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61F72-CE0E-4080-A2B1-B16FA8F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CDCB8-0337-4089-A9EC-3CB24F3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AD83-9F63-47AD-AC34-1BDA91B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1EE9-9322-4E0E-BB42-16D0CC9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9C54C-B22F-4BF5-9E4B-8ABD3C2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C2AB4-D9DA-4617-808A-49839FC6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151A-31CB-47E3-BAFF-7EEC191C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891-4C74-4EFC-9635-15B1ACB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16C-00CE-4425-ADD4-A3535AB4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D08-E1DE-4A2C-9775-2A5A8D0D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E51-0D80-42EB-B6DD-54BB7CF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BF2-096E-4EF6-988C-7947964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2CB-A6EF-428D-AA49-478FBBF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964-BA95-47AA-BFE9-A8686FA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CF34-8D41-4EC3-8D4C-9F079F4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C58E-B8E2-44E4-B5A8-6EB2825F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C9B-DCEC-404C-B547-E566BB5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09C-1201-4EE1-A02B-0DDB20C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1CCE-EC4B-4E78-9323-EB1B54D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413-1231-4649-8EE5-926BAE55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BD2A-07C9-4552-959C-A17579A2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CFC7-1A0E-4B6A-AC1C-125B448C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9E00-4434-4702-97C3-76CEF1E7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2E88-9EEF-4985-AE6C-9E13969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DF63-0F8C-4BC7-939C-5E2BB44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1D75-3EF5-448E-BD5A-CCA46A9E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C36C-095D-4A24-B216-AC8B214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32D-D4CD-4EA9-BB59-C2C1157E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E8B2-037F-415C-9548-C2A3BBA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F267-DF9C-4245-83D7-8F0EDC5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CAAB-A4A2-41B0-A153-8EC81C0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23F9-1B8D-4E9A-8431-4625287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F5E0-C996-436E-978E-0341C70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076A-E2DC-4254-B4CE-18DDDACC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0C0C-7338-4A99-AD48-C4E02EAC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4AA9-A360-4DFF-B2CB-B1B86876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54035-62CB-478C-9FB2-8CC90C9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B5C0-AC97-4C5E-A38A-54D852B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240-B3C1-44BB-910D-D22A30E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1968-8A2D-4026-968D-FF3985B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05D6-D6AB-4BBD-8F9F-6A20211F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2A67-17FC-4147-846D-B7422A53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5AB2-DC2D-44D7-AD67-A529F43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73E7-6F1A-47B5-9F66-764F2B5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AF7A-4EA3-4E52-B546-57A7E5A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7317-9727-4CE3-91AC-F2C900B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7FD0-7E79-4836-BAA1-0C74EA17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0E81-88E5-407C-985D-1F3B5D1D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819C-29CB-480F-A75D-A7235763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8DB-3E48-46A0-B3AA-AB3C0A0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8340-E475-467B-9DFA-721A4AFB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0A9B-5FF8-4BAB-BCED-129C1F5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30E2-219C-463A-A208-E2E5E8C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A839-F800-4014-8D27-7DDA028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4246-1AF6-4631-803B-BF798F58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A99C-8E1F-4229-861F-E3F8FB2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5659A-F0F9-42E9-B8AA-31F4C935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8921-66F5-4FBB-AD50-94A4856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1A26D-76C9-427A-9AC2-C0180CA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FC21-B0C0-4689-BD60-2271D125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EFB-18A1-4D84-89C9-609938B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83C9-6779-45FA-A948-FB2636AB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48EA-52BB-4C42-BDF4-DD1F5B98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8C62-5F74-49B9-BF29-7CF960D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429E-576D-48B5-83BC-DEBEF09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FE50-5696-4FE2-8E61-AAE5BC2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5A2A-5031-4623-8B9D-BB8795A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F74B0-7CD1-40BC-A656-436DC99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633F-A743-41FD-BFB5-CEB59F12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13E0-9219-472E-A66D-9231B17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1F33-D27F-4D4A-B9D5-3A2EA36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FC7-DBDF-44DE-B94E-8F94D24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860B-0A27-4F3F-A6CB-1D3EE6CE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D698-2A7A-4EE9-A80D-30B98FEB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557AA-6C45-4136-B331-116C8B18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F9A72-B9A3-4073-B660-2ACF4318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DCD6-A674-411A-A8BC-664E2830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DB27-91A7-4824-9CDA-C711DB9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3F55-0F7E-4F83-8994-27695D7F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2E2B2-5FF2-453D-AF39-707E66B0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83B6-E36D-4BFD-81F5-429F6A5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018A-FC5E-4F75-AEE7-0B2180C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8E3-0991-46D1-80A3-091E3DD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4A8A-21D7-4D72-A8B7-03AAC6C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9C31-A8E3-4755-8B05-606C67F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32777-9AF2-47BD-BA18-DC5E645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E8D1-F2E7-4D6B-9E23-0680CD5F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D1B5F-4FE8-4A55-9F72-5C29BA5C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19AA6-F45A-4884-BE2F-2A7B92DE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CDB31-51F2-40D7-99E9-99B6BAEB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ED2B-BF91-471F-B95A-7370C6F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A956-242A-4B88-BF0D-F40EBD64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1D10-780E-44F3-88C9-C6738B88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2BF-276A-411E-9791-6C37C10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C4D8-250B-4413-B748-46D9DC35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F44E6-33BF-41BC-9309-9A60F40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12E4-2639-4983-87D1-B7B7F6C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70A38-FD5E-4AC6-B941-666F43C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F440-719A-4E9F-B097-FCE84E2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8EB0-459F-4D48-9E33-C971129F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CA92-3686-4021-9197-5D004B71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1CAFA-C111-4F20-BD61-90853EE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A273-A227-4F39-9992-02887CA7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2A118-EADE-4AA3-8473-52857B1D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689040" y="1042920"/>
            <a:ext cx="11508840" cy="17640"/>
            <a:chOff x="689040" y="1042920"/>
            <a:chExt cx="11508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91920" y="104292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4D6F-A79E-4338-AA18-83CF74504584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43D-A7EB-493D-9BA0-F74A246504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689040" y="1042920"/>
            <a:ext cx="11508840" cy="17640"/>
            <a:chOff x="689040" y="1042920"/>
            <a:chExt cx="11508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91920" y="104292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689040" y="1054080"/>
            <a:ext cx="11508840" cy="19080"/>
            <a:chOff x="689040" y="1054080"/>
            <a:chExt cx="11508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91920" y="1054080"/>
              <a:ext cx="115059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90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689040" y="5346720"/>
            <a:ext cx="11508840" cy="17280"/>
            <a:chOff x="689040" y="5346720"/>
            <a:chExt cx="11508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5346720"/>
              <a:ext cx="1150596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90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07F-E86F-4346-AE24-0F54A67BB31E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4B9-011B-4C72-A6FB-884E9A4F0A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689040" y="1042920"/>
            <a:ext cx="11508840" cy="17640"/>
            <a:chOff x="689040" y="1042920"/>
            <a:chExt cx="11508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91920" y="104292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689040" y="1042920"/>
            <a:ext cx="11508840" cy="17640"/>
            <a:chOff x="689040" y="1042920"/>
            <a:chExt cx="11508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91920" y="104292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689040" y="1054080"/>
            <a:ext cx="11508840" cy="19080"/>
            <a:chOff x="689040" y="1054080"/>
            <a:chExt cx="11508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91920" y="1054080"/>
              <a:ext cx="115059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90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415E-2449-45A1-9834-6EEE48BCB6F3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4B6-D2E0-4DB6-9117-1FFD44B0B3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689040" y="3438360"/>
            <a:ext cx="11508840" cy="17640"/>
            <a:chOff x="689040" y="3438360"/>
            <a:chExt cx="11508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343836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890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C31-6C71-4840-B424-7A49947DD938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7FB-FD69-4358-8928-165D00BF3F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689040" y="6016680"/>
            <a:ext cx="11508840" cy="19080"/>
            <a:chOff x="689040" y="6016680"/>
            <a:chExt cx="11508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6016680"/>
              <a:ext cx="115059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90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9C0-8ED6-4469-B5CD-26F21532AA8A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970-D2EE-4E30-AC7E-9541E96A39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E39-C04D-4A8A-8BBF-9A8B8BA00DD6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F3F2-8176-4721-82A8-E76506DEB2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689040" y="5846760"/>
            <a:ext cx="11508840" cy="17640"/>
            <a:chOff x="689040" y="5846760"/>
            <a:chExt cx="11508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5846760"/>
              <a:ext cx="115059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90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7E62-0E0C-421E-83DE-0832BFB2FAC4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268-E632-4D06-B345-33F6622CDC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96AD-0863-466F-8166-5EE0D56ED90B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368-864C-491B-A5E5-87E2842650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06A-067A-495C-8C66-400A2F191E1F}" type="datetime3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282-CF2D-40C3-BCE1-1973CC4700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316080" y="200160"/>
            <a:ext cx="11618640" cy="54561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3692520" y="6107040"/>
            <a:ext cx="80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а воспитатель МКДОУ ЦРР детский сад № 18   Тищенко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"/>
          <p:cNvSpPr/>
          <p:nvPr/>
        </p:nvSpPr>
        <p:spPr>
          <a:xfrm>
            <a:off x="6602400" y="58680"/>
            <a:ext cx="5319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рова — очень полезное для человека животное. Мясо, молоко, сметана, творог, масло — всё это даёт нам корова. У коровы есть рога, при помощи которых она защищается, почувствовав опасность. У коровы также есть вымя, из которого выцеживают молоко. В день корова даёт нам 25 литров молока, это почти три больших ведра! Молоко очень полезно для здоровья: в нём содержится очень много витаминов. Коровы общаются друг с другом при помощи мычания, они безошибочно находят дорогу домой. Летом коровы питаются сочной травой, а зимой с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ров на ферме много, то они все живут в коровнике. В нём коровы спят, а зимой спасаются от морозов и вьюг. Коровники — это большие тёплые сараи с толстыми стенами, полами и потолками. В них всегда горит свет. В коровнике у каждой коровы своя отдельная «комнатка». Здесь есть поилка для воды и кормушка для корма. Летом коров выводят на луга (пастбища), где они едят свежую тра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234120" cy="68403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6424560" y="49320"/>
            <a:ext cx="565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дь — очень выносливое животное. В древности лошадь использовали на войне: её запрягали в боевые колесницы. У лошади сильные ноги с крепкими копытами. На копыта надеваются прочные железные подковы. Это необходимо для того, чтобы лошадь не стёрла ноги. Лошади перевозят различные тяжести, они помогают человеку передвигаться, особенно в распутицу, там, где не пройдёт машина или автоб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ди дают нам мясо, молоко, из которого готовят вкусный и целебный напиток кумыс — его называют напитком богаты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ди живут в специальных помещениях— конюшнях. Это длинный деревянный сарай, разделённый с двух сторон на маленькие комнатки — загоны, в которых живут лошади со своими детьми — жеребятами. В конюшнях им тепло, светло и без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лошадь ценят не только за ту огромную пользу, которую она приносит человеку. Это ещё и красивое, грациозное животное с очень добрым характером. Недаром про лошадь написано много стихов и пе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32952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3"/>
          <p:cNvSpPr/>
          <p:nvPr/>
        </p:nvSpPr>
        <p:spPr>
          <a:xfrm>
            <a:off x="6411960" y="285840"/>
            <a:ext cx="5665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за — очень полезное для человека животное. Козы дают нам целебное молоко, которое излечивает многие болезни, мясо, шерсть и пух. Едят козы практически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козы есть маленькие рожки и крохотные аккуратные копытца. Козы живут в маленьких загончиках вместе со своими детьми — козля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зы любят объедать кору деревьев и молодые листочки, поэтому, выпуская пастись, их привязывают на длинную верёвку к колышку, так, чтобы они не попортили плодовые дере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42456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6578640" y="225360"/>
            <a:ext cx="5486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инья даёт нам мясо, сало, кожу, из которой делают обувь, перчатки и сумки. Это очень полезное животное, и ему посвящено множество сказок, рассказов и пословиц. Свиньи едят практически всё: фрукты, ягоды, жёлуди, остатки пищи. У свиньи толстое туловище и короткие ноги. Так же как и у лошадей, есть копытца, только они маленькие. У свиньи есть клыки, которые высовываются наружу. Тело у свиней покрыто мелкой колючей щет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иньи живут в маленьких загончиках, которые называются хлевом, или в больших помещениях, называющихся свинарниками. Там свиньи живут со своими детьми — порося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оло свинарников обычно устраивают специальные огороженные прогулочные площадки, куда свиней выпускают погулять даже зимой. Летом свиньи пасутся на пастбище, а в жару отдыхают под навесами в тени. Зимой свиней кормят морковью, картофелем, свёк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950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6008760" y="58680"/>
            <a:ext cx="6116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ротяжении многих веков собака является другом человека, дольше, чем любое другое домашнее животное. Сотни тысяч лет назад, когда ещё бродили по земле огромные мохнатые мамонты и люди жили в пещерах, собаки впервые подружились с человеком. И до сих пор собака — наш самый верный друг. Собаки защищают хозяина от врагов, служат на границе, работают спасателями. Есть даже собаки–поводыри, которые помогают передвигаться слепым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 очень много пород собак. Все породы при–способлены к выполнению различных видов деятельности. В настоящее время насчитывается несколько тысяч пород. Одни из них охраняют скот (пастушьи собаки), другие помогают в охоте (охотничьи собаки), третьи вместе с милиционерами ловят преступников и разыскивают опасные вещества и предметы (служебные собаки), а есть собаки, которые так и остались чисто домашними животными. Такие собаки называются декор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бака может жить в доме человека со своими детьми — щенками. Или в специально построенном для неё домике — кон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583092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"/>
          <p:cNvSpPr/>
          <p:nvPr/>
        </p:nvSpPr>
        <p:spPr>
          <a:xfrm>
            <a:off x="5925960" y="82440"/>
            <a:ext cx="615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гда большинство людей говорят «кошка», они представляют себе небольшого домашнего зверька. Однако львы, тигры и пантеры тоже относятся к семейству кошачь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верное, ты не раз замечал, что при выключенном свете кошка отлично ориентируется в пространстве. Ко–шачий зрачок может сильно менять размеры: чем сильнее освещение, тем он уже, а в темноте он широкий и круглый. Зрение у кошки в шесть раз острее зрения её хозя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шка передвигается и подкрадывается абсолютно бесшумно благодаря мягким подушечкам на лапах. В этих подушечках скрываются острые коготки, которые кошка может выпускать и царапаться ими, если её разозлить или обижать её детенышей — к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ы, расположенные у кошки по обе стороны носа и над бровями, чрезвычайно важны для ощущения окружающего пространства. При помощи усов кошка каким–то непонятным образом узнаёт о предмете то, о чём ей не могут сказать глаза, уши и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шка издаёт разнообразные звуки: мяукает, мурлыкает, визжит и во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dc:language>en-US</dc:language>
  <cp:lastModifiedBy>Странник</cp:lastModifiedBy>
  <dcterms:modified xsi:type="dcterms:W3CDTF">2020-04-07T20:29:53Z</dcterms:modified>
  <cp:revision>15</cp:revision>
  <dc:subject/>
  <dc:title>Record a Presentation</dc:title>
</cp:coreProperties>
</file>