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7B2-C76B-4A77-BADF-02093A62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159-F068-41CA-9961-7AC5759C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3C5-767E-49CE-91A7-0DCC8D20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0F1-2C2B-4F4B-9BB9-BE523C06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FE73-1485-40F6-B313-1AE16C45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9A05-C14C-486D-AACA-4D6E236B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16CF-2261-450A-8A07-041896C4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38A4-40F4-44B8-96DA-A8DE5196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DE47-650B-42F4-93AF-E3D97824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2FC5-794B-4D96-8F7F-2A287D37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DF13-D42B-45D8-BBB1-AC92713C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763-211D-4809-BC1D-26CC27FC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5BA8-DF24-4213-9E9D-39119CEE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573E-79FC-4094-8660-FBFA7291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A25E-2D34-412E-8A95-13D8D5A9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B009-8A28-4FC0-A104-2C63FB83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C60E-D508-48F7-AB5A-CD9A2AED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5E193-71A0-49DE-B10E-B6DBAC5F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074D-6959-4809-9E6D-20C9F569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FC261-2BC0-4FE6-8461-42BFF5D9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2C655-0FA3-4517-9471-B13C6F54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72333-D016-4ACD-96FC-33DB866B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61B-63CC-4ACA-A174-4DCD05C5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4B22-A75A-4413-9260-4F12B655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AD7B8-9E00-4953-A8F0-67D85F22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00478-1000-4A3A-95DC-89289A36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A6557-6F23-432D-96F1-804D206B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95F9D-316F-4A6E-9491-FBFDA5D9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1A7F9-27F8-45B3-BFB4-0EFD8A31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195FC-FF3C-4074-BCD3-A368B2AF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6931E-3A65-4FED-94BE-0A43072B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34607-228B-484F-9C0F-66036ED9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20F42-1479-4BBD-89CE-7F08F25D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16C-6688-4440-8D96-051699D2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EE4D5-98E5-4180-AEA9-88BB5288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1E15E-B809-4452-9019-20A81A34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6B054-C9C1-495C-971A-52842CDE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BB163-1491-419F-870C-AE61FF0F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18922-4BBE-43E7-8393-D9055FD7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65BBC-DD19-4E8C-B2B1-633AC4B9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0C3A6-A8BE-4ECE-8C55-7B48CD49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008CC-B801-4377-A0D4-32BB0E7D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53A6C-F928-465B-96A4-9D90B223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6CF1F-81BC-4916-98AD-BAA61BD2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4599-2C85-4BA3-9A06-398D7B2A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676BE-8B3D-4F76-A082-C05C1A6F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C0FD7-F40F-4F64-8425-5534603D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454CE-AE1A-41CD-AA08-531CE920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2B0A5-0A01-4B13-B197-5981839B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15922-8F4E-41A4-8907-902E1509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C51D2-D6E1-444E-B5C2-F853A9D1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51297-23B8-4534-A8FA-D6B1BCE5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50312-9534-4FC2-BE3A-3A5D8A1E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27C0E-AA1B-4342-9454-DF7EE1A6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82677-22FB-45D9-AEF7-5FBE7AAE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5A7-7DAE-435E-87F0-A68FB495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E5590-3CD0-4924-AE46-123866F6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6D060-5B00-4B1E-9D9D-4BD41CCD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CEEB3-4B44-4815-BF35-B1116CDD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ED282-FCB0-4F99-9A18-B8B8E0FC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CE4A6-1C7A-4688-AA52-0A1C64F3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B90C0-B627-4339-A0E4-49601754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A9CD2-820C-4319-9ADF-515A00AE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9A127-5FE2-448B-B7DF-A59E99D0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2B0A4-1B6C-4FB7-9199-25AA47F4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98C56-2A17-4743-9F57-C1BB4745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127-6B4D-4E59-A9DF-AB7ACC7B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4B1FE-C539-49DB-A4E7-6FA9E41B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63725-A223-4092-B684-3AF9D32C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E12C0-F2E8-487E-9371-3EF17A82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25297-CE76-48B4-AE0B-2DA0863B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9A78F-CECA-4536-BB55-A6A00445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41B5F-5E0F-4B4C-B0BC-C4D6B688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D52BD-71F3-494B-AEE8-64D59F80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9B908-F3C6-45C0-A7EF-3B12C5D9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2965D-55A6-4C79-A0B5-AC81A2F9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EF9A0-33F8-466B-A87D-4DD0BA45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49A0-2351-48F0-ADA8-29DBB9AF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85D4E-88F4-4FC7-A871-8577743F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0AE5E-340E-470C-ADDF-9A62E709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32208-A40B-4120-BBED-7F083E00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022AA-2711-486E-BF86-80F46EC7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80DCE-0887-494F-B9D0-04C33BB8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2AA70-13C0-47E8-8F53-87DCD5F6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22440-7411-496E-8991-98927072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AA89F-ED33-4AC8-8B15-78CE1C02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96CFD-93FA-4888-8C6E-F7E8748D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81065-498F-4FA6-AB4C-7EE6D4C9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3355-B4B5-48D8-BA07-2B0D9435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5FFA6-EA48-4F2C-A4EB-E9EA78C4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A6E4D-1E64-41E1-ADCE-03516391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CD760-382D-4E21-AC76-E57840AE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781A5-5452-4929-80D5-3A81DCBB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E3BD7-632B-47F4-97B9-0CB1A4FD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742BD-092F-4F4F-89AA-021476A6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FE560-1AE4-4536-B5EA-CDDF4BC7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C489-F01F-401D-A294-AEE2FBC90C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F9A4-4D5E-47CD-ABA5-3F6A483DF84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13CC-B806-40C8-9BD5-55D2C2ECA1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4917-D96C-4F0B-9A95-0D3C0ED17F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0A8E-B426-4B47-9F67-4BC135011B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80A6-1863-4CD9-B537-4D7BEA6D48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3781-E087-4ACE-B115-A4127DA30F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2A2C-7CE7-4509-99F4-7CBE7E4E25C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317520" y="755640"/>
            <a:ext cx="7504200" cy="3048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56610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C:\Users\Любаша\Desktop\slide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23493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изменение положения тела в пространстве с течением времени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8" name="Овал 3" descr=""/>
          <p:cNvPicPr/>
          <p:nvPr/>
        </p:nvPicPr>
        <p:blipFill>
          <a:blip r:embed="rId2"/>
          <a:stretch/>
        </p:blipFill>
        <p:spPr>
          <a:xfrm>
            <a:off x="2816280" y="2968560"/>
            <a:ext cx="3303360" cy="1938240"/>
          </a:xfrm>
          <a:prstGeom prst="rect">
            <a:avLst/>
          </a:prstGeom>
          <a:ln w="0">
            <a:noFill/>
          </a:ln>
        </p:spPr>
      </p:pic>
      <p:sp>
        <p:nvSpPr>
          <p:cNvPr id="379" name="Овал 5"/>
          <p:cNvSpPr/>
          <p:nvPr/>
        </p:nvSpPr>
        <p:spPr>
          <a:xfrm>
            <a:off x="468360" y="1268280"/>
            <a:ext cx="3095640" cy="1513080"/>
          </a:xfrm>
          <a:prstGeom prst="ellipse">
            <a:avLst/>
          </a:prstGeom>
          <a:noFill/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тело отсчет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Овал 6"/>
          <p:cNvSpPr/>
          <p:nvPr/>
        </p:nvSpPr>
        <p:spPr>
          <a:xfrm>
            <a:off x="5219640" y="1268280"/>
            <a:ext cx="3600360" cy="1513080"/>
          </a:xfrm>
          <a:prstGeom prst="ellipse">
            <a:avLst/>
          </a:prstGeom>
          <a:noFill/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система координат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Овал 7"/>
          <p:cNvSpPr/>
          <p:nvPr/>
        </p:nvSpPr>
        <p:spPr>
          <a:xfrm>
            <a:off x="2771640" y="5373720"/>
            <a:ext cx="3313080" cy="1224000"/>
          </a:xfrm>
          <a:prstGeom prst="ellipse">
            <a:avLst/>
          </a:prstGeom>
          <a:noFill/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часы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82" name="Прямая со стрелкой 16"/>
          <p:cNvCxnSpPr/>
          <p:nvPr/>
        </p:nvCxnSpPr>
        <p:spPr>
          <a:xfrm flipH="1">
            <a:off x="5723640" y="2852640"/>
            <a:ext cx="36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3" name="Прямая со стрелкой 18"/>
          <p:cNvCxnSpPr/>
          <p:nvPr/>
        </p:nvCxnSpPr>
        <p:spPr>
          <a:xfrm>
            <a:off x="2916360" y="2852280"/>
            <a:ext cx="2880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4" name="Прямая со стрелкой 20"/>
          <p:cNvCxnSpPr/>
          <p:nvPr/>
        </p:nvCxnSpPr>
        <p:spPr>
          <a:xfrm flipV="1">
            <a:off x="4427280" y="50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52804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C:\Users\Любаша\Desktop\564518_5.png"/>
          <p:cNvPicPr/>
          <p:nvPr/>
        </p:nvPicPr>
        <p:blipFill>
          <a:blip r:embed="rId2"/>
          <a:stretch/>
        </p:blipFill>
        <p:spPr>
          <a:xfrm>
            <a:off x="324000" y="1341360"/>
            <a:ext cx="8496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Users\Любаша\Desktop\original.jpg"/>
          <p:cNvPicPr/>
          <p:nvPr/>
        </p:nvPicPr>
        <p:blipFill>
          <a:blip r:embed="rId2"/>
          <a:stretch/>
        </p:blipFill>
        <p:spPr>
          <a:xfrm>
            <a:off x="468360" y="1268280"/>
            <a:ext cx="8351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качественное       количественно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391" name="Прямая со стрелкой 4"/>
          <p:cNvCxnSpPr/>
          <p:nvPr/>
        </p:nvCxnSpPr>
        <p:spPr>
          <a:xfrm flipH="1">
            <a:off x="1834560" y="1341000"/>
            <a:ext cx="86580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Прямая со стрелкой 6"/>
          <p:cNvCxnSpPr/>
          <p:nvPr/>
        </p:nvCxnSpPr>
        <p:spPr>
          <a:xfrm>
            <a:off x="6372360" y="1267920"/>
            <a:ext cx="72144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444680"/>
            <a:ext cx="404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вводится для точного описания движения материальной точк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Picture 4" descr="C:\Users\Любаша\Desktop\risunok11.jpg"/>
          <p:cNvPicPr/>
          <p:nvPr/>
        </p:nvPicPr>
        <p:blipFill>
          <a:blip r:embed="rId2"/>
          <a:stretch/>
        </p:blipFill>
        <p:spPr>
          <a:xfrm>
            <a:off x="4645080" y="1687680"/>
            <a:ext cx="4041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- скорость;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- ускорение;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- траектория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Траектория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оображаемая линия в пространстве, по которой движется материальная точк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6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96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5T18:41:26Z</dcterms:created>
  <dc:creator>Любаша</dc:creator>
  <dc:description/>
  <dc:language>en-US</dc:language>
  <cp:lastModifiedBy>Любаша</cp:lastModifiedBy>
  <dcterms:modified xsi:type="dcterms:W3CDTF">2020-04-05T19:24:37Z</dcterms:modified>
  <cp:revision>5</cp:revision>
  <dc:subject/>
  <dc:title>ДВИЖЕНИЕ КАК ПЕРЕМЕЩЕНИЕ</dc:title>
</cp:coreProperties>
</file>