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F56-97C1-462E-A262-4551161C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65A-90FE-4261-B5E9-B5EC21ED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EE4-2F03-44C8-82D1-8B95C4ED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620-32E1-41A3-9E39-43455A7E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56A8-7063-4033-8E9E-3146AC60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D252-384C-4AD4-A6AE-ED3D074A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E238-259C-41CB-AD29-25DC6027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3DF1-69FA-4DDD-B933-0EF645EF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363D-D407-40A3-8CD7-A5B26D20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754D-E1A6-46AC-9CE4-E4CC294D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0C7D-585E-4461-B4B2-15DD653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88F-4EAC-4A0E-9108-32FECED0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2F66-6B28-4DCC-AB67-C499D9D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550A-14D4-4A63-9E4B-215B52B9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785-9D7C-4FAA-8532-F801B31A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7EEF-D0C6-4233-9A02-0C26CD1C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D716-E492-4043-BC0E-1EA16BE7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3268-A6F6-47DF-B5FA-CC679277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8CD1A-060B-416F-A96F-BED858EA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64C9-D149-4F6E-AF47-ED4C7A41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DF6C-4472-49EC-A6F9-629E094B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0654-34CA-4711-B30F-705BC3E5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127-AACF-439A-8AE0-7CDA103F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3A0E-6282-4796-8E08-03E34F76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182C0-666C-468C-BF24-5FE5B98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663F-AFF7-42ED-88B0-41A82CB2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5AFB-B3A4-472E-816C-A340C2AB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D800-2C74-4E76-AEDE-D24100D1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6CA4-81C1-4259-A466-78E7CB7E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595B-E999-4576-9A4D-B27152A1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849BF-61F9-4659-A0BD-68AF655B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8F76E-D915-4961-8FA3-8748BE10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C5DC-691C-46E6-86B8-F40CB1AA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9D4-BCFA-4313-B84E-2376501C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C5B2B-596F-41F9-8D68-A5A2D226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4ECF-7410-44AE-A568-AB483749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8719E-090E-466F-A94E-EB7ED5FD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0F58-DBE4-4E7C-BFCC-8DE6391A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BC11-90A5-4A87-9FF0-46884D2F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E024-BCCA-4EF7-9B81-A255FCCA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D77B-302B-49CE-B7D9-5F778EB9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5A882-974D-4472-8C12-B261A67B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A0933-E031-4249-A12C-8B8EE663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A3C-3B9E-4D34-BE7A-DA8B60DB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1C4-BB65-407D-A96B-D9684065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50D-3325-4FAF-8F68-06DAC97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77E-22FD-46A5-AAC1-F55171D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D4E-4419-4CF6-A41F-0B8F6A91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FE76-9E84-45AE-91A3-298F478ED68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CBF6-5CD2-4633-8303-502FF745A71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384D-C280-44A7-910B-285FBC3C6F3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381B-D6A9-4FDF-9309-5C210FB3987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15640" y="3068640"/>
            <a:ext cx="698508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Bookman Old Style"/>
              </a:rPr>
              <a:t>ТЕМА: ИНВАЛИДНОСТЬ КАК СОЦИАЛЬНО-ПСИХОЛОГИЧЕСКОЕ ЯВЛЕНИЕ В ОБЩЕСТВ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828720" y="549360"/>
            <a:ext cx="7175520" cy="179208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3"/>
          <p:cNvSpPr/>
          <p:nvPr/>
        </p:nvSpPr>
        <p:spPr>
          <a:xfrm>
            <a:off x="0" y="0"/>
            <a:ext cx="889308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инистерство образования и молодежной политики 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осударственное автономное образовательное учре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«Ревдинский многопрофильный техник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Видео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ля студентов 2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пециа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«Право и организация социального обеспечения», группа 213-ПС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ДК 01.02 Психология социально-правов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0" y="3828960"/>
            <a:ext cx="914400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акова Ольга Александ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ПОУ СО «Ревдинский многопрофильный 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.04.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hape 59" descr=""/>
          <p:cNvPicPr/>
          <p:nvPr/>
        </p:nvPicPr>
        <p:blipFill>
          <a:blip r:embed="rId1"/>
          <a:srcRect l="0" t="0" r="0" b="3325"/>
          <a:stretch/>
        </p:blipFill>
        <p:spPr>
          <a:xfrm>
            <a:off x="1441440" y="0"/>
            <a:ext cx="601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9280" y="259920"/>
            <a:ext cx="82803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Четыре основных типа приспособления человека с ограниченными возможностями к ситуации инвалидност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296640" y="170028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ктивно-позитивная 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1843560" y="256536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ассивно-негативная 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3189600" y="34290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ассивно-позитивная 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4135680" y="443700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ктивно-негативная 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341440" y="5357880"/>
            <a:ext cx="67597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054160" y="4937040"/>
            <a:ext cx="6778800" cy="1500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143000" y="731520"/>
            <a:ext cx="7750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8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04040"/>
                </a:solidFill>
                <a:latin typeface="Trebuchet MS"/>
              </a:rPr>
              <a:t>Вопросы для семинара (видеоконференция)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БОТЫ ОРГАНОВ СОЦИАЛЬНОЙ ЗАЩИТЫ НАСЕЛЕНИЯ ПО ОБСЛУЖИВАНИЮ ИНВАЛИДОВ И ЛИЦ ПОЖИЛОГО ВОЗРАСТ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чень социальных услуг, предоставляемых в соответствии с действующим законодательств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Виды Учреждений  социального обслуживания Свердловской области и их краткая характери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Проблемы  лиц, имеющих ограничения здоровья в обществе, исходя из уровня заболеваемости и степени инвалид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4360" y="1341360"/>
            <a:ext cx="75326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 algn="ct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План учебного занят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Рассмотреть понятия «инвалидность» и «инвалид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. Представить характеристику описания социальных и психологических проблем инвалидов и лиц с ограниченными возможностями здоровь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. Изучить особенности психологического состояния  личности инвалидов и лиц с ограниченными возможностями здоровь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835280" y="501012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250560" y="-360"/>
            <a:ext cx="8677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Bookman Old Style"/>
                <a:ea typeface="Times New Roman"/>
              </a:rPr>
              <a:t>Инвалид</a:t>
            </a:r>
            <a:r>
              <a:rPr b="0" lang="ru-RU" sz="2800" spc="-1" strike="noStrike">
                <a:solidFill>
                  <a:srgbClr val="404040"/>
                </a:solidFill>
                <a:latin typeface="Bookman Old Style"/>
                <a:ea typeface="Times New Roman"/>
              </a:rPr>
              <a:t>-лицо, которое имеет нарушение здоровья со стойким расстройством функций организма, обусловленное заболеванием, последствиями травм или дефектами, приводящее к ограниченной жизнедеятельности и вызывающее необходимость его социальной защит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80000"/>
              </a:lnSpc>
              <a:spcBef>
                <a:spcPts val="5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Bookman Old Style"/>
                <a:ea typeface="Times New Roman"/>
              </a:rPr>
              <a:t>Инвалидность  -</a:t>
            </a:r>
            <a:r>
              <a:rPr b="0" lang="ru-RU" sz="2300" spc="-1" strike="noStrike">
                <a:solidFill>
                  <a:srgbClr val="404040"/>
                </a:solidFill>
                <a:latin typeface="Bookman Old Style"/>
              </a:rPr>
              <a:t>– это состояние, при котором у человека наблюдаются физические, психологические и умственные отклонения, ограничивающие его деятельность.</a:t>
            </a:r>
            <a:br>
              <a:rPr sz="2300"/>
            </a:br>
            <a:r>
              <a:rPr b="0" lang="ru-RU" sz="2300" spc="-1" strike="noStrike">
                <a:solidFill>
                  <a:srgbClr val="404040"/>
                </a:solidFill>
                <a:latin typeface="Bookman Old Style"/>
              </a:rPr>
              <a:t>Источник: https://opekarf.ru/invalidam/obshhaya-informatsiya/ponyatie-invalidnost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619280" y="54936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Bookman Old Style"/>
              </a:rPr>
              <a:t>Ирвин Ялом.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Три типа изоляц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324000" y="1557360"/>
            <a:ext cx="3095640" cy="1150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Межличностная изоля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5651640" y="1628640"/>
            <a:ext cx="3097080" cy="1152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Экзистенциальная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 изо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3276720" y="3141720"/>
            <a:ext cx="3095640" cy="1150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нутриличностная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изоля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619280" y="549360"/>
            <a:ext cx="64008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Фарида Майленов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Bookman Old Style"/>
              </a:rPr>
              <a:t>Два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типа изоляц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24000" y="1557360"/>
            <a:ext cx="3095640" cy="11509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Социальная  изоля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5651640" y="1628640"/>
            <a:ext cx="3097080" cy="11527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эмоциональная  изо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ÐÐ°ÑÑÐ¸Ð½ÐºÐ¸ Ð¿Ð¾ Ð·Ð°Ð¿ÑÐ¾ÑÑ ÑÐ¾Ð´ÐµÐ¹ÑÑÐ²Ð¸Ðµ Ð² Ð¿Ð¾Ð»ÑÑÐµÐ½Ð¸Ð¸ Ð²ÑÐµÐ¼ÐµÐ½Ð¾Ð³Ð¾ Ð¶Ð¸Ð»ÑÑ"/>
          <p:cNvPicPr/>
          <p:nvPr/>
        </p:nvPicPr>
        <p:blipFill>
          <a:blip r:embed="rId1"/>
          <a:stretch/>
        </p:blipFill>
        <p:spPr>
          <a:xfrm>
            <a:off x="395280" y="4005360"/>
            <a:ext cx="3236760" cy="2070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ÐÐ°ÑÑÐ¸Ð½ÐºÐ¸ Ð¿Ð¾ Ð·Ð°Ð¿ÑÐ¾ÑÑ ÑÐ¾ÑÐ¸Ð°Ð»ÑÐ½Ð°Ñ Ð¿Ð¾Ð¼Ð¾ÑÑ Ð¸Ð½Ð²Ð°Ð»Ð¸Ð´Ð°Ð¼"/>
          <p:cNvPicPr/>
          <p:nvPr/>
        </p:nvPicPr>
        <p:blipFill>
          <a:blip r:embed="rId2"/>
          <a:stretch/>
        </p:blipFill>
        <p:spPr>
          <a:xfrm>
            <a:off x="5796000" y="3933720"/>
            <a:ext cx="2744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1908000" y="4718160"/>
            <a:ext cx="6950160" cy="2182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539280" y="25992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Депривация эмоциональная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может быть рассмотрена как недостаточная возможность для установления интимных эмоциональных отношений с каким-либо лицом или разрыв подобных эмоциональных связей, если таковые уже были созданы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Депривация когнитивная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определяется как результат изменчивости, хаотичности структуры внешнего мира без четкого упорядочивания и смысла, которая не дает возможности понимать, предвосхищать и регулировать происходящее извне: социально-политическая нестабильность общества, неустойчивость социальных требований и т.п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Депривация социальная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 возникает как результат ограничений возможностей для усвоения автономной социальной роли, например, проблема удовлетворения профессиональных притязаний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93840" y="5151600"/>
            <a:ext cx="6778800" cy="1498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0" y="259920"/>
            <a:ext cx="89647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циально-психологической проблемой является проблема 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оциальной фрустрированности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Фрустрация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(от лат. 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frustratio 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обман, тщетное ожидание) - психическое состояние, вызванное неуспехом в удовлетворении потребности, желания. Она возникает в ситуации конфликта, когда, например, удовлетворение потребности наталкивается на непреодолимые или труднопреодолимые преграды и сопровождается различными отрицательными переживаниями: разочарованием, раздражением, тревогой, отчаянием и т.п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39640" y="731520"/>
            <a:ext cx="83534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Термин «</a:t>
            </a:r>
            <a:r>
              <a:rPr b="1" lang="ru-RU" sz="2400" spc="-1" strike="noStrike">
                <a:solidFill>
                  <a:srgbClr val="7030a0"/>
                </a:solidFill>
                <a:latin typeface="Trebuchet MS"/>
              </a:rPr>
              <a:t>комплекс неполноценности»</a:t>
            </a: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 ввел немецкий психиатр Альфред Адле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179280" y="228816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 энергетический потенциал психической активности, вызванный переживанием каждым человеком в раннем детстве ощущения собственной недостато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755280" y="404280"/>
            <a:ext cx="760572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собенности психологического состояния личности инвалидов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259560" y="26370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ac8b"/>
                </a:solidFill>
                <a:latin typeface="Trebuchet MS"/>
              </a:rPr>
              <a:t>Эмоциональная 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5829120" y="256536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rebuchet MS"/>
              </a:rPr>
              <a:t>Когнитивная 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3039480" y="573264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rebuchet MS"/>
              </a:rPr>
              <a:t>Поведенческая 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8"/>
          <p:cNvCxnSpPr/>
          <p:nvPr/>
        </p:nvCxnSpPr>
        <p:spPr>
          <a:xfrm flipH="1">
            <a:off x="5939640" y="2997360"/>
            <a:ext cx="1296360" cy="5763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41" name="Прямая со стрелкой 10"/>
          <p:cNvCxnSpPr/>
          <p:nvPr/>
        </p:nvCxnSpPr>
        <p:spPr>
          <a:xfrm>
            <a:off x="2268360" y="3068280"/>
            <a:ext cx="1966320" cy="5464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42" name="Прямая со стрелкой 12"/>
          <p:cNvCxnSpPr/>
          <p:nvPr/>
        </p:nvCxnSpPr>
        <p:spPr>
          <a:xfrm flipH="1" flipV="1">
            <a:off x="5003280" y="4581000"/>
            <a:ext cx="23040" cy="11520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pic>
        <p:nvPicPr>
          <p:cNvPr id="243" name="Picture 8" descr="ÐÐ°ÑÑÐ¸Ð½ÐºÐ¸ Ð¿Ð¾ Ð·Ð°Ð¿ÑÐ¾ÑÑ Ð¾ÐºÐ°Ð·Ð°Ð½Ð¸Ðµ ÑÐºÑÑÑÐµÐ½Ð½Ð¾Ð¹ Ð¿ÑÐ¸ÑÐ¾Ð»Ð¾Ð³Ð¸ÑÐµÑÐºÐ¾Ð¹ Ð¿Ð¾Ð¼Ð¾ÑÐ¸ Ð¿Ð¾Ð¶Ð¸Ð»ÑÐ¼"/>
          <p:cNvPicPr/>
          <p:nvPr/>
        </p:nvPicPr>
        <p:blipFill>
          <a:blip r:embed="rId1"/>
          <a:stretch/>
        </p:blipFill>
        <p:spPr>
          <a:xfrm>
            <a:off x="3635280" y="3429000"/>
            <a:ext cx="2605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3:49:45Z</dcterms:created>
  <dc:creator>Пользователь</dc:creator>
  <dc:description/>
  <dc:language>en-US</dc:language>
  <cp:lastModifiedBy>Сергей Ушаков</cp:lastModifiedBy>
  <dcterms:modified xsi:type="dcterms:W3CDTF">2020-04-07T07:26:33Z</dcterms:modified>
  <cp:revision>105</cp:revision>
  <dc:subject/>
  <dc:title>Министерство общего и профессионального образования  Свердловской области Государственное автономное профессиональное образовательное учреждение Свердловской области «Ревдинский многопрофильный техникум»</dc:title>
</cp:coreProperties>
</file>