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1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29.jpeg" ContentType="image/jpeg"/>
  <Override PartName="/ppt/media/image8.jpeg" ContentType="image/jpeg"/>
  <Override PartName="/ppt/media/image30.jpeg" ContentType="image/jpeg"/>
  <Override PartName="/ppt/media/image20.jpeg" ContentType="image/jpeg"/>
  <Override PartName="/ppt/media/image12.png" ContentType="image/png"/>
  <Override PartName="/ppt/media/image31.jpeg" ContentType="image/jpeg"/>
  <Override PartName="/ppt/media/image4.jpeg" ContentType="image/jpeg"/>
  <Override PartName="/ppt/media/image2.png" ContentType="image/png"/>
  <Override PartName="/ppt/media/image34.png" ContentType="image/pn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png" ContentType="image/png"/>
  <Override PartName="/ppt/media/image37.jpeg" ContentType="image/jpeg"/>
  <Override PartName="/ppt/media/image13.png" ContentType="image/png"/>
  <Override PartName="/ppt/media/image38.jpeg" ContentType="image/jpeg"/>
  <Override PartName="/ppt/media/image7.jpeg" ContentType="image/jpeg"/>
  <Override PartName="/ppt/media/image28.jpeg" ContentType="image/jpeg"/>
  <Override PartName="/ppt/media/image25.png" ContentType="image/png"/>
  <Override PartName="/ppt/media/image19.jpeg" ContentType="image/jpeg"/>
  <Override PartName="/ppt/media/image3.png" ContentType="image/png"/>
  <Override PartName="/ppt/media/image17.jpeg" ContentType="image/jpeg"/>
  <Override PartName="/ppt/media/image11.png" ContentType="image/png"/>
  <Override PartName="/ppt/media/image9.jpeg" ContentType="image/jpe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872B-1FC0-40A9-B12F-0FD24FD66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278A-6757-4F23-936E-6DF6B87E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ADB4-998D-44A2-B2F9-A7B4623EC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F99A-92E4-45E6-8B49-7CA63D324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1C2117-E429-4B05-B919-7DCD92E61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941DAF-6FF8-4113-BF28-21F14E1F1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3BD128-A51E-4631-8107-887CC42BA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222B4C-BAF4-4835-916C-D503DAB22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5BCE04-B958-40E9-A638-8E2993F2B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921945-1EC7-4BED-9051-9C29D447C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03CB26-37C1-4F79-A024-53EF382F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00F5-ED16-4A27-BD59-B9B45787B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0A05C7-4257-4967-B4BC-734BFF45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E8464F-CC8A-45E5-8E39-F5015EF7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1BBD46-13FF-4A91-8457-100E69335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88A2FE-6F50-4591-8453-617CB38DE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13F7A4-7689-42A2-9AE9-FB2F3A6EC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776B-F434-4580-8983-6287F7D3F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B2E7-0CBF-4230-B578-F43888BB3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EDFF-96C1-4A52-8B54-9A8E6EC2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8DAD-1541-4BE0-994A-F1294FC0B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634C-FF35-4011-A879-397C3629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3DC5-A9FC-4536-9E06-55952BCC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F772-762A-4665-BE17-2AF14BDA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DC624-BF96-4F32-BEE5-B13A05B155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A1AA3-11B5-4A86-BF63-579C2AD223D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Обучение технике ударов по мячу в футбол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BOUNCING_SOCCERBALLS_WM.WMV" descr=""/>
          <p:cNvPicPr/>
          <p:nvPr/>
        </p:nvPicPr>
        <p:blipFill>
          <a:blip r:embed="rId1"/>
          <a:stretch/>
        </p:blipFill>
        <p:spPr>
          <a:xfrm>
            <a:off x="1692360" y="19890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9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Удар пятко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5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Техника удар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стать позади мяча так, чтобы левая нога стояла с левой стороны от мяч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авая нога примерно на длину стопы за мячом; носки обеих ног направлены вперед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Замахнуться и пронести ногу над мячом или справа от него; резким движением назад ударить пяткой в нижнюю часть мяча посередине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5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5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5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Специальные упражнен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Пяткой в ворота»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Ты – мне, я – тебе»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С двух сторон маленьких ворот»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Разводящий»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5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5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5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5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Возможные ошибк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Неверное положение опорной ног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Опорная нога мешает бьющей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Не попал пяткой в середину мяча – «срезка» в сторону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5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50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11" descr="фут 015"/>
          <p:cNvPicPr/>
          <p:nvPr/>
        </p:nvPicPr>
        <p:blipFill>
          <a:blip r:embed="rId1"/>
          <a:stretch/>
        </p:blipFill>
        <p:spPr>
          <a:xfrm>
            <a:off x="4356000" y="1268280"/>
            <a:ext cx="2159280" cy="1873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2" descr="фут 016"/>
          <p:cNvPicPr/>
          <p:nvPr/>
        </p:nvPicPr>
        <p:blipFill>
          <a:blip r:embed="rId2"/>
          <a:stretch/>
        </p:blipFill>
        <p:spPr>
          <a:xfrm>
            <a:off x="6659640" y="1268280"/>
            <a:ext cx="2281320" cy="1871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3" descr="28"/>
          <p:cNvPicPr/>
          <p:nvPr/>
        </p:nvPicPr>
        <p:blipFill>
          <a:blip r:embed="rId3"/>
          <a:stretch/>
        </p:blipFill>
        <p:spPr>
          <a:xfrm>
            <a:off x="4643280" y="5589720"/>
            <a:ext cx="936720" cy="1268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4" descr="29"/>
          <p:cNvPicPr/>
          <p:nvPr/>
        </p:nvPicPr>
        <p:blipFill>
          <a:blip r:embed="rId4"/>
          <a:stretch/>
        </p:blipFill>
        <p:spPr>
          <a:xfrm>
            <a:off x="6156360" y="5589720"/>
            <a:ext cx="863640" cy="1268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5" descr="30"/>
          <p:cNvPicPr/>
          <p:nvPr/>
        </p:nvPicPr>
        <p:blipFill>
          <a:blip r:embed="rId5"/>
          <a:stretch/>
        </p:blipFill>
        <p:spPr>
          <a:xfrm>
            <a:off x="7956720" y="5516640"/>
            <a:ext cx="792000" cy="1341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6" descr="фут 011"/>
          <p:cNvPicPr/>
          <p:nvPr/>
        </p:nvPicPr>
        <p:blipFill>
          <a:blip r:embed="rId6"/>
          <a:stretch/>
        </p:blipFill>
        <p:spPr>
          <a:xfrm>
            <a:off x="6659640" y="3500280"/>
            <a:ext cx="2243160" cy="1791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" descr="ф 002"/>
          <p:cNvPicPr/>
          <p:nvPr/>
        </p:nvPicPr>
        <p:blipFill>
          <a:blip r:embed="rId7"/>
          <a:stretch/>
        </p:blipFill>
        <p:spPr>
          <a:xfrm>
            <a:off x="4356000" y="3500280"/>
            <a:ext cx="21956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Цель: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обучение технике ударов по мячу ногой в футбол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11253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Задачи: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-обучить ударам с места, с разбега, на точность;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-устранить возможные ошибки в технике выполнени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Удар  носко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916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ff"/>
                </a:solidFill>
                <a:uFillTx/>
                <a:latin typeface="Tahoma"/>
              </a:rPr>
              <a:t>Техника удар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вести ногу назад (замах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править ногу носком вперед, в сторону мяч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орная нога чуть сзади мяч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ьющая нога резко выпрямляетс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осок бьющей ноги должен попасть в середину мяч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ff"/>
                </a:solidFill>
                <a:uFillTx/>
                <a:latin typeface="Tahoma"/>
              </a:rPr>
              <a:t>Специальные упражн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«Коснись носком центра мяча»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«Удар с места по неподвижному мячу в стенку»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«Удар с разбега по неподвижному мячу в стенку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«Удар с места или с разбега в паре, в тройке»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ff"/>
                </a:solidFill>
                <a:uFillTx/>
                <a:latin typeface="Tahoma"/>
              </a:rPr>
              <a:t>Возможные ошибк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порная нога в момент удара далеко от мяча, и бьющая нога едва дотягивается до мяч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осок опорной ноги развернут наружу или внутрь. Носок бьющей ноги не попал в середину мяч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9" descr="6"/>
          <p:cNvPicPr/>
          <p:nvPr/>
        </p:nvPicPr>
        <p:blipFill>
          <a:blip r:embed="rId1"/>
          <a:stretch/>
        </p:blipFill>
        <p:spPr>
          <a:xfrm>
            <a:off x="4716360" y="5589720"/>
            <a:ext cx="1152720" cy="1066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3" descr="фут 003"/>
          <p:cNvPicPr/>
          <p:nvPr/>
        </p:nvPicPr>
        <p:blipFill>
          <a:blip r:embed="rId2"/>
          <a:stretch/>
        </p:blipFill>
        <p:spPr>
          <a:xfrm>
            <a:off x="4284720" y="1700280"/>
            <a:ext cx="2305080" cy="1728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4" descr="фут 004"/>
          <p:cNvPicPr/>
          <p:nvPr/>
        </p:nvPicPr>
        <p:blipFill>
          <a:blip r:embed="rId3"/>
          <a:stretch/>
        </p:blipFill>
        <p:spPr>
          <a:xfrm>
            <a:off x="6732720" y="1700280"/>
            <a:ext cx="2282760" cy="1712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5" descr="фут 010"/>
          <p:cNvPicPr/>
          <p:nvPr/>
        </p:nvPicPr>
        <p:blipFill>
          <a:blip r:embed="rId4"/>
          <a:stretch/>
        </p:blipFill>
        <p:spPr>
          <a:xfrm>
            <a:off x="6732720" y="3573360"/>
            <a:ext cx="2259000" cy="1695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6" descr="ф 003"/>
          <p:cNvPicPr/>
          <p:nvPr/>
        </p:nvPicPr>
        <p:blipFill>
          <a:blip r:embed="rId5"/>
          <a:stretch/>
        </p:blipFill>
        <p:spPr>
          <a:xfrm>
            <a:off x="4284720" y="3573360"/>
            <a:ext cx="230328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Удар серединой подъема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ff"/>
                </a:solidFill>
                <a:uFillTx/>
                <a:latin typeface="Tahoma"/>
              </a:rPr>
              <a:t>Техника удар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порная нога ставится рядом с мячо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ьющая нога выполняет замах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зкое движение ноги вперед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Левая рука выносится вперед-вверх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дар бьющей ноги в середину мяч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ff"/>
                </a:solidFill>
                <a:uFillTx/>
                <a:latin typeface="Tahoma"/>
              </a:rPr>
              <a:t>Специальные упражн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ерединой в середину (имитация удара по мячу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 стенки (нанесение несильного удара в стенку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 неподвижному мячу (удар с разбега в стенку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дмет перед стенкой [постараться попасть в предмет (стойка) с места, с разбега]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маленькие ворота (попасть в мини-ворота с места, с разбега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пади в квадрат (попасть в квадрат, нарисованный на стене, сетке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ff"/>
                </a:solidFill>
                <a:uFillTx/>
                <a:latin typeface="Tahoma"/>
              </a:rPr>
              <a:t>Возможные ошибк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порная нога далеко от мяча – бьющая нога еле дотягиваетс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кользнул по мячу – и мяч срезался в сторону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осок бьющей ноги в момент удара не должен быть повернут внутрь (к опорной ноге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осок цепляет землю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а же ошибка, но носок повернут наружу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20" descr="фут 009"/>
          <p:cNvPicPr/>
          <p:nvPr/>
        </p:nvPicPr>
        <p:blipFill>
          <a:blip r:embed="rId1"/>
          <a:stretch/>
        </p:blipFill>
        <p:spPr>
          <a:xfrm>
            <a:off x="3995640" y="1197000"/>
            <a:ext cx="2448000" cy="1582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1" descr="фут 010"/>
          <p:cNvPicPr/>
          <p:nvPr/>
        </p:nvPicPr>
        <p:blipFill>
          <a:blip r:embed="rId2"/>
          <a:stretch/>
        </p:blipFill>
        <p:spPr>
          <a:xfrm>
            <a:off x="6588000" y="1197000"/>
            <a:ext cx="2411640" cy="1582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3" descr="фут 024"/>
          <p:cNvPicPr/>
          <p:nvPr/>
        </p:nvPicPr>
        <p:blipFill>
          <a:blip r:embed="rId3"/>
          <a:stretch/>
        </p:blipFill>
        <p:spPr>
          <a:xfrm>
            <a:off x="4067280" y="2997360"/>
            <a:ext cx="2376360" cy="1655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70" descr="45"/>
          <p:cNvPicPr/>
          <p:nvPr/>
        </p:nvPicPr>
        <p:blipFill>
          <a:blip r:embed="rId4"/>
          <a:stretch/>
        </p:blipFill>
        <p:spPr>
          <a:xfrm>
            <a:off x="4067280" y="5373720"/>
            <a:ext cx="1066680" cy="1023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71" descr="46"/>
          <p:cNvPicPr/>
          <p:nvPr/>
        </p:nvPicPr>
        <p:blipFill>
          <a:blip r:embed="rId5"/>
          <a:stretch/>
        </p:blipFill>
        <p:spPr>
          <a:xfrm>
            <a:off x="5292720" y="5373720"/>
            <a:ext cx="914400" cy="1057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72" descr="47"/>
          <p:cNvPicPr/>
          <p:nvPr/>
        </p:nvPicPr>
        <p:blipFill>
          <a:blip r:embed="rId6"/>
          <a:stretch/>
        </p:blipFill>
        <p:spPr>
          <a:xfrm>
            <a:off x="6372360" y="5373720"/>
            <a:ext cx="647640" cy="1052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73" descr="48"/>
          <p:cNvPicPr/>
          <p:nvPr/>
        </p:nvPicPr>
        <p:blipFill>
          <a:blip r:embed="rId7"/>
          <a:stretch/>
        </p:blipFill>
        <p:spPr>
          <a:xfrm>
            <a:off x="7164360" y="5373720"/>
            <a:ext cx="838080" cy="1041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74" descr="49"/>
          <p:cNvPicPr/>
          <p:nvPr/>
        </p:nvPicPr>
        <p:blipFill>
          <a:blip r:embed="rId8"/>
          <a:stretch/>
        </p:blipFill>
        <p:spPr>
          <a:xfrm>
            <a:off x="8172360" y="5373720"/>
            <a:ext cx="733680" cy="1047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80" descr="фут 006"/>
          <p:cNvPicPr/>
          <p:nvPr/>
        </p:nvPicPr>
        <p:blipFill>
          <a:blip r:embed="rId9"/>
          <a:stretch/>
        </p:blipFill>
        <p:spPr>
          <a:xfrm>
            <a:off x="6659640" y="2997360"/>
            <a:ext cx="2281320" cy="16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Удар внутренней частью подъем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40384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ыполняется так же, как удар прямым подъемом, но в последний момент перед ударом надо развернуть носок наружу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Специальные упражнен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Как подходить к мячу» (имитация удара)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Tahoma"/>
              </a:rPr>
              <a:t>«Точность удара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Удары через скамейку.   Забей за линию.      Из круга в круг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15" descr="фут 007"/>
          <p:cNvPicPr/>
          <p:nvPr/>
        </p:nvPicPr>
        <p:blipFill>
          <a:blip r:embed="rId1"/>
          <a:stretch/>
        </p:blipFill>
        <p:spPr>
          <a:xfrm>
            <a:off x="3924360" y="1268280"/>
            <a:ext cx="2519280" cy="1800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6" descr="фут 008"/>
          <p:cNvPicPr/>
          <p:nvPr/>
        </p:nvPicPr>
        <p:blipFill>
          <a:blip r:embed="rId2"/>
          <a:stretch/>
        </p:blipFill>
        <p:spPr>
          <a:xfrm>
            <a:off x="6588000" y="1268280"/>
            <a:ext cx="2376720" cy="1800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8" descr="фут 022"/>
          <p:cNvPicPr/>
          <p:nvPr/>
        </p:nvPicPr>
        <p:blipFill>
          <a:blip r:embed="rId3"/>
          <a:stretch/>
        </p:blipFill>
        <p:spPr>
          <a:xfrm>
            <a:off x="3995640" y="4292640"/>
            <a:ext cx="2448000" cy="1801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9" descr="фут 003"/>
          <p:cNvPicPr/>
          <p:nvPr/>
        </p:nvPicPr>
        <p:blipFill>
          <a:blip r:embed="rId4"/>
          <a:stretch/>
        </p:blipFill>
        <p:spPr>
          <a:xfrm>
            <a:off x="6659640" y="4292640"/>
            <a:ext cx="23050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Удар внешней частью подъема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Техника удар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ставить опорную ногу сбоку и сзади от мяч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ьющую ногу повернуть носком внутрь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сле замаха бьющая нога соприкасается с нижней частью мяч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момент удара нога закреплена в голеностопном сустав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уловище немного наклонено вперед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Возможные ошибк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порная нога слишком близко к мячу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резка мяча вправо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порная нога мешает бьющей.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порная нога слишком далеко от мяч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10" descr="фут 011"/>
          <p:cNvPicPr/>
          <p:nvPr/>
        </p:nvPicPr>
        <p:blipFill>
          <a:blip r:embed="rId1"/>
          <a:stretch/>
        </p:blipFill>
        <p:spPr>
          <a:xfrm>
            <a:off x="4067280" y="1557360"/>
            <a:ext cx="2376360" cy="1800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фут 012"/>
          <p:cNvPicPr/>
          <p:nvPr/>
        </p:nvPicPr>
        <p:blipFill>
          <a:blip r:embed="rId2"/>
          <a:stretch/>
        </p:blipFill>
        <p:spPr>
          <a:xfrm>
            <a:off x="6659640" y="1628640"/>
            <a:ext cx="2281320" cy="1729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15"/>
          <p:cNvPicPr/>
          <p:nvPr/>
        </p:nvPicPr>
        <p:blipFill>
          <a:blip r:embed="rId3"/>
          <a:stretch/>
        </p:blipFill>
        <p:spPr>
          <a:xfrm>
            <a:off x="4284720" y="4508640"/>
            <a:ext cx="1224000" cy="1512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3" descr="16"/>
          <p:cNvPicPr/>
          <p:nvPr/>
        </p:nvPicPr>
        <p:blipFill>
          <a:blip r:embed="rId4"/>
          <a:stretch/>
        </p:blipFill>
        <p:spPr>
          <a:xfrm>
            <a:off x="6012000" y="4508640"/>
            <a:ext cx="1008000" cy="1512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4" descr="17"/>
          <p:cNvPicPr/>
          <p:nvPr/>
        </p:nvPicPr>
        <p:blipFill>
          <a:blip r:embed="rId5"/>
          <a:stretch/>
        </p:blipFill>
        <p:spPr>
          <a:xfrm>
            <a:off x="7451640" y="4508640"/>
            <a:ext cx="108108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Удар внутренней стороной стопы («щечкой»)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Техника удар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Этот удар применяется главным образом как точная передача на небольшое расстояние. Но когда игрок оказывается в непосредственной близости от ворот, можно точно пробить по воротам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Опорная нога должна быть сбоку-сзад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Колено опорной ноги чуть согнуто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топа бьющей ноги разворачивается так, чтобы быть к мячу внутренней стороной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 момент удара можно наклонить туловище над мячом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Специальные упражнения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Tahoma"/>
              </a:rPr>
              <a:t>«Сыграй точно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Tahoma"/>
              </a:rPr>
              <a:t>«Попади в квадраты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Tahoma"/>
              </a:rPr>
              <a:t>«Мяч в круге»          «Вышибай из круга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11" descr="фут 005"/>
          <p:cNvPicPr/>
          <p:nvPr/>
        </p:nvPicPr>
        <p:blipFill>
          <a:blip r:embed="rId1"/>
          <a:stretch/>
        </p:blipFill>
        <p:spPr>
          <a:xfrm>
            <a:off x="4067280" y="1484280"/>
            <a:ext cx="2376360" cy="1981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фут 006"/>
          <p:cNvPicPr/>
          <p:nvPr/>
        </p:nvPicPr>
        <p:blipFill>
          <a:blip r:embed="rId2"/>
          <a:stretch/>
        </p:blipFill>
        <p:spPr>
          <a:xfrm>
            <a:off x="6588000" y="1557360"/>
            <a:ext cx="2305080" cy="1871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8" descr="фут 002"/>
          <p:cNvPicPr/>
          <p:nvPr/>
        </p:nvPicPr>
        <p:blipFill>
          <a:blip r:embed="rId3"/>
          <a:stretch/>
        </p:blipFill>
        <p:spPr>
          <a:xfrm>
            <a:off x="6588000" y="4437000"/>
            <a:ext cx="2305080" cy="1871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9" descr="фут 014"/>
          <p:cNvPicPr/>
          <p:nvPr/>
        </p:nvPicPr>
        <p:blipFill>
          <a:blip r:embed="rId4"/>
          <a:stretch/>
        </p:blipFill>
        <p:spPr>
          <a:xfrm>
            <a:off x="4140360" y="4437000"/>
            <a:ext cx="23032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Удар внешней стороной стопы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Чаще всего внешней стороной стопы бьют по мячу, катящемуся навстречу или сбоку, с внешней стороны бьющей ног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Техника удар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порную ногу поставить примерно в полушаге слева от мяча и чуть за ни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Замахнуться в сторону опорной ноги чуть сперед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Ударить обратным движением серединой внешней стороны стоп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7" descr="фут 013"/>
          <p:cNvPicPr/>
          <p:nvPr/>
        </p:nvPicPr>
        <p:blipFill>
          <a:blip r:embed="rId1"/>
          <a:stretch/>
        </p:blipFill>
        <p:spPr>
          <a:xfrm>
            <a:off x="5435640" y="1557360"/>
            <a:ext cx="2592360" cy="1942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фут 014"/>
          <p:cNvPicPr/>
          <p:nvPr/>
        </p:nvPicPr>
        <p:blipFill>
          <a:blip r:embed="rId2"/>
          <a:stretch/>
        </p:blipFill>
        <p:spPr>
          <a:xfrm>
            <a:off x="5435640" y="4076640"/>
            <a:ext cx="2592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07:13:59Z</dcterms:created>
  <dc:creator>Админ</dc:creator>
  <dc:description/>
  <dc:language>en-US</dc:language>
  <cp:lastModifiedBy>RePack by Diakov</cp:lastModifiedBy>
  <dcterms:modified xsi:type="dcterms:W3CDTF">2020-04-07T19:26:15Z</dcterms:modified>
  <cp:revision>12</cp:revision>
  <dc:subject/>
  <dc:title>Александр  Михайлович  Ноздрин учитель  физической  культуры  МОУ   «Чубаевская  ООШ»  Урмарского  района  Чувашской  Республики</dc:title>
</cp:coreProperties>
</file>