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10.jpeg" ContentType="image/jpeg"/>
  <Override PartName="/ppt/media/image2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6DC-5A73-48AD-B6A6-AF9AB80C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9F4-F7BC-4807-BF7D-4C338C2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A49-3966-4B9C-A03D-172DBD4D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152-E754-4759-B13A-57ACB737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BAC7-2B0B-4AAE-A795-2AC20808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C72A-B396-41D8-888C-3849FFC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84BE-6970-4CC8-8DCF-2C8A8BA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8B1-F23C-46BE-8EFD-F5AA753A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FA5E-EFB8-4AAF-ABEA-1B2A3FE2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928-CCA8-4EBB-A417-89573AF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C21-EBB0-4984-A275-4A51285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8D7-95DB-4A4B-8297-8BC551F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AE00-B81A-49DC-8F63-7435076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0A1-3E2B-4D89-B748-390C55B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0CFE-F462-4980-ACDB-1CC1DF5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741C-1410-44BB-86B8-CF5EE784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17F3-F764-4C7C-837B-1DE3876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5BE-9261-41E5-BB60-D3B8D86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B37-6211-46D0-9D16-C044531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067-D762-4C8A-B0A2-E274B5D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32F-F8DA-4846-9FFF-C0958220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40C-E4D3-42C6-BDF6-D8D8630E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5CC-88BF-4A06-9DD2-6C59D94A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431-7A59-4E43-8E62-EC57B6B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F34-6261-4102-A984-F5F7A938796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921-F8E3-4653-ABE2-B456E6132FB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248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Тема урока: </a:t>
            </a:r>
            <a:r>
              <a:rPr b="0" lang="ru-RU" sz="3200" spc="-1" strike="noStrike">
                <a:solidFill>
                  <a:srgbClr val="ff0066"/>
                </a:solidFill>
                <a:latin typeface="Century Gothic"/>
              </a:rPr>
              <a:t>Глагол. Повторен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6920" y="1628280"/>
            <a:ext cx="52563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042920" y="2492280"/>
            <a:ext cx="5400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зация, обобщение знаний учащихся о глаго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мения находить глагол и определять его грамматические признаки, находить и правильно писать орфограммы в глаг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нима"/>
          <p:cNvPicPr/>
          <p:nvPr/>
        </p:nvPicPr>
        <p:blipFill>
          <a:blip r:embed="rId1"/>
          <a:stretch/>
        </p:blipFill>
        <p:spPr>
          <a:xfrm>
            <a:off x="539640" y="464652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475920"/>
            <a:ext cx="7086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тдохни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4" descr="дональд аним"/>
          <p:cNvPicPr/>
          <p:nvPr/>
        </p:nvPicPr>
        <p:blipFill>
          <a:blip r:embed="rId1"/>
          <a:stretch/>
        </p:blipFill>
        <p:spPr>
          <a:xfrm>
            <a:off x="468360" y="4508640"/>
            <a:ext cx="1981080" cy="1780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042920" y="981000"/>
            <a:ext cx="3024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я меч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 мыло                                    Приходило                                   По утрам ко мне в кровать            И само меня бы мыло -      Хорошо бы это было!          Если б, скажем,                       Мне                                        Волшебник                          Подарил такой учебник,     Чтобы он бы                             Сам бы                                      Мог                                            Отвечать любой у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427640" y="1341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427640" y="1341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067280" y="1341360"/>
            <a:ext cx="34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 ручку мне в придачу,  Чтоб могла                             Решить задачу,                      Написать диктант любой -    Всё сама,                               Само собой!                            Если б книжки и тетрадки     Научились быть в порядке,     Знали все                                Свои места -                          Вот была бы красота!               Вот бы жизнь тогда настала! Знай гуляй и отдыхай!          Тут и мама б перестала       Говорить, что я лентя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500720" y="59500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Захо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есёлые диалог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58920" y="1268280"/>
            <a:ext cx="597708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ан, ты спиш   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лю, Иван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чему же ты со мной разговариваеш    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ты не понимаеш     ! Это я во с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а, ты боиш    ся мыше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, вот ещё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чему ты визжиш     , когда увидиш      мыш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я других предупреждаю, которые боя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еш    , я вчера чуть не заполучил такую рыбину…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ую огромную, тяжёлую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что? Не смог вытащить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еш    , денег не хвати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276720" y="119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635280" y="2060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940360" y="1773360"/>
            <a:ext cx="3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132000" y="2852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78000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72436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050920" y="4508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2556000" y="5373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685440"/>
            <a:ext cx="62643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адание для шустрико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6480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Какой частью речи являются         выделенные слова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ридор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и иди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опи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еч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и ста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еч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нежное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крывало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все поле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крывало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страя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ила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ила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молок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екло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молоко – чистое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екло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ой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пчёл –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ой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яму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их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ветер – выучи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ти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7" name="Picture 4" descr="ребёнок "/>
          <p:cNvPicPr/>
          <p:nvPr/>
        </p:nvPicPr>
        <p:blipFill>
          <a:blip r:embed="rId1"/>
          <a:stretch/>
        </p:blipFill>
        <p:spPr>
          <a:xfrm>
            <a:off x="6732720" y="549360"/>
            <a:ext cx="1908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Говорите правильно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лезаю             Звон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шь             Положи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лезаешь         Надеть на           Оде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Хотите                 Включ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шь            Хочеш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езжай             Облегч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шь         Началс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ъезди                Трите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жжёшь            Стрижёш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ём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75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75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5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5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75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75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75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75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75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5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75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5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75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75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75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5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5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грач"/>
          <p:cNvPicPr/>
          <p:nvPr/>
        </p:nvPicPr>
        <p:blipFill>
          <a:blip r:embed="rId1"/>
          <a:stretch/>
        </p:blipFill>
        <p:spPr>
          <a:xfrm>
            <a:off x="468360" y="333360"/>
            <a:ext cx="5265720" cy="630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Сила русского глагол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42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рачи прилетели!                                                                         И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текли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сосульки,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трещал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лёд,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асползлись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снега. Вот-вот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зеленеет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земля,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голубеют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воды,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задымят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пашни.                                                                     Грачи прилетели – весну принесли!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.Сладк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ила русского глагол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ильный ветер внезапно загудел в вышине, деревья забушевали, крупные капли дождя резко застучали, зашлёпали по листьям, сверкнула молния,                 и гроза разразилась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5" name="Picture 4" descr="гроза1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79440" y="1600200"/>
            <a:ext cx="552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1).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то умеет веселиться,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). Не плюй в колодец -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3). Не надо хвалиться,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4). Кто любит трудиться,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5). Кто хочет от жизни толку добиться,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6). Нечего тому страшиться, (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) тот должен много трудиться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) который ничего не боитс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3) коли не знаешь, как рожь родитс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4) тому без дела не сидитс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5) того горе боитс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6) пригодится воды напиться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87280" y="69228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айдите кон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79440" y="1600200"/>
            <a:ext cx="696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зовите звукоподражательные  глаголы: чирикать, лаять, блеять, кукарекать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187280" y="333360"/>
            <a:ext cx="640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укцион знани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5" descr="кошка"/>
          <p:cNvPicPr/>
          <p:nvPr/>
        </p:nvPicPr>
        <p:blipFill>
          <a:blip r:embed="rId1"/>
          <a:stretch/>
        </p:blipFill>
        <p:spPr>
          <a:xfrm>
            <a:off x="468360" y="393372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собака"/>
          <p:cNvPicPr/>
          <p:nvPr/>
        </p:nvPicPr>
        <p:blipFill>
          <a:blip r:embed="rId2"/>
          <a:stretch/>
        </p:blipFill>
        <p:spPr>
          <a:xfrm>
            <a:off x="2195640" y="4508640"/>
            <a:ext cx="1684080" cy="187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солов"/>
          <p:cNvPicPr/>
          <p:nvPr/>
        </p:nvPicPr>
        <p:blipFill>
          <a:blip r:embed="rId3"/>
          <a:stretch/>
        </p:blipFill>
        <p:spPr>
          <a:xfrm>
            <a:off x="3995640" y="40053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овца"/>
          <p:cNvPicPr/>
          <p:nvPr/>
        </p:nvPicPr>
        <p:blipFill>
          <a:blip r:embed="rId4"/>
          <a:stretch/>
        </p:blipFill>
        <p:spPr>
          <a:xfrm>
            <a:off x="5724360" y="4581360"/>
            <a:ext cx="1617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опросы - загадк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9440" y="1600200"/>
            <a:ext cx="595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глаголе 100 отрицаний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каком глаголе 100 букв Й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Форма какого глагола состоит из           100  букв Ю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то говорит на всех языках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превратить существительные              воз, нос, пыл, быт, быль, пример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468360" y="5013360"/>
          <a:ext cx="107784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013360"/>
                    <a:ext cx="10778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5" descr="Безимени-0"/>
          <p:cNvPicPr/>
          <p:nvPr/>
        </p:nvPicPr>
        <p:blipFill>
          <a:blip r:embed="rId3"/>
          <a:stretch/>
        </p:blipFill>
        <p:spPr>
          <a:xfrm>
            <a:off x="7524720" y="476280"/>
            <a:ext cx="1057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79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гол – самая огнепышущая, самая живая часть речи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глаголе струится самая алая, самая свежая, артериальная кровь языка.            Да ведь и назначение  глагола – выражать само действие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.Юг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7" name="Picture 3" descr="глагол"/>
          <p:cNvPicPr/>
          <p:nvPr/>
        </p:nvPicPr>
        <p:blipFill>
          <a:blip r:embed="rId1"/>
          <a:stretch/>
        </p:blipFill>
        <p:spPr>
          <a:xfrm>
            <a:off x="6732720" y="3357720"/>
            <a:ext cx="1828800" cy="288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539640" y="436572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Monotype Corsiva"/>
              </a:rPr>
              <a:t>Лингвистическая сказ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506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Жил-был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лагол. Он очень не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любил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ленивых, и сам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трудилс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целый день: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бегал, летал, скакал, мастерил, варил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... Там что-то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выкопае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там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построи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там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склеи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там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пришье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и все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волнуется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успею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ли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помочь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добег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ли вовремя,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смог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ли все трудности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преодолеть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? А ты как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думаешь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?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Успее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?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Сможе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?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Добежи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WordArt 4"/>
          <p:cNvSpPr txBox="1"/>
          <p:nvPr/>
        </p:nvSpPr>
        <p:spPr>
          <a:xfrm rot="5400000">
            <a:off x="-1621080" y="2997000"/>
            <a:ext cx="50421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лагол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734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Century Gothic"/>
              </a:rPr>
              <a:t>Свеж утренний воздух над Глаголией.              Над крышей Дворца Времен на фасаде большого здания на шелковом полотнище из-за зарослей виднеется надпись:                         «Мы обозначаем действие"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entury Gothic"/>
              </a:rPr>
              <a:t>      </a:t>
            </a:r>
            <a:r>
              <a:rPr b="1" lang="ru-RU" sz="2400" spc="-1" strike="noStrike">
                <a:solidFill>
                  <a:srgbClr val="3366ff"/>
                </a:solidFill>
                <a:latin typeface="Century Gothic"/>
              </a:rPr>
              <a:t>Здесь глаголы изменяются по временам. Зайдет в одну дверь глагол будущего времени, в другую выходит глаголом настоящего или прошедшего.                                   У входа наденет на себя число,                               род или лицо, возьмет под руку подлежащее, станет сказуемым                           - и пошел по дорожкам предложен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900000" y="69228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по стране Глаголи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6048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ак отличить глагол от других частей речи? Дайте определение глагол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- Как изменяются глаголы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- Какие три времени есть у этой части речи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- Каким членом предложения чаще всего бывает глагол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484360" y="836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ь себя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20640"/>
            <a:ext cx="7086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Шутки - прибаутк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4" descr="перо"/>
          <p:cNvPicPr/>
          <p:nvPr/>
        </p:nvPicPr>
        <p:blipFill>
          <a:blip r:embed="rId1"/>
          <a:stretch/>
        </p:blipFill>
        <p:spPr>
          <a:xfrm>
            <a:off x="468360" y="500688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042920" y="1125360"/>
            <a:ext cx="727416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хочется мальчик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икам хочет   ся драт    ся,                                      с утра и до ночи купат    ся,                                          в грязи поминутно валят    ся                                                и в разных железках копат    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42920" y="3284640"/>
            <a:ext cx="561672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хочется девочк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чет   ся им наряжат    ся, конфетами объедат    ся,                     с подружками пошептат    ся           и в брошках-серёжках копат    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14836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500720" y="19162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932360" y="22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219640" y="2637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71636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42764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076720" y="44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580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394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Monotype Corsiva"/>
              </a:rPr>
              <a:t>Послушаем сказку «Сила любви»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066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ордую и упрямую частицу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любил благородный глагол. Трудной и печальной была эта любовь.                         Он говорил: "Люблю", а она ему: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"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люблю".                           Он признавался: "Верю", а она: "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верю"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Частица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никогда не подходила к Глаголу близко и писалась от него только отдельно. Однако Глагол был постоянным в своих чувствах. Вот однажды </a:t>
            </a:r>
            <a:r>
              <a:rPr b="1" lang="ru-RU" sz="2400" spc="-1" strike="noStrike">
                <a:solidFill>
                  <a:srgbClr val="ff0066"/>
                </a:solidFill>
                <a:latin typeface="Century Gothic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и говорит ему: "Я отвечу тебе взаимностью, если докажешь, что жить без меня не можешь"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здохнул Глагол печально и отправился                               скитаться по словарям да учебникам.                                     Когда же он возвратился к своей любимой,                               она, как обычно, отскочила от него                                       с криком: "Негодую! Ненавижу!"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 вдруг замерла от неожиданности:                                                   на этот раз Глагол остался рядом.                                                 Так он доказал, что в некоторых случаях,                   действительно, жить без нее не может"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3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3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3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3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«Автомобиль знаний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711680" cy="147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971640" y="3645000"/>
            <a:ext cx="57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)взял, (не)хочет, (не)пустить, (не)навидит, (не)было, (не)был, (не)равнять, (не)годовать, (не)слушать, (не)мог,(не)делал, (не)доумев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95280" y="2708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грузите» каждое слово в подходящий для него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В тетради Пети Двойкин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Picture 4" descr="рожицы1"/>
          <p:cNvPicPr/>
          <p:nvPr/>
        </p:nvPicPr>
        <p:blipFill>
          <a:blip r:embed="rId1"/>
          <a:stretch/>
        </p:blipFill>
        <p:spPr>
          <a:xfrm>
            <a:off x="6227640" y="1341360"/>
            <a:ext cx="2352960" cy="1984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11280" y="14130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объяснить ошибки в употреблении глаголов в этих примерах? Исправьте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42920" y="2565360"/>
            <a:ext cx="5041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ы наметили посетить городской музей и вынести из него всё самое ценное, самое интерес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каждого члена кружка «Юный техник» падает по пять-шесть мод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44:14Z</dcterms:created>
  <dc:creator>Ольга</dc:creator>
  <dc:description/>
  <dc:language>en-US</dc:language>
  <cp:lastModifiedBy>Ландыш Камилевна</cp:lastModifiedBy>
  <dcterms:modified xsi:type="dcterms:W3CDTF">2020-04-07T18:16:32Z</dcterms:modified>
  <cp:revision>31</cp:revision>
  <dc:subject/>
  <dc:title>Тема урока: Корни с чередованием</dc:title>
</cp:coreProperties>
</file>