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28DE-2FEF-4D60-85BA-C8B154321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E3A5-4EBA-4BA2-A687-C461EB76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4DC1-CD9A-42F6-92A2-0FEEC9BFD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48BC-7D32-4678-8EDA-B1924376A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EF96-696F-4C95-B9E7-CFF7ACF3F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87BC-4997-43AD-9495-D9D68399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12E85-3F95-4D7B-9E40-CEFDC172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66D6-8D9E-4C93-A359-39730819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735C-5AA5-4060-973E-C6455D71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5B95-D255-4ED8-8D8C-7D8BE246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9D36A-12BF-48BB-AEF7-AA8F2082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0494-90D5-4859-BA09-5C0932D8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F4DF-1513-42FA-BF5A-7B5437EA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5F5B-97D8-4754-B8CE-A0DDA53B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29DC-C759-4F88-9B57-011C1FCD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706A-882E-448A-B048-353A5FE79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EFD8-3C25-4959-A1AF-FD8C97C34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94A4B-2FE7-4C19-ADB6-151273D97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6AB90-322E-4961-827F-5CBB8C86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AB863-4F5B-4209-8E13-128FC242F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5ABCC-FB44-4EBA-A4C4-931CB3F4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75A58-B6E2-40C0-B63D-F06DB714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C19D-FFE3-4340-89A7-66FF33AB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CDBEB-F0E5-45B0-8D19-16A33188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9B08E-88EC-4C63-AF78-0F5CBECD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BFBD0-3B34-45A2-8C42-41968A0C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9305B-4D06-426E-888D-1B8A440A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C3C66-D288-4969-8D32-2E7C3AE5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3D02C-49AC-40F1-A9B5-21856D46F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237D7-EFBA-4230-8C20-1EDF191DC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62508-0901-4545-9744-0375A463C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9F66E-7F78-4C1D-985D-79266793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67FD9-F7D9-4309-91BA-CA42E4FA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8D90-A74E-496F-8C1B-CF859FF0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2D9AB-E757-4B7C-BFE9-AA1D4576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278C9-7530-463F-952B-77646E11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F903F-207B-4672-8530-1832210A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4BA3B-3063-4D10-82B8-2CF16AE9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E4AA5-A4C0-49D2-80D3-367EA941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CEDC3-4C36-4165-97D0-5E413681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55E10-2265-489F-8F1C-35AB27A4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5C6AF-4724-4F0C-9405-4156370C9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3F69E-1AA8-4748-90E7-B86A7C888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29D9D-8389-437D-BA87-1A438D07C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BCEE-F0F5-4C34-924C-1BF70736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F9BC2-7EBB-434A-9996-CA5EC61A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C28E2-D7AC-4119-9E4B-F2D44ECD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F14A2-8B07-47E6-B874-77D8C428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49209-7C0B-4A55-ADF0-8EF055BC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2886B-C3DA-4B9B-9A59-F5EC1C6E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A5261-0915-45F6-B270-CFF0FF9E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7DE11-9BFF-4A4B-B3B8-D30FA92A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78706-B0CA-4871-BBB7-472EED04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4543D-28B8-4092-B6B9-C36068CC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EE127-5EB9-4914-BB45-46B61DF55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C1C4-9B9D-48D4-8D1C-5113402C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461B3-2F57-4B30-8E1A-84B52D98B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D905-B9F6-4A30-9C4A-9E8DE7C3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6143-E361-4FCC-A805-8CDA3954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B2DC-D00F-4878-9409-ED5AA330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7CC8-8222-4930-BBCD-9DA1F76BF2C5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48F5-04D6-48C0-BBD2-A6FDE95A4CB9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6751-8561-4B6D-A7FB-32F98CD9E5DB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8707-982C-4B20-9A3D-4C2B2D301B02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9A27-F7DA-4431-A559-0DC0BB92122A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367080" y="533520"/>
            <a:ext cx="5105520" cy="28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Скругленный прямоугольник 3"/>
          <p:cNvSpPr/>
          <p:nvPr/>
        </p:nvSpPr>
        <p:spPr>
          <a:xfrm>
            <a:off x="1908000" y="692280"/>
            <a:ext cx="5400720" cy="24494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rebuchet MS"/>
              </a:rPr>
              <a:t>Урок русского язы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ru-RU" sz="4800" spc="-1" strike="noStrike">
                <a:solidFill>
                  <a:srgbClr val="7030a0"/>
                </a:solidFill>
                <a:latin typeface="Trebuchet MS"/>
              </a:rPr>
              <a:t>в </a:t>
            </a:r>
            <a:r>
              <a:rPr b="1" lang="en-US" sz="4800" spc="-1" strike="noStrike">
                <a:solidFill>
                  <a:srgbClr val="7030a0"/>
                </a:solidFill>
                <a:latin typeface="Trebuchet MS"/>
              </a:rPr>
              <a:t>4</a:t>
            </a:r>
            <a:r>
              <a:rPr b="1" lang="ru-RU" sz="4800" spc="-1" strike="noStrike">
                <a:solidFill>
                  <a:srgbClr val="7030a0"/>
                </a:solidFill>
                <a:latin typeface="Trebuchet MS"/>
              </a:rPr>
              <a:t> класс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https://botan.cc/prepod/_bloks/pic/qtep2fr-016.jpg"/>
          <p:cNvPicPr/>
          <p:nvPr/>
        </p:nvPicPr>
        <p:blipFill>
          <a:blip r:embed="rId2"/>
          <a:stretch/>
        </p:blipFill>
        <p:spPr>
          <a:xfrm>
            <a:off x="5508720" y="2997360"/>
            <a:ext cx="3425760" cy="37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4"/>
          <p:cNvSpPr/>
          <p:nvPr/>
        </p:nvSpPr>
        <p:spPr>
          <a:xfrm>
            <a:off x="324000" y="692280"/>
            <a:ext cx="4543200" cy="198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Times New Roman"/>
              </a:rPr>
              <a:t>1 ря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ыркнул добрый старый конь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 сену тянется (1 спр.)губ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мотрит (2 спр.) вниз, в глазу – огонь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то там бродит (2 спр.) под столба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4140360" y="2924280"/>
            <a:ext cx="417672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Times New Roman"/>
              </a:rPr>
              <a:t>2 ря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ве коровы в переб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ё жуют, вздыхая, жвач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телёночек ряб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уголке бодает (1 спр.) тач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1116000" y="4941720"/>
            <a:ext cx="4535640" cy="16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de66"/>
                </a:solidFill>
                <a:latin typeface="Times New Roman"/>
              </a:rPr>
              <a:t>3 ря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ышь гуляет(1 спр.) по сте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уси крикнули в клетуш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 приснилось им во сн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й? Зелёные опуш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WordArt 8"/>
          <p:cNvSpPr txBox="1"/>
          <p:nvPr/>
        </p:nvSpPr>
        <p:spPr>
          <a:xfrm>
            <a:off x="4932360" y="189000"/>
            <a:ext cx="3672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верь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"/>
          <p:cNvSpPr/>
          <p:nvPr/>
        </p:nvSpPr>
        <p:spPr>
          <a:xfrm>
            <a:off x="395280" y="1140480"/>
            <a:ext cx="4392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Тетрадь наклон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ожу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учку правильно дер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 посадкою сле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чистотою я дру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«отлично» напи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Рисунок 5" descr="сканирование.jpg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rebuchet MS"/>
              </a:rPr>
              <a:t>Уходи, Зима седая!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Trebuchet MS"/>
              </a:rPr>
              <a:t>Уж красавицы Весны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Trebuchet MS"/>
              </a:rPr>
              <a:t>Колесница золотая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Trebuchet MS"/>
              </a:rPr>
              <a:t>Мчится с горней вышины!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4"/>
          <p:cNvSpPr/>
          <p:nvPr/>
        </p:nvSpPr>
        <p:spPr>
          <a:xfrm>
            <a:off x="2411280" y="58320"/>
            <a:ext cx="4032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Найдите лишне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1114560" y="1340640"/>
            <a:ext cx="43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Выглянул, верит, прилетит, дума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5293080" y="1340640"/>
            <a:ext cx="145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леньки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1114920" y="1915560"/>
            <a:ext cx="37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Везти, плывём, читал, ответи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4789440" y="1915560"/>
            <a:ext cx="7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му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0"/>
          <p:cNvSpPr/>
          <p:nvPr/>
        </p:nvSpPr>
        <p:spPr>
          <a:xfrm>
            <a:off x="1258560" y="2564640"/>
            <a:ext cx="36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Испечь, строить, рисую, пел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1"/>
          <p:cNvSpPr/>
          <p:nvPr/>
        </p:nvSpPr>
        <p:spPr>
          <a:xfrm>
            <a:off x="4717440" y="2564640"/>
            <a:ext cx="9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дьб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4"/>
          <p:cNvSpPr/>
          <p:nvPr/>
        </p:nvSpPr>
        <p:spPr>
          <a:xfrm>
            <a:off x="500040" y="1600920"/>
            <a:ext cx="81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 ур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Орфограммы в окончаниях  глагол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1731960" y="60480"/>
            <a:ext cx="5583240" cy="100008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: скругленные углы 2"/>
          <p:cNvSpPr/>
          <p:nvPr/>
        </p:nvSpPr>
        <p:spPr>
          <a:xfrm>
            <a:off x="826920" y="1413000"/>
            <a:ext cx="7417080" cy="439236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rebuchet MS"/>
              </a:rPr>
              <a:t>Глагол – это ………………………. часть речи, которая обозначает ……………. предмета и отвечает в начальной форме на вопро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rebuchet MS"/>
              </a:rPr>
              <a:t>………………</a:t>
            </a:r>
            <a:r>
              <a:rPr b="1" lang="ru-RU" sz="4000" spc="-1" strike="noStrike">
                <a:solidFill>
                  <a:srgbClr val="ffffff"/>
                </a:solidFill>
                <a:latin typeface="Trebuchet MS"/>
              </a:rPr>
              <a:t>., …………………….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: скругленные углы 4"/>
          <p:cNvSpPr/>
          <p:nvPr/>
        </p:nvSpPr>
        <p:spPr>
          <a:xfrm>
            <a:off x="4429080" y="157176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eda5e4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самостоятель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: скругленные углы 5"/>
          <p:cNvSpPr/>
          <p:nvPr/>
        </p:nvSpPr>
        <p:spPr>
          <a:xfrm>
            <a:off x="4143240" y="2786040"/>
            <a:ext cx="2786040" cy="571680"/>
          </a:xfrm>
          <a:prstGeom prst="roundRect">
            <a:avLst>
              <a:gd name="adj" fmla="val 16667"/>
            </a:avLst>
          </a:prstGeom>
          <a:solidFill>
            <a:srgbClr val="eda5e4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действ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: скругленные углы 6"/>
          <p:cNvSpPr/>
          <p:nvPr/>
        </p:nvSpPr>
        <p:spPr>
          <a:xfrm>
            <a:off x="1077840" y="5143680"/>
            <a:ext cx="6923160" cy="446040"/>
          </a:xfrm>
          <a:prstGeom prst="roundRect">
            <a:avLst>
              <a:gd name="adj" fmla="val 16667"/>
            </a:avLst>
          </a:prstGeom>
          <a:solidFill>
            <a:srgbClr val="eda5e4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Что делать? Что сдела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https://ds04.infourok.ru/uploads/ex/025c/00045ba3-9e4e1ef6/hello_html_m787cd4b9.png"/>
          <p:cNvPicPr/>
          <p:nvPr/>
        </p:nvPicPr>
        <p:blipFill>
          <a:blip r:embed="rId2"/>
          <a:stretch/>
        </p:blipFill>
        <p:spPr>
          <a:xfrm>
            <a:off x="7216920" y="3841920"/>
            <a:ext cx="2198520" cy="301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1859040" y="255600"/>
            <a:ext cx="5095800" cy="80496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: скругленные углы 5"/>
          <p:cNvSpPr/>
          <p:nvPr/>
        </p:nvSpPr>
        <p:spPr>
          <a:xfrm>
            <a:off x="885960" y="1476360"/>
            <a:ext cx="2476440" cy="52236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rebuchet MS"/>
              </a:rPr>
              <a:t>врем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: скругленные углы 6"/>
          <p:cNvSpPr/>
          <p:nvPr/>
        </p:nvSpPr>
        <p:spPr>
          <a:xfrm>
            <a:off x="866880" y="2276640"/>
            <a:ext cx="2539800" cy="52200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rebuchet MS"/>
              </a:rPr>
              <a:t>наст.в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: скругленные углы 7"/>
          <p:cNvSpPr/>
          <p:nvPr/>
        </p:nvSpPr>
        <p:spPr>
          <a:xfrm>
            <a:off x="866880" y="3060720"/>
            <a:ext cx="2595600" cy="52056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rebuchet MS"/>
              </a:rPr>
              <a:t>буд.в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: скругленные углы 8"/>
          <p:cNvSpPr/>
          <p:nvPr/>
        </p:nvSpPr>
        <p:spPr>
          <a:xfrm>
            <a:off x="812880" y="3797280"/>
            <a:ext cx="2649600" cy="52236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rebuchet MS"/>
              </a:rPr>
              <a:t>прош.в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: скругленные углы 9"/>
          <p:cNvSpPr/>
          <p:nvPr/>
        </p:nvSpPr>
        <p:spPr>
          <a:xfrm>
            <a:off x="3780000" y="1503360"/>
            <a:ext cx="2477880" cy="52236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rebuchet MS"/>
              </a:rPr>
              <a:t>чис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: скругленные углы 10"/>
          <p:cNvSpPr/>
          <p:nvPr/>
        </p:nvSpPr>
        <p:spPr>
          <a:xfrm>
            <a:off x="3786120" y="2430360"/>
            <a:ext cx="2476440" cy="52236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rebuchet MS"/>
              </a:rPr>
              <a:t>ед. чис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: скругленные углы 11"/>
          <p:cNvSpPr/>
          <p:nvPr/>
        </p:nvSpPr>
        <p:spPr>
          <a:xfrm>
            <a:off x="3780000" y="3521160"/>
            <a:ext cx="2477880" cy="52236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rebuchet MS"/>
              </a:rPr>
              <a:t>мн. чис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: скругленные углы 12"/>
          <p:cNvSpPr/>
          <p:nvPr/>
        </p:nvSpPr>
        <p:spPr>
          <a:xfrm>
            <a:off x="6638760" y="1522440"/>
            <a:ext cx="2478240" cy="52236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rebuchet MS"/>
              </a:rPr>
              <a:t>лиц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: скругленные углы 13"/>
          <p:cNvSpPr/>
          <p:nvPr/>
        </p:nvSpPr>
        <p:spPr>
          <a:xfrm>
            <a:off x="6516720" y="2414520"/>
            <a:ext cx="2476440" cy="52236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rebuchet MS"/>
              </a:rPr>
              <a:t>1 лиц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: скругленные углы 14"/>
          <p:cNvSpPr/>
          <p:nvPr/>
        </p:nvSpPr>
        <p:spPr>
          <a:xfrm>
            <a:off x="6545160" y="3230640"/>
            <a:ext cx="2478240" cy="52236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rebuchet MS"/>
              </a:rPr>
              <a:t>2 лиц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: скругленные углы 15"/>
          <p:cNvSpPr/>
          <p:nvPr/>
        </p:nvSpPr>
        <p:spPr>
          <a:xfrm>
            <a:off x="6529320" y="3970440"/>
            <a:ext cx="2478240" cy="52236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rebuchet MS"/>
              </a:rPr>
              <a:t>3 лиц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Прямая со стрелкой 17"/>
          <p:cNvCxnSpPr>
            <a:endCxn id="244" idx="0"/>
          </p:cNvCxnSpPr>
          <p:nvPr/>
        </p:nvCxnSpPr>
        <p:spPr>
          <a:xfrm flipH="1">
            <a:off x="2123280" y="861480"/>
            <a:ext cx="793080" cy="6152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6" name="Прямая со стрелкой 19"/>
          <p:cNvCxnSpPr/>
          <p:nvPr/>
        </p:nvCxnSpPr>
        <p:spPr>
          <a:xfrm>
            <a:off x="4716360" y="914040"/>
            <a:ext cx="37440" cy="7088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7" name="Прямая со стрелкой 21"/>
          <p:cNvCxnSpPr/>
          <p:nvPr/>
        </p:nvCxnSpPr>
        <p:spPr>
          <a:xfrm>
            <a:off x="6501960" y="864720"/>
            <a:ext cx="1266120" cy="6087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58" name="Прямоугольник: скругленные углы 23"/>
          <p:cNvSpPr/>
          <p:nvPr/>
        </p:nvSpPr>
        <p:spPr>
          <a:xfrm>
            <a:off x="785880" y="4573440"/>
            <a:ext cx="6033960" cy="57816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rebuchet MS"/>
              </a:rPr>
              <a:t>в предложении быв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: скругленные углы 24"/>
          <p:cNvSpPr/>
          <p:nvPr/>
        </p:nvSpPr>
        <p:spPr>
          <a:xfrm>
            <a:off x="2519280" y="5327640"/>
            <a:ext cx="2841840" cy="52236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rebuchet MS"/>
              </a:rPr>
              <a:t>сказуем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Прямая со стрелкой 25"/>
          <p:cNvCxnSpPr/>
          <p:nvPr/>
        </p:nvCxnSpPr>
        <p:spPr>
          <a:xfrm>
            <a:off x="3606480" y="993600"/>
            <a:ext cx="1080" cy="35805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261" name="Picture 2" descr="https://ds04.infourok.ru/uploads/ex/025c/00045ba3-9e4e1ef6/hello_html_m787cd4b9.png"/>
          <p:cNvPicPr/>
          <p:nvPr/>
        </p:nvPicPr>
        <p:blipFill>
          <a:blip r:embed="rId2"/>
          <a:stretch/>
        </p:blipFill>
        <p:spPr>
          <a:xfrm>
            <a:off x="7440480" y="4514760"/>
            <a:ext cx="1851120" cy="2297160"/>
          </a:xfrm>
          <a:prstGeom prst="rect">
            <a:avLst/>
          </a:prstGeom>
          <a:ln w="0">
            <a:noFill/>
          </a:ln>
        </p:spPr>
      </p:pic>
      <p:cxnSp>
        <p:nvCxnSpPr>
          <p:cNvPr id="262" name="Прямая со стрелкой 26"/>
          <p:cNvCxnSpPr/>
          <p:nvPr/>
        </p:nvCxnSpPr>
        <p:spPr>
          <a:xfrm>
            <a:off x="6436800" y="1001520"/>
            <a:ext cx="57960" cy="48484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63" name="Прямоугольник: скругленные углы 27"/>
          <p:cNvSpPr/>
          <p:nvPr/>
        </p:nvSpPr>
        <p:spPr>
          <a:xfrm>
            <a:off x="4710240" y="5896080"/>
            <a:ext cx="2840040" cy="52236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rebuchet MS"/>
              </a:rPr>
              <a:t>спряг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https://theslide.ru/img/thumbs/1b132291bec14fd96f01897e78219ae0-800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https://myslide.ru/documents_2/69eb39fe1dabff45fcfd8caf869e1136/img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5T15:48:17Z</dcterms:created>
  <dc:creator>Admin</dc:creator>
  <dc:description/>
  <dc:language>en-US</dc:language>
  <cp:lastModifiedBy>D</cp:lastModifiedBy>
  <dcterms:modified xsi:type="dcterms:W3CDTF">2020-04-07T18:26:19Z</dcterms:modified>
  <cp:revision>8</cp:revision>
  <dc:subject/>
  <dc:title>Слайд 1</dc:title>
</cp:coreProperties>
</file>