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690-972D-4E3F-A09A-A7D5C7FC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20A-27A3-477E-9A95-9F5636AF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0D6-4B82-4277-935D-417BBC61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A33-BE69-4F87-A23E-6541A4A5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E79-17A3-4473-93DB-754E13F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BB3-F615-4E5D-BFEF-B20AC4B9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C48-46D9-48EB-ADC6-1E6E3252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CEA-2346-47E2-85FB-746D8B33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233-E185-4255-99E8-B8266EAA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9DB-2C65-422A-9286-83E4C1BB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068-CF06-4889-B612-ABDA124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564-AA3F-4E48-9C5B-237DFD2F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C469-943A-4642-893D-7B7C2F25A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00"/>
                </a:solidFill>
                <a:latin typeface="Times New Roman"/>
              </a:rPr>
              <a:t>История  создания </a:t>
            </a:r>
            <a:br>
              <a:rPr sz="7200"/>
            </a:br>
            <a:r>
              <a:rPr b="1" i="1" lang="en-US" sz="7200" spc="-1" strike="noStrike">
                <a:solidFill>
                  <a:srgbClr val="cc0000"/>
                </a:solidFill>
                <a:latin typeface="Times New Roman"/>
              </a:rPr>
              <a:t> книг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669080" cy="43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6600"/>
                </a:solidFill>
                <a:latin typeface="Arial"/>
              </a:rPr>
              <a:t>Гл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 более  ста  лет  назад  учёные  обнаружили  в  одном  из  дворцов  необычные  кирпичи:  тоненькие,  покрытые  мелкими  строчками  знаков,  похожих  на  клинья.  На  тонком  кирпиче – табличке,  лежащем  поверх  других,  было  написано:  «Того,  кто  посмеет  унести  эти  таблицы,  пусть  покарают  своим  гневом  великие  бог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7067520" cy="29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ёные  поняли,  что  попали  в  библиотек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6502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211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табличках было записано, сколько зерна собрано, сколько золота привезли из военного похода, сколько захвачено пл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ать  на  мягкой  глине  очень  удобн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ом  эту  табличку  совсем  как  кирпич  -  обжигали  в  печи,  и  она  становилась  лёгкой  и  проч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356000" y="378000"/>
            <a:ext cx="4510080" cy="61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обожжённые  глиняные  таблички  служили  и  школьными  тетрадями.  Можно  представить,  как  проходили  занятия  в  школе  тех  времё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79930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  учителем  сидят  восемь – десять  учеников.  У  каждого  чашка  с  хорошо  размешанной  мягкой  глиной.  Ученик  берёт  комок  глины,  разминает,  кладёт  в  деревянную рамочку  и  аккуратно  мокрой  ладонью  разглаживает.  Тетрадь  готова,  можно  писать…  К  концу  урока  табличка  высыхает  и  её  отдают  учителю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795312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9900"/>
                </a:solidFill>
                <a:latin typeface="Bauhaus 93"/>
              </a:rPr>
              <a:t>Папир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6084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Есть  такое  растение  - папирус.  Вдвое  выше  человека  и  ствол  в  руку  толщиной.  Рос  он  обильно  в  Африке,  по  берегам  рек  и  болот.  Но  ни  один  простой  человек  под  страхом  смерти  не  имел  права  его  срезат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есь  папирус  принадлежал  царям  -  фара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447640" cy="3267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00720" y="4005360"/>
            <a:ext cx="2556000" cy="25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24000" y="508428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 папирусе  писали  деревянной  палочкой  или  кисточкой,  чёрной  или  красной  краской.  А  потом  папирус  свёртывали  в  трубочку,  и  получался  свиток.  Его  удобно  было  доставлять  по  назначению,  хранить  во  дворцах  и  хра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688000" cy="46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9120" y="404640"/>
            <a:ext cx="3044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 ценился  он  так  потому,  что  на  папирусе  писали.  Толстые  стебли  тростника  разрезались  на  полосы,  полосы  склеивали  друг  с  другом  так,  чтобы  папирус  стал  плотнее.  Тростник  был  высоким,  поэтому  листы  были  дли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42100"/>
                </a:solidFill>
                <a:latin typeface="Arial"/>
              </a:rPr>
              <a:t>Пергамен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Овечью  или  козлиную  кожу  освобождали  от  шерсти,  вымачивали  и  долго  скоблили,  чтобы  она  стала  тонкой.  После  просушки  получался  прочный,  лёгкий  материал,  на  котором было  удобно  писать,  а  потом  сворачивать  в  сви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0828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43700"/>
                </a:solidFill>
                <a:latin typeface="Arial"/>
              </a:rPr>
              <a:t>Берестяные  грамо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2707920"/>
            <a:ext cx="34196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ши  предки  славяне  писали  на  бересте  -  коре  берё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48000" y="2781360"/>
            <a:ext cx="554508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Берестяные  книги  дошли  до  нашего 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58188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476856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 переписывать  царские  приказы,  вести  счёт  царскому  добру  -  драгоценностям,  награбленным  в  походах,  пленным,  трудившимся  на  строительстве  пирамид,  зерну,  отобранному  у  крестьян,  -  нанимались  писцы  из  числа  простых  люд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618160" cy="394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Arial"/>
              </a:rPr>
              <a:t>Библиотечное  занят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Arial"/>
              </a:rPr>
              <a:t>для  пятикласс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Цель  занятия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:  познакомить  учащихся  с  историей  создания 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6868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 в  папирусах,  кроме  перечисления  царского  добра,  можно  встретить  правдивые  слова  о  горькой  жизни  простого  народа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Половину  зерна  уничтожают  вредители,  гиппопотамы  пожирают  вторую  половину;  в  поле  полно  мышей,  налетает  саранча.  А  тут  к  берегу  пристаёт  сборщик  податей,  осматривает  поле,  его  помощники  держат  в  руках  палки  и  розги.  Они  говорят:  «Давай  зерно!»  А  если  его  нет,  бьют  земледельца,  связывают  его  и  бросают  в  канал,  связывают  жену  и  де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8424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Бума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38436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ли  годы  и  столетия.  И  забыли  постепенно  о  папирусе  и  пергаменте.  Потому  что  появилась  бумага.  Белая,  гладкая,  удобная.  Главное  -  дешё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4779720" cy="46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610320" cy="5037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252720" y="5445000"/>
            <a:ext cx="9396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мага  пришла  к  нам  с  Востока.  Её  изобрели  китайцы  около  двух  тысяч  лет  назад.  Они  варили  бумажную  массу  из  измельчённого  бамбука  или  тряп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66"/>
                </a:solidFill>
                <a:latin typeface="Arial"/>
              </a:rPr>
              <a:t>Рукописная кни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788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шественница  печатной  книги  -  рукописная  книга,  сделанная  на  бума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 разных  странах  стали  создаваться  целые  мастерские  по  изготовлению  кн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74328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48360" y="6093000"/>
            <a:ext cx="3671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траница греческой  рукописно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ниги «Хлудовская псалтырь» 8 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3924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ми  создателями  рукописных  книг  были  монах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кву  за  буквой  выводил  писец.  Строку  за  строкой.  А  художник  заполнял  страницы  рисунками.  Причудливым  шрифтом  писали  заглав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5529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4824360" cy="619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04640"/>
            <a:ext cx="39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аница древнерусской рукописной книги «Киевская псалтырь». 139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568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61135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ник с миниатюрами. Рукопись 18 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252360" y="476280"/>
            <a:ext cx="3456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ем  книгу «одевали»  в  переплёт,  украшенный  серебром  и  драгоценными  камня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ышки  переплёта  замыкались  застёжка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ниги  были  подлинным  произведением  искус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6862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92360" y="544500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оганн  Гутенбе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333360"/>
            <a:ext cx="4716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 очень  уж  медленно  -  иногда  целый  год  -  делается  всего  один  экземпляр  книги.  Поэтому  люди  стремились  упростить  процесс  изготовления  книг.  Удачнее  всех  это  сделал  немец Иоганн Гутенбер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54492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675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 стал  отливать  буквы – литеры  из  мета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057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  -  много  лет  тому  назад  не  было  ни  чернил,  ни  бумаги,  ни,  тем  более,  книг.  Все  рассказы  про  отважных  воинов,  все  сказки  про  Луну  и  Солнце  -  всё  рассказывали  вслух.  Но  как  трудно  запомнить  самые  разные  и  длинные  истории.  Поэтому  люди  придумали  рисовать  картинки,  которые  помогали  им  запоми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362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тенберг  изобрёл  печатный  ста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4012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356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ста  пятьдесят  лет  назад  в  России  замечательные  русские  мастера  Иван  Фёдоров  и  Пётр  Мстиславец  отпечатали  первую  книг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192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  была  церковная  книга  «Апостол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0236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Столетия  прошли  со  времени  изобретения  книгопечатания,  но  принцип  книгопечатания  остался  прежним:  на  печатную  форму  наносят  краску,  потом  к  форме  прижимают  лист  бумаги  -  на  бумаге  получается  оттиск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Только  теперь все процессы  автоматизированы,  что  чрезвычайно  убыстрило  произво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9145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Книг  выпускалось  всё  больше.  И  всё  больше  требовалось  бумаги.  Тогда  стали  придумывать  машины  для  быстрого  изготовления  бумаги.  И  бумагу  делают  сейчас  из  дерева.  Брёвна  рубят  в  щепки  в  рубильных  машинах.  Скажи  быстро:  «Раз,  два,  три!»  Ещё  скорее:  «Раздватри!».  А  машина  успела  за  это  время  изрубить  в  щепки  целое  бревно.  Щепки  варят  в  котлах  величиной    с  трёхэтажный  дом.  Варят  с  крепкой  кислотой  и  едкой  щёлочью.  Получается  деревянная  каша,  которой  все  бумажные  фабрики  «питаются».  Называется  она  -  целлюл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642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a50021"/>
                </a:solidFill>
                <a:latin typeface="BalticaC"/>
              </a:rPr>
              <a:t>Непрерывным  потоком  идут  в  цех  только  что  отпечатанные,  пахнущие  типографской  краской  листы.  Здесь  снова  «трудятся» машины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BalticaC"/>
              </a:rPr>
              <a:t>       </a:t>
            </a:r>
            <a:r>
              <a:rPr b="0" lang="en-US" sz="3600" spc="-1" strike="noStrike">
                <a:solidFill>
                  <a:srgbClr val="a50021"/>
                </a:solidFill>
                <a:latin typeface="BalticaC"/>
              </a:rPr>
              <a:t>Одни  подбирают  отпечатанные  листы  и  складывают  их  по  порядку,  другие  сшивают  их,  третьи  заклеивают  корешок.  Машины  же  и  одевают  книгу  в  переплёт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Потоком  выходят  из  типографии  книги  -  в                                                                                        библиотеки,  в  книжные  магаз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к  чит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46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1741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a50021"/>
                </a:solidFill>
                <a:latin typeface="BalticaC"/>
              </a:rPr>
              <a:t>«Книга, быть может, наиболее сложное и великое чудо из всех чудес, сотворенных человечеством на пути его к счастью и могуществу будущег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М. Гор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вская П. Слов драгоценные клады: рассказы о письменности / Утевская П. – М.: Дет. лит., 1970.- 47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рье С.Я. Письмо греческого мальчика / С.Я. Лурье. - М.: Дет. лит., 1970.- 47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бков Б. Книжка про книжку / Б. Зубков.- М.: Малыш, 1984. – 24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цкевич В. Как делают книгу: фотокнижка / В. Дацкевич. – М.: Дет. лит., 1987. – 24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ачук В.С. Дорогами тысячелет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Драчук В.С.- М.: Мол. гвардия, 1976.- 256с.: ил. - (Эвр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3924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исуют  озеро,  рядом  -  огромную  рыбу.  Картинка  -  память  об  удачной  ловле  рыб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исуют  холмы  и  реку,  а  среди  деревьев  и  холмов,  вдоль  реки  -  тропинка.  Это  память  о  дальнем  путеше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570120" cy="222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4725720" cy="23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403848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 ещё  такие  картинки  помогали  человеку  вести  хозяйств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Я  собрал  хороший  урожай,  у  меня  в  амбаре  сорок  мешков  гороха»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всё  это  можно  было  для  памяти  изобразить  в  картин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40784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чень  удачная  придумка  -  такие  картинки!  Они  применяются  и  в  наши дни. На спортивных  олимпиадах  повсюду  -  говорящие  картин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4292280"/>
            <a:ext cx="3384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исован  телефон  и  земной  шар  -  значит,  здесь  можно  поговорить  по  телефону  с  любым  горо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5056200" cy="35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6008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8080"/>
                </a:solidFill>
                <a:latin typeface="Harlow Solid Italic"/>
              </a:rPr>
              <a:t>Каме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3492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е  древние  письма,  дошедшие  до  нас,  написаны  на  ка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5002200" cy="4317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долинах  рек  Тигр  и  Евфрат  стоят  высокие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менные  столб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сплошь  покрытые  множеством  чёрточек.  Одно  поколение  людей  сменялось  другим,  и  никто  не  обращал  особого  внимания  на  эти  странные  камни  со  странными  узор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8642160" cy="39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3456000" cy="521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 anchorCtr="1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 однажды учёные догадались, что перед ними  -письмо,  письмо  из прошлого.      Врезанные  в  камень  строки  -  самое  долговечное 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51400" cy="527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7:52:27Z</dcterms:created>
  <dc:creator>1</dc:creator>
  <dc:description/>
  <dc:language>en-US</dc:language>
  <cp:lastModifiedBy>User</cp:lastModifiedBy>
  <dcterms:modified xsi:type="dcterms:W3CDTF">2009-04-10T15:04:09Z</dcterms:modified>
  <cp:revision>35</cp:revision>
  <dc:subject/>
  <dc:title>История  создания  книги</dc:title>
</cp:coreProperties>
</file>