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D34-0D05-4B2C-A1E1-84B1D529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D8A-F6C0-4791-8199-981A5BAE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489-CA45-4150-97A7-9A49B2F6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050B-7613-41F9-8A23-3FEAC3D0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006-AE86-4B29-9DFB-55348CE0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CF67-F6E5-4623-A0F7-DB44C355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F97-195B-4F4D-9BA1-EC2F07AA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850F-A2EC-4312-8CC0-A8CD010D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B7AB-0510-42CB-B555-F2584403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4CF6-5A63-4589-9257-0C7D6FF4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EE26-FF53-464F-ABD7-0259A31E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943-5732-4316-B286-5CA14C37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ACE7-9FCC-465E-B980-BBB7DEB4F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00"/>
                </a:solidFill>
                <a:latin typeface="Times New Roman"/>
              </a:rPr>
              <a:t>История  создания </a:t>
            </a:r>
            <a:br>
              <a:rPr sz="7200"/>
            </a:br>
            <a:r>
              <a:rPr b="1" i="1" lang="en-US" sz="7200" spc="-1" strike="noStrike">
                <a:solidFill>
                  <a:srgbClr val="cc0000"/>
                </a:solidFill>
                <a:latin typeface="Times New Roman"/>
              </a:rPr>
              <a:t> книг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7669080" cy="434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6600"/>
                </a:solidFill>
                <a:latin typeface="Arial"/>
              </a:rPr>
              <a:t>Гли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 более  ста  лет  назад  учёные  обнаружили  в  одном  из  дворцов  необычные  кирпичи:  тоненькие,  покрытые  мелкими  строчками  знаков,  похожих  на  клинья.  На  тонком  кирпиче – табличке,  лежащем  поверх  других,  было  написано:  «Того,  кто  посмеет  унести  эти  таблицы,  пусть  покарают  своим  гневом  великие  бог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7067520" cy="290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84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ёные  поняли,  что  попали  в  библиотек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65028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4211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табличках было записано, сколько зерна собрано, сколько золота привезли из военного похода, сколько захвачено пл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сать  на  мягкой  глине  очень  удобно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ом  эту  табличку  совсем  как  кирпич  -  обжигали  в  печи,  и  она  становилась  лёгкой  и  проч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356000" y="378000"/>
            <a:ext cx="4510080" cy="614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d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обожжённые  глиняные  таблички  служили  и  школьными  тетрадями.  Можно  представить,  как  проходили  занятия  в  школе  тех  времё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79930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д  учителем  сидят  восемь – десять  учеников.  У  каждого  чашка  с  хорошо  размешанной  мягкой  глиной.  Ученик  берёт  комок  глины,  разминает,  кладёт  в  деревянную рамочку  и  аккуратно  мокрой  ладонью  разглаживает.  Тетрадь  готова,  можно  писать…  К  концу  урока  табличка  высыхает  и  её  отдают  учителю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3645000"/>
            <a:ext cx="7953120" cy="29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9900"/>
                </a:solidFill>
                <a:latin typeface="Bauhaus 93"/>
              </a:rPr>
              <a:t>Папиру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608472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Есть  такое  растение  - папирус.  Вдвое  выше  человека  и  ствол  в  руку  толщиной.  Рос  он  обильно  в  Африке,  по  берегам  рек  и  болот.  Но  ни  один  простой  человек  под  страхом  смерти  не  имел  права  его  срезать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Весь  папирус  принадлежал  царям  -  фарао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447640" cy="3267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300720" y="4005360"/>
            <a:ext cx="2556000" cy="25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324000" y="508428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 папирусе  писали  деревянной  палочкой  или  кисточкой,  чёрной  или  красной  краской.  А  потом  папирус  свёртывали  в  трубочку,  и  получался  свиток.  Его  удобно  было  доставлять  по  назначению,  хранить  во  дворцах  и  хра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688000" cy="460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9120" y="404640"/>
            <a:ext cx="30448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 ценился  он  так  потому,  что  на  папирусе  писали.  Толстые  стебли  тростника  разрезались  на  полосы,  полосы  склеивали  друг  с  другом  так,  чтобы  папирус  стал  плотнее.  Тростник  был  высоким,  поэтому  листы  были  дли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42100"/>
                </a:solidFill>
                <a:latin typeface="Arial"/>
              </a:rPr>
              <a:t>Пергамен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Овечью  или  козлиную  кожу  освобождали  от  шерсти,  вымачивали  и  долго  скоблили,  чтобы  она  стала  тонкой.  После  просушки  получался  прочный,  лёгкий  материал,  на  котором было  удобно  писать,  а  потом  сворачивать  в  сви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608280" cy="39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43700"/>
                </a:solidFill>
                <a:latin typeface="Arial"/>
              </a:rPr>
              <a:t>Берестяные  грамот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2707920"/>
            <a:ext cx="34196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аши  предки  славяне  писали  на  бересте  -  коре  берё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348000" y="2781360"/>
            <a:ext cx="554508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Берестяные  книги  дошли  до  нашего 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58188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476856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 переписывать  царские  приказы,  вести  счёт  царскому  добру  -  драгоценностям,  награбленным  в  походах,  пленным,  трудившимся  на  строительстве  пирамид,  зерну,  отобранному  у  крестьян,  -  нанимались  писцы  из  числа  простых  люде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618160" cy="394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Arial"/>
              </a:rPr>
              <a:t>Библиотечное  занят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Arial"/>
              </a:rPr>
              <a:t>для  пятикласс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Цель  занятия</a:t>
            </a:r>
            <a:r>
              <a:rPr b="0" i="1" lang="en-US" sz="3200" spc="-1" strike="noStrike">
                <a:solidFill>
                  <a:srgbClr val="990000"/>
                </a:solidFill>
                <a:latin typeface="Times New Roman"/>
              </a:rPr>
              <a:t>:  познакомить  учащихся  с  историей  создания  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6868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ому  в  папирусах,  кроме  перечисления  царского  добра,  можно  встретить  правдивые  слова  о  горькой  жизни  простого  народа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Половину  зерна  уничтожают  вредители,  гиппопотамы  пожирают  вторую  половину;  в  поле  полно  мышей,  налетает  саранча.  А  тут  к  берегу  пристаёт  сборщик  податей,  осматривает  поле,  его  помощники  держат  в  руках  палки  и  розги.  Они  говорят:  «Давай  зерно!»  А  если  его  нет,  бьют  земледельца,  связывают  его  и  бросают  в  канал,  связывают  жену  и  дете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84247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Бумаг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338436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ли  годы  и  столетия.  И  забыли  постепенно  о  папирусе  и  пергаменте.  Потому  что  появилась  бумага.  Белая,  гладкая,  удобная.  Главное  -  дешё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67280" y="1916280"/>
            <a:ext cx="4779720" cy="46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610320" cy="5037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252720" y="5445000"/>
            <a:ext cx="9396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мага  пришла  к  нам  с  Востока.  Её  изобрели  китайцы  около  двух  тысяч  лет  назад.  Они  варили  бумажную  массу  из  измельчённого  бамбука  или  тряп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66"/>
                </a:solidFill>
                <a:latin typeface="Arial"/>
              </a:rPr>
              <a:t>Рукописная книг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4788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шественница  печатной  книги  -  рукописная  книга,  сделанная  на  бума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 разных  странах  стали  создаваться  целые  мастерские  по  изготовлению  кни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743280" cy="4608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48360" y="6093000"/>
            <a:ext cx="36716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траница греческой  рукописно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ниги «Хлудовская псалтырь» 8 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39243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ыми  создателями  рукописных  книг  были  монах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кву  за  буквой  выводил  писец.  Строку  за  строкой.  А  художник  заполнял  страницы  рисунками.  Причудливым  шрифтом  писали  заглави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84720" y="260280"/>
            <a:ext cx="45529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95640" y="333360"/>
            <a:ext cx="4824360" cy="619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04640"/>
            <a:ext cx="39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раница древнерусской рукописной книги «Киевская псалтырь». 1397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7800" cy="568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61135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ник с миниатюрами. Рукопись 18 в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252360" y="476280"/>
            <a:ext cx="3456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тем  книгу «одевали»  в  переплёт,  украшенный  серебром  и  драгоценными  камням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ышки  переплёта  замыкались  застёжкам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ниги  были  подлинным  произведением  искус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03640" y="333360"/>
            <a:ext cx="56862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292360" y="5445000"/>
            <a:ext cx="360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оганн  Гутенбер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333360"/>
            <a:ext cx="47163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 очень  уж  медленно  -  иногда  целый  год  -  делается  всего  один  экземпляр  книги.  Поэтому  люди  стремились  упростить  процесс  изготовления  книг.  Удачнее  всех  это  сделал  немец Иоганн Гутенбер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92720" y="333360"/>
            <a:ext cx="354492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675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 стал  отливать  буквы – литеры  из  метал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0576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  -  много  лет  тому  назад  не  было  ни  чернил,  ни  бумаги,  ни,  тем  более,  книг.  Все  рассказы  про  отважных  воинов,  все  сказки  про  Луну  и  Солнце  -  всё  рассказывали  вслух.  Но  как  трудно  запомнить  самые  разные  и  длинные  истории.  Поэтому  люди  придумали  рисовать  картинки,  которые  помогали  им  запоми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362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тенберг  изобрёл  печатный  ста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74012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356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ыреста  пятьдесят  лет  назад  в  России  замечательные  русские  мастера  Иван  Фёдоров  и  Пётр  Мстиславец  отпечатали  первую  книг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41929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91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о  была  церковная  книга  «Апостол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90236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Столетия  прошли  со  времени  изобретения  книгопечатания,  но  принцип  книгопечатания  остался  прежним:  на  печатную  форму  наносят  краску,  потом  к  форме  прижимают  лист  бумаги  -  на  бумаге  получается  оттиск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Только  теперь все процессы  автоматизированы,  что  чрезвычайно  убыстрило  производ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252360" y="260280"/>
            <a:ext cx="91454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Книг  выпускалось  всё  больше.  И  всё  больше  требовалось  бумаги.  Тогда  стали  придумывать  машины  для  быстрого  изготовления  бумаги.  И  бумагу  делают  сейчас  из  дерева.  Брёвна  рубят  в  щепки  в  рубильных  машинах.  Скажи  быстро:  «Раз,  два,  три!»  Ещё  скорее:  «Раздватри!».  А  машина  успела  за  это  время  изрубить  в  щепки  целое  бревно.  Щепки  варят  в  котлах  величиной    с  трёхэтажный  дом.  Варят  с  крепкой  кислотой  и  едкой  щёлочью.  Получается  деревянная  каша,  которой  все  бумажные  фабрики  «питаются».  Называется  она  -  целлюл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6421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351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a50021"/>
                </a:solidFill>
                <a:latin typeface="BalticaC"/>
              </a:rPr>
              <a:t>Непрерывным  потоком  идут  в  цех  только  что  отпечатанные,  пахнущие  типографской  краской  листы.  Здесь  снова  «трудятся» машины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BalticaC"/>
              </a:rPr>
              <a:t>       </a:t>
            </a:r>
            <a:r>
              <a:rPr b="0" lang="en-US" sz="3600" spc="-1" strike="noStrike">
                <a:solidFill>
                  <a:srgbClr val="a50021"/>
                </a:solidFill>
                <a:latin typeface="BalticaC"/>
              </a:rPr>
              <a:t>Одни  подбирают  отпечатанные  листы  и  складывают  их  по  порядку,  другие  сшивают  их,  третьи  заклеивают  корешок.  Машины  же  и  одевают  книгу  в  переплёт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Потоком  выходят  из  типографии  книги  -  в                                                                                        библиотеки,  в  книжные  магази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к  читат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466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17416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a50021"/>
                </a:solidFill>
                <a:latin typeface="BalticaC"/>
              </a:rPr>
              <a:t>«Книга, быть может, наиболее сложное и великое чудо из всех чудес, сотворенных человечеством на пути его к счастью и могуществу будущего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М. Горь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евская П. Слов драгоценные клады: рассказы о письменности / Утевская П. – М.: Дет. лит., 1970.- 47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рье С.Я. Письмо греческого мальчика / С.Я. Лурье. - М.: Дет. лит., 1970.- 47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убков Б. Книжка про книжку / Б. Зубков.- М.: Малыш, 1984. – 24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цкевич В. Как делают книгу: фотокнижка / В. Дацкевич. – М.: Дет. лит., 1987. – 24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ачук В.С. Дорогами тысячелет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 Драчук В.С.- М.: Мол. гвардия, 1976.- 256с.: ил. - (Эври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765000"/>
            <a:ext cx="3924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исуют  озеро,  рядом  -  огромную  рыбу.  Картинка  -  память  об  удачной  ловле  рыб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исуют  холмы  и  реку,  а  среди  деревьев  и  холмов,  вдоль  реки  -  тропинка.  Это  память  о  дальнем  путешеств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32360" y="765000"/>
            <a:ext cx="3570120" cy="2222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40360" y="3860640"/>
            <a:ext cx="4725720" cy="23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403848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 ещё  такие  картинки  помогали  человеку  вести  хозяйство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Я  собрал  хороший  урожай,  у  меня  в  амбаре  сорок  мешков  гороха»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всё  это  можно  было  для  памяти  изобразить  в  картин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16360" y="765000"/>
            <a:ext cx="407844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91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чень  удачная  придумка  -  такие  картинки!  Они  применяются  и  в  наши дни. На спортивных  олимпиадах  повсюду  -  говорящие  картинк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4292280"/>
            <a:ext cx="33843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исован  телефон  и  земной  шар  -  значит,  здесь  можно  поговорить  по  телефону  с  любым  город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780000" y="2997360"/>
            <a:ext cx="5056200" cy="359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46008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808080"/>
                </a:solidFill>
                <a:latin typeface="Harlow Solid Italic"/>
              </a:rPr>
              <a:t>Камен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3492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мые  древние  письма,  дошедшие  до  нас,  написаны  на  кам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51280" y="2276640"/>
            <a:ext cx="5002200" cy="4317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 долинах  рек  Тигр  и  Евфрат  стоят  высокие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менные  столб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сплошь  покрытые  множеством  чёрточек.  Одно  поколение  людей  сменялось  другим,  и  никто  не  обращал  особого  внимания  на  эти  странные  камни  со  странными  узора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2637000"/>
            <a:ext cx="8642160" cy="393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3456000" cy="5216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 anchorCtr="1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 однажды учёные догадались, что перед ними  -письмо,  письмо  из прошлого.      Врезанные  в  камень  строки  -  самое  долговечное  письм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64000" y="1341360"/>
            <a:ext cx="5351400" cy="527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07:52:27Z</dcterms:created>
  <dc:creator>1</dc:creator>
  <dc:description/>
  <dc:language>en-US</dc:language>
  <cp:lastModifiedBy>User</cp:lastModifiedBy>
  <dcterms:modified xsi:type="dcterms:W3CDTF">2009-04-10T15:04:09Z</dcterms:modified>
  <cp:revision>35</cp:revision>
  <dc:subject/>
  <dc:title>История  создания  книги</dc:title>
</cp:coreProperties>
</file>