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FDE-464E-42C2-971E-DD29E1F7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1B2-5858-4399-92DB-A252AC1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20A-3DED-491A-9E56-3264E60C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83B-BCCE-45B5-9C62-C677CBE2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200-6A9B-4BCF-ADC3-EA440653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50A-AD2F-4F7D-A9B3-F8171AE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E2A-9A29-48BE-AB43-F6D2034B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005-38DA-4EC2-ACC1-CA3FB9C8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7CC-04A3-495C-A7AC-CA22661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C25-B020-4EB0-B099-BBC626C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BF1-70B4-4A3F-A1B7-A4FAD93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3CE-86EC-4E2C-A396-F800343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4BBB-6B5C-4351-89E5-910088CB71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id77/20200793/340588/340588_original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00120"/>
            <a:ext cx="822960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23600" y="11808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читать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§ 17 стр.13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росмотреть презент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выполнить вопрос №9 стр.149 (п). – </a:t>
            </a:r>
            <a:r>
              <a:rPr b="0" i="1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заполнить таблицу в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609480" y="38088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Крестовый поход феод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3344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На захваченных землях – узкой полосе вдоль моря – крестоносцы 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создали несколько феодальных государств</a:t>
            </a:r>
            <a:r>
              <a:rPr b="1" lang="ru-RU" sz="2700" spc="-1" strike="noStrike">
                <a:solidFill>
                  <a:srgbClr val="000066"/>
                </a:solidFill>
                <a:latin typeface="Georgia"/>
              </a:rPr>
              <a:t>.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Местное население становилось зависимым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от новых владельцев земель – европейских феод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Главным из них считалось</a:t>
            </a:r>
            <a:r>
              <a:rPr b="1" lang="ru-RU" sz="27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Иерусалимское королевство,</a:t>
            </a:r>
            <a:r>
              <a:rPr b="1" lang="ru-RU" sz="27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правители других государств крестоносцев были его вассал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0" y="157320"/>
            <a:ext cx="9144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ДУХОВНО-РЫЦАРСКИЕ ОРДЕНЫ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52280" y="817560"/>
            <a:ext cx="54864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бороны и расширения владений крестоносцев вскоре после Первого Крестового похода в Палестине были созданы духовно-рыцарские ордены: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тамплиеров (храмовники), госпитальеров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позднее возник и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евтонский орден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объединивший немецких рыцар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лены орденов были одновременно и монахами, и рыцарями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&amp;Tcy;&amp;ocy;&amp;kcy;-&amp;shcy;&amp;ocy;&amp;ucy; &quot;&amp;Scy;&amp;icy;&amp;dcy;&amp;icy;&amp;mcy; &amp;dcy;&amp;ocy;&amp;mcy;&amp;acy;&quot;"/>
          <p:cNvPicPr/>
          <p:nvPr/>
        </p:nvPicPr>
        <p:blipFill>
          <a:blip r:embed="rId1"/>
          <a:stretch/>
        </p:blipFill>
        <p:spPr>
          <a:xfrm>
            <a:off x="5759280" y="1790640"/>
            <a:ext cx="3384720" cy="23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Борьба народов Ближнего Востока против крестоносц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67080" y="1333440"/>
            <a:ext cx="472464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торой Крестовый поход закончился крах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Государства крестоносцев не были едиными и мусульманские княжества с востока и юга постепенно отвоевывали их земли (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Georgia"/>
              </a:rPr>
              <a:t>Эдесса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Третий Крестовый по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257120"/>
            <a:ext cx="40384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Его правитель </a:t>
            </a:r>
            <a:r>
              <a:rPr b="1" lang="ru-RU" sz="2600" spc="-1" strike="noStrike">
                <a:solidFill>
                  <a:srgbClr val="ff0000"/>
                </a:solidFill>
                <a:latin typeface="Georgia"/>
              </a:rPr>
              <a:t>Салах ад-Дин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 (Саладин) сумел в нескольких сражениях разгромить крестоносцев, в плен попали король Иерусалима и магистр ордена тамплиер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 конце </a:t>
            </a: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XII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века мусульмане создали сильное государ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Третий Крестовый по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05160" y="1180800"/>
            <a:ext cx="38862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Жители-христиане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     за выкуп могли покинуть город,                          те, кто не смог заплатить выкуп, были                  проданы в рабство (15 тыс.чел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187 г.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осле недолгой осады Саладин захватил Иерусали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eorgia"/>
              </a:rPr>
              <a:t>Третий Крестовый по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104480"/>
            <a:ext cx="4038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озглавлявший немецких рыцарей император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Фридрих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Барбаросса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погиб в Малой Азии,                               а его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войско вернулось до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Для возвращения Иерусалима был организован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Третий Крестовый поход (1189-1192 г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Третий Крестовый похо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952200"/>
            <a:ext cx="40384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Французские и английские рыцари во главе с королями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Филиппом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 Августом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и 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Ричардом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 Львиное Сердце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действовали несогласованно.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Не добившись успеха французские рыцари    во главе с королем </a:t>
            </a:r>
            <a:r>
              <a:rPr b="1" lang="ru-RU" sz="2600" spc="-1" strike="noStrike">
                <a:solidFill>
                  <a:srgbClr val="ff0000"/>
                </a:solidFill>
                <a:latin typeface="Georgia"/>
              </a:rPr>
              <a:t>вернулись дом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rusadeLeaders"/>
          <p:cNvPicPr/>
          <p:nvPr/>
        </p:nvPicPr>
        <p:blipFill>
          <a:blip r:embed="rId1"/>
          <a:stretch/>
        </p:blipFill>
        <p:spPr>
          <a:xfrm>
            <a:off x="384120" y="749160"/>
            <a:ext cx="3584520" cy="4535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0" y="52624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Филипп </a:t>
            </a:r>
            <a:r>
              <a:rPr b="0" lang="en-US" sz="1600" spc="-1" strike="noStrike">
                <a:solidFill>
                  <a:srgbClr val="800000"/>
                </a:solidFill>
                <a:latin typeface="Georgia"/>
              </a:rPr>
              <a:t>II</a:t>
            </a: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 Август и Ричард Львиное Серд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Четвертый Крестовый похо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18116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Крестоносцы должны были высадиться в Египте, но Венецианский правитель (дож) потребовал огромную сумму за перевозку и рыцари не могли ее уплати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апа Иннокентий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III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организовал Четвертый Крестовый пох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енецианцы уговорили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рестоносцев захватить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христианский город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Константинополь.              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1204 г.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его взяли штурмом и разграбили.        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оход на Иерусалим не состоялся.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На территории Византии крестоносцы создали 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Латинскую империю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340588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5200" y="2535120"/>
            <a:ext cx="4797720" cy="31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26920" y="525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52280" y="3813120"/>
            <a:ext cx="87854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Во Франции в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212 г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начался новый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Крестовый поход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, в котором приняли участие только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ти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тобы без оружия с именем божьим на устах освободить Иерусал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25 тысяч детей со всей Европы пришли в Итал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Там их посадили на корабли и, вывезя в Африку,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родали в раб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59582214"/>
          <p:cNvPicPr/>
          <p:nvPr/>
        </p:nvPicPr>
        <p:blipFill>
          <a:blip r:embed="rId1"/>
          <a:stretch/>
        </p:blipFill>
        <p:spPr>
          <a:xfrm>
            <a:off x="79200" y="208080"/>
            <a:ext cx="8534520" cy="3608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1230480" y="538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РЕСТОВЫЙ ПОХОД ДЕТЕЙ - 12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7480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Крестовые пох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  <a:ea typeface="Arial"/>
              </a:rPr>
              <a:t>§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кончание Крестовых по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19700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Жители Европы потеряли интерес к походам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291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году, после 8-го крестового похода были потеряны все владения на Востоке,                                          их столица – Акра - п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Несмотря на дальнейшие попытки отвоевать Святую землю,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се походы заканчивались неудачно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.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36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Окончание Крестовых походов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26920" y="525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ext Box 4"/>
          <p:cNvGrpSpPr/>
          <p:nvPr/>
        </p:nvGrpSpPr>
        <p:grpSpPr>
          <a:xfrm>
            <a:off x="371520" y="633240"/>
            <a:ext cx="8632800" cy="4737240"/>
            <a:chOff x="371520" y="633240"/>
            <a:chExt cx="8632800" cy="4737240"/>
          </a:xfrm>
        </p:grpSpPr>
        <p:pic>
          <p:nvPicPr>
            <p:cNvPr id="103" name="Text Box 4" descr=""/>
            <p:cNvPicPr/>
            <p:nvPr/>
          </p:nvPicPr>
          <p:blipFill>
            <a:blip r:embed="rId1"/>
            <a:stretch/>
          </p:blipFill>
          <p:spPr>
            <a:xfrm>
              <a:off x="371520" y="633240"/>
              <a:ext cx="863280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0880" y="647640"/>
              <a:ext cx="861084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Походы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принесли несчастья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жителям восточных стран  и разорение для жителей Европы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Но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проложив дорогу на Восток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, рыцари способствовали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развитию торгов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Европейцы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многое взяли на Востоке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- шелк и стекло,  рис и гречиха, лимоны и сахар, арбузы и абрикос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Изменился и быт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европейцев - они стали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соблюдать гигиену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, мыться в банях, менять бельё и одежд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Georgia"/>
                </a:rPr>
                <a:t>Феодалы стали стремиться к роскоши, а для этого требовались деньги, поэтому в Европе стали быстро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Georgia"/>
                </a:rPr>
                <a:t>развиваться товарно-денежные отношения</a:t>
              </a:r>
              <a:r>
                <a:rPr b="0" i="1" lang="ru-RU" sz="2000" spc="-1" strike="noStrike">
                  <a:solidFill>
                    <a:srgbClr val="c00000"/>
                  </a:solidFill>
                  <a:latin typeface="Georgi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3960" y="2663640"/>
            <a:ext cx="403848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Домашня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3669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читать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§ 17 стр.13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росмотреть презент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выполнить вопрос №9 стр.149 (п). – </a:t>
            </a:r>
            <a:r>
              <a:rPr b="0" i="1" lang="ru-RU" sz="3200" spc="-1" strike="noStrike">
                <a:solidFill>
                  <a:srgbClr val="ff0000"/>
                </a:solidFill>
                <a:latin typeface="Georgia"/>
                <a:ea typeface="Arial"/>
              </a:rPr>
              <a:t>заполнить таблицу в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609480" y="380880"/>
            <a:ext cx="76964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Призыв к Крестовым поход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952200"/>
            <a:ext cx="7848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1095 г.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апа римский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Урбан </a:t>
            </a: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II</a:t>
            </a: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своей речи перед огромной толпой народа около города  </a:t>
            </a:r>
            <a:r>
              <a:rPr b="1" i="1" lang="ru-RU" sz="2400" spc="-1" strike="noStrike">
                <a:solidFill>
                  <a:srgbClr val="cc3300"/>
                </a:solidFill>
                <a:latin typeface="Georgia"/>
              </a:rPr>
              <a:t>Клермон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ризвал христиан «опоясаться мечом»  и двинуться в Палестину, чтобы освободить от мусульман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Гроб Господень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городе </a:t>
            </a: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Иерусалиме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Призыв к Крестовым поход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33344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66"/>
                </a:solidFill>
                <a:latin typeface="Georgia"/>
              </a:rPr>
              <a:t>Всем, кто примет участие в походе, папа обещал полное прощение грехов. Многие с возгласами  </a:t>
            </a:r>
            <a:r>
              <a:rPr b="1" i="1" lang="ru-RU" sz="3100" spc="-1" strike="noStrike">
                <a:solidFill>
                  <a:srgbClr val="006600"/>
                </a:solidFill>
                <a:latin typeface="Georgia"/>
              </a:rPr>
              <a:t>«Так хочет Бог»</a:t>
            </a:r>
            <a:r>
              <a:rPr b="1" lang="ru-RU" sz="31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0" lang="ru-RU" sz="3100" spc="-1" strike="noStrike">
                <a:solidFill>
                  <a:srgbClr val="000066"/>
                </a:solidFill>
                <a:latin typeface="Georgia"/>
              </a:rPr>
              <a:t>тут же нашивали себе на одежды кресты из красной материи.                                Поэтому участников походов на Восток стали называть </a:t>
            </a:r>
            <a:r>
              <a:rPr b="1" i="1" lang="ru-RU" sz="3100" spc="-1" strike="noStrike">
                <a:solidFill>
                  <a:srgbClr val="cc3300"/>
                </a:solidFill>
                <a:latin typeface="Georgia"/>
              </a:rPr>
              <a:t>крестоносцами</a:t>
            </a:r>
            <a:r>
              <a:rPr b="1" lang="ru-RU" sz="3100" spc="-1" strike="noStrike">
                <a:solidFill>
                  <a:srgbClr val="cc3300"/>
                </a:solidFill>
                <a:latin typeface="Georgia"/>
              </a:rPr>
              <a:t>, </a:t>
            </a:r>
            <a:r>
              <a:rPr b="0" lang="ru-RU" sz="3100" spc="-1" strike="noStrike">
                <a:solidFill>
                  <a:srgbClr val="000066"/>
                </a:solidFill>
                <a:latin typeface="Georgia"/>
              </a:rPr>
              <a:t>а сами походы -   </a:t>
            </a:r>
            <a:r>
              <a:rPr b="1" i="1" lang="ru-RU" sz="3100" spc="-1" strike="noStrike">
                <a:solidFill>
                  <a:srgbClr val="cc3300"/>
                </a:solidFill>
                <a:latin typeface="Georgia"/>
              </a:rPr>
              <a:t>крестовыми.</a:t>
            </a:r>
            <a:r>
              <a:rPr b="1" lang="ru-RU" sz="31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7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Призыв к Крестовым поход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33308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Georgia"/>
              </a:rPr>
              <a:t>Безземельные рыцари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были заинтересованы в восточных товарах и мечтали разбогатеть за счет грабежа богатых город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Georgia"/>
              </a:rPr>
              <a:t>Духовенство хотело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распространить свою власть                на Восто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3440"/>
            <a:ext cx="40384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 конце </a:t>
            </a: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XI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. Европа переживала голод и эпидем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рестьяне мечтали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о Палестине, желая избавиться от хозяев и получить зем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9280" y="878040"/>
          <a:ext cx="8712360" cy="533160"/>
        </p:xfrm>
        <a:graphic>
          <a:graphicData uri="http://schemas.openxmlformats.org/drawingml/2006/table">
            <a:tbl>
              <a:tblPr/>
              <a:tblGrid>
                <a:gridCol w="2178000"/>
                <a:gridCol w="2251080"/>
                <a:gridCol w="2178360"/>
                <a:gridCol w="2104920"/>
              </a:tblGrid>
              <a:tr h="533160">
                <a:tc>
                  <a:txBody>
                    <a:bodyPr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  <a:ea typeface="Courier New"/>
                        </a:rPr>
                        <a:t>КАТОЛИЧЕСКАЯ ЦЕРКОВ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  <a:ea typeface="Courier New"/>
                        </a:rPr>
                        <a:t>КРЕСТЬЯН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  <a:ea typeface="Courier New"/>
                        </a:rPr>
                        <a:t>И БЕДНЯ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  <a:ea typeface="Courier New"/>
                        </a:rPr>
                        <a:t>ФЕОДА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  <a:ea typeface="Courier New"/>
                        </a:rPr>
                        <a:t>ГОРОЖАН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54" name="Заголовок 2"/>
          <p:cNvSpPr/>
          <p:nvPr/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Arial"/>
              </a:rPr>
              <a:t>КАКОВЫ ЦЕЛИ ЦЕРКВИ, КРЕСТЬЯН, БЕДНЯКОВ, ФЕОДАЛОВ, ГОРОЖАН К УЧАСТИЮ В КРЕСТОВЫХ ПОХ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536840"/>
          <a:ext cx="2160720" cy="210024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2100240"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Усилить влияние Папы, захват новых территорий и богат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411280" y="1536840"/>
          <a:ext cx="2160720" cy="258120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25812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Избавиться от гнёта феодалов, превратиться в свободных землевладельцев на свободных земля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716360" y="1536840"/>
          <a:ext cx="2087640" cy="210024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00240"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Захват новых земель, обогатиться иметь предметы роскош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948360" y="1536840"/>
          <a:ext cx="2016360" cy="2101680"/>
        </p:xfrm>
        <a:graphic>
          <a:graphicData uri="http://schemas.openxmlformats.org/drawingml/2006/table">
            <a:tbl>
              <a:tblPr/>
              <a:tblGrid>
                <a:gridCol w="2016360"/>
              </a:tblGrid>
              <a:tr h="2150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Захватить торговлю по Средиземному морю, получить торговые льготы в городах Сирии и Палести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Крестовый поход бедн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87624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ервыми по призыву Петра Пустынника в поход двинулись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бедня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ни были не подготовлены, почти не вооружены, но верили, что Бог поможет им одолеть врагов и освободить </a:t>
            </a:r>
            <a:r>
              <a:rPr b="0" lang="ru-RU" sz="2400" spc="-1" strike="noStrike">
                <a:solidFill>
                  <a:srgbClr val="cc3300"/>
                </a:solidFill>
                <a:latin typeface="Georgia"/>
              </a:rPr>
              <a:t>Иерусал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 пути они просили милостыню и часто грабили местное насел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Византийский император поспешил переправить их в Азию, где в первом же сражении с турками почти         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все они были убиты или взяты в пл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Крестовый поход феод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040" y="95256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Их отряды объединились в Константинополе, переправились в Малую Азию и в решающем сражении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азгромили турок-сельджуков.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95120"/>
            <a:ext cx="4038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Осенью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096 г.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             под руководством крупных феодалов               в поход отправились отряды рыцарей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Франции, Германии  и Итал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Georgia"/>
              </a:rPr>
              <a:t>Крестовый поход феод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0288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099 г. 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осле месячной осады крестоносцы штурмом взяли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Иерусалим</a:t>
            </a: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. Почти все его жители-мусульмане были убиты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80800"/>
            <a:ext cx="40384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Georgia"/>
              </a:rPr>
              <a:t>По пути к Иерусалиму крестоносцы захватывали и грабили города, ссорились между собой     из-за добы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фор Маточ</dc:creator>
  <dc:description/>
  <dc:language>en-US</dc:language>
  <cp:lastModifiedBy>1</cp:lastModifiedBy>
  <dcterms:modified xsi:type="dcterms:W3CDTF">2020-04-07T05:31:55Z</dcterms:modified>
  <cp:revision>159</cp:revision>
  <dc:subject/>
  <dc:title>Крестовые по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