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0.png" ContentType="image/png"/>
  <Override PartName="/ppt/media/image7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7830-71CE-401C-A945-894E3A72B4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D55D-85EB-43BC-8E5D-8F59EE74F1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9552-3043-49C5-8706-4FA4E1BF39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ABCC-AEC8-4F6D-9050-02344DC902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AFB5-2C22-4297-903B-661CC8C924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3DAB-E3E2-42C1-986A-C03BB5912F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4AD5-72E1-471F-8CD3-F90EF6318C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A6EE-A742-4778-8A08-5D8FB63D18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C82B-031D-4333-BB24-A3269604C8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A472-F40C-46DD-B3AC-755E127C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F299-9CF7-403F-9104-A36BA96F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3AB2-F6C2-4719-9E64-FE49B04D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51CD-C3D9-49A6-AFDC-2AD882FE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C64F-4BC6-4A9E-9344-003401DB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FC93-B966-450E-A278-7AD1AE09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F3BD-1688-4C76-B9BD-2F4155B7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6036-F456-4713-B713-3296FABD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E52A-A5A6-4D34-9C4B-84A427C9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9EAA-8245-445C-9F4E-3E46B216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0542-3115-4A89-BB46-2ECE61DF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0C19-5404-42FE-8C46-5B471E04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FA44-1672-4971-ADD2-98BE02B3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8E4D-54FC-4829-A40A-AFDC2D60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F32E-2E85-41B4-8977-789D3E1B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4AA3-0FD5-470B-88B1-0ACA1A5F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A31D-62D6-4042-89A6-96F2DC26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98CBB-AC10-480C-A2EA-981D3462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452D7-EA9A-424E-A51A-12A796C0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C70D8-36C9-43C1-9D88-DE6713FF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B0F10-57BB-456C-9580-3FA6C05E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F186D-D6EC-4B9A-B301-7615C084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7002-B43B-48FF-96E6-32167DCD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6666D-2027-4E54-99FF-92CA7B36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5E39F-A5B5-45BC-9E96-5E959D0C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82EFD-3380-450D-B54D-B54F9F5C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AA46E-C737-45F0-B126-7959DFCB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D4CC9-B8A5-41C8-A16F-4BC21833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0560F-984D-4D8B-9DFC-E0D641CB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41E4C-23F2-418C-BB23-DC88C831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980CF-F930-489C-B197-BF849D2F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DC1E2-0958-4A27-AA18-47F9A4EE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077BF-34C6-461B-922F-4230EDB6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315B-0EC3-48F6-9C5F-7AA0345B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243AC-36A6-41BB-AD91-88218EDB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806D8-B5EA-43EC-AFBA-72F6CFAB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1641A-41A5-45C7-9917-DE7E3464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E3023-4114-4BBC-9349-7A78A81E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9025B-DE76-4AF5-A944-164222BA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5CCA1-9F1C-41DD-B72D-B4C2AC1C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2B6F0-24A1-44C3-9575-96D026FA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99463-5286-48CA-9C50-EBAD0818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1617B-56B5-484A-844E-FAA3EFA2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21DA-C677-4F7E-B6C1-9C9F96AF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6757-82A1-4713-87E6-6299A473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39D6-C436-4089-8C7C-098774D8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8CF3-C556-4556-B53F-FC680884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4E75-9D2D-4E2C-9058-3E6E629A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9E00-06FA-4425-8988-A7CC4B5311E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50C9-4914-47BC-9E69-E787AE8BE99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333A-8AB3-43D7-8314-1505490B5DC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F5C8-5E7A-418D-844E-17A4D560ED2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90c226"/>
                </a:solidFill>
                <a:latin typeface="Trebuchet MS"/>
              </a:rPr>
              <a:t>Тема урока: </a:t>
            </a:r>
            <a:r>
              <a:rPr b="0" i="1" lang="ru-RU" sz="4800" spc="-1" strike="noStrike">
                <a:solidFill>
                  <a:srgbClr val="90c226"/>
                </a:solidFill>
                <a:latin typeface="Trebuchet MS"/>
              </a:rPr>
              <a:t>Магазин промышленных товаров.</a:t>
            </a:r>
            <a:r>
              <a:rPr b="0" lang="ru-RU" sz="4800" spc="-1" strike="noStrike">
                <a:solidFill>
                  <a:srgbClr val="90c226"/>
                </a:solidFill>
                <a:latin typeface="Trebuchet MS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7f7f7f"/>
                </a:solidFill>
                <a:latin typeface="Trebuchet MS"/>
              </a:rPr>
              <a:t>6 класс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7f7f7f"/>
                </a:solidFill>
                <a:latin typeface="Trebuchet MS"/>
              </a:rPr>
              <a:t>Социально-бытовая ориентировка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cc0000"/>
                </a:solidFill>
                <a:latin typeface="Trebuchet MS"/>
              </a:rPr>
              <a:t>Головные убор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4" name="Picture 6" descr="шапки 2"/>
          <p:cNvPicPr/>
          <p:nvPr/>
        </p:nvPicPr>
        <p:blipFill>
          <a:blip r:embed="rId1"/>
          <a:stretch/>
        </p:blipFill>
        <p:spPr>
          <a:xfrm>
            <a:off x="639720" y="1897200"/>
            <a:ext cx="3008520" cy="1993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Шапки, кепки и ушанки подберём для каждого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тоб комфортно было вам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А ведь это важно нам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cc0000"/>
                </a:solidFill>
                <a:latin typeface="Trebuchet MS"/>
              </a:rPr>
              <a:t>Галантерея</a:t>
            </a:r>
            <a:r>
              <a:rPr b="0" lang="ru-RU" sz="3600" spc="-1" strike="noStrike">
                <a:solidFill>
                  <a:srgbClr val="cc0000"/>
                </a:solidFill>
                <a:latin typeface="Trebuchet MS"/>
              </a:rPr>
              <a:t>- мелкие принадлежности личного обиход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7" name="Picture 6" descr="кожа 2"/>
          <p:cNvPicPr/>
          <p:nvPr/>
        </p:nvPicPr>
        <p:blipFill>
          <a:blip r:embed="rId1"/>
          <a:stretch/>
        </p:blipFill>
        <p:spPr>
          <a:xfrm>
            <a:off x="468360" y="1773360"/>
            <a:ext cx="3628800" cy="33843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64832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десь предложат вам ремни, зонтики, перчатки, кошельки, платки, шарфы – Взрослым и ребяткам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500" spc="-1" strike="noStrike">
                <a:solidFill>
                  <a:srgbClr val="cc0000"/>
                </a:solidFill>
                <a:latin typeface="Trebuchet MS"/>
              </a:rPr>
              <a:t>Парфюмерия </a:t>
            </a:r>
            <a:r>
              <a:rPr b="0" lang="ru-RU" sz="2500" spc="-1" strike="noStrike">
                <a:solidFill>
                  <a:srgbClr val="cc0000"/>
                </a:solidFill>
                <a:latin typeface="Trebuchet MS"/>
              </a:rPr>
              <a:t>- ароматические , косметические товары, гигиенические освежающие средства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0" name="Picture 11" descr="парфюм 2"/>
          <p:cNvPicPr/>
          <p:nvPr/>
        </p:nvPicPr>
        <p:blipFill>
          <a:blip r:embed="rId1"/>
          <a:stretch/>
        </p:blipFill>
        <p:spPr>
          <a:xfrm>
            <a:off x="625320" y="1930320"/>
            <a:ext cx="3087720" cy="2968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арфюм, косметика сейчас  востребованы всюду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десь выбрать что-то каждый рад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 возрасту и вкус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rebuchet MS"/>
              </a:rPr>
              <a:t>Канцелярия – товары для письма, рисования.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3" name="Picture 6" descr="канцелярия 3"/>
          <p:cNvPicPr/>
          <p:nvPr/>
        </p:nvPicPr>
        <p:blipFill>
          <a:blip r:embed="rId1"/>
          <a:stretch/>
        </p:blipFill>
        <p:spPr>
          <a:xfrm>
            <a:off x="457200" y="1844640"/>
            <a:ext cx="3262320" cy="30243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учку, карандаш, линейку, альбом, тетрадку и блокнот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десь купить ты сможешь, вот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cc0000"/>
                </a:solidFill>
                <a:latin typeface="Trebuchet MS"/>
              </a:rPr>
              <a:t>подарк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6" name="Picture 6" descr="подарки 1"/>
          <p:cNvPicPr/>
          <p:nvPr/>
        </p:nvPicPr>
        <p:blipFill>
          <a:blip r:embed="rId1"/>
          <a:stretch/>
        </p:blipFill>
        <p:spPr>
          <a:xfrm>
            <a:off x="457200" y="1628640"/>
            <a:ext cx="3322800" cy="3168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арки любят получат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 взрослые и де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х можно не перечислять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десь всё, что есть на свет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cc0000"/>
                </a:solidFill>
                <a:latin typeface="Trebuchet MS"/>
              </a:rPr>
              <a:t>ткан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кани всякие нужны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кани всякие важн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тоб комфортно было жить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ожно всё из ткани сшить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0" name="Picture 9" descr="ткани 3"/>
          <p:cNvPicPr/>
          <p:nvPr/>
        </p:nvPicPr>
        <p:blipFill>
          <a:blip r:embed="rId1"/>
          <a:stretch/>
        </p:blipFill>
        <p:spPr>
          <a:xfrm>
            <a:off x="3564000" y="1484280"/>
            <a:ext cx="3744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cc0000"/>
                </a:solidFill>
                <a:latin typeface="Trebuchet MS"/>
              </a:rPr>
              <a:t>хозяйственные товар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2" name="Picture 6" descr="хоз"/>
          <p:cNvPicPr/>
          <p:nvPr/>
        </p:nvPicPr>
        <p:blipFill>
          <a:blip r:embed="rId1"/>
          <a:stretch/>
        </p:blipFill>
        <p:spPr>
          <a:xfrm>
            <a:off x="609480" y="1725480"/>
            <a:ext cx="5402520" cy="33260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4" name="Picture 7" descr="хоз"/>
          <p:cNvPicPr/>
          <p:nvPr/>
        </p:nvPicPr>
        <p:blipFill>
          <a:blip r:embed="rId2"/>
          <a:stretch/>
        </p:blipFill>
        <p:spPr>
          <a:xfrm>
            <a:off x="755640" y="1650960"/>
            <a:ext cx="59752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cc0000"/>
                </a:solidFill>
                <a:latin typeface="Trebuchet MS"/>
              </a:rPr>
              <a:t>спортивные товар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6" name="Picture 6" descr="спорт 1"/>
          <p:cNvPicPr/>
          <p:nvPr/>
        </p:nvPicPr>
        <p:blipFill>
          <a:blip r:embed="rId1"/>
          <a:stretch/>
        </p:blipFill>
        <p:spPr>
          <a:xfrm>
            <a:off x="609480" y="2241720"/>
            <a:ext cx="4033800" cy="30128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cc0000"/>
                </a:solidFill>
                <a:latin typeface="Trebuchet MS"/>
              </a:rPr>
              <a:t>мебель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Vivaldi"/>
          <p:cNvPicPr/>
          <p:nvPr/>
        </p:nvPicPr>
        <p:blipFill>
          <a:blip r:embed="rId2"/>
          <a:stretch/>
        </p:blipFill>
        <p:spPr>
          <a:xfrm>
            <a:off x="684360" y="1463760"/>
            <a:ext cx="633564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cc0000"/>
                </a:solidFill>
                <a:latin typeface="Trebuchet MS"/>
              </a:rPr>
              <a:t>бытовая техник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bitteh"/>
          <p:cNvPicPr/>
          <p:nvPr/>
        </p:nvPicPr>
        <p:blipFill>
          <a:blip r:embed="rId2"/>
          <a:stretch/>
        </p:blipFill>
        <p:spPr>
          <a:xfrm>
            <a:off x="374760" y="1773360"/>
            <a:ext cx="6551640" cy="39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2"/>
          <p:cNvSpPr/>
          <p:nvPr/>
        </p:nvSpPr>
        <p:spPr>
          <a:xfrm>
            <a:off x="324000" y="1696680"/>
            <a:ext cx="12882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промтоварны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назначены для снабж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селения предметами, вещам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обходимыми для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ормальной жизни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ятельности человека и животн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Trebuchet MS"/>
              </a:rPr>
              <a:t>Магазины промышленных</a:t>
            </a: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Trebuchet MS"/>
              </a:rPr>
              <a:t> товаров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66ff33"/>
                </a:solidFill>
                <a:latin typeface="Trebuchet MS"/>
              </a:rPr>
              <a:t>Порядок покупки товар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990000"/>
                </a:solidFill>
                <a:latin typeface="Trebuchet MS"/>
              </a:rPr>
              <a:t>М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– Заранее подумай, что бы ты хотел купить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990000"/>
                </a:solidFill>
                <a:latin typeface="Trebuchet MS"/>
              </a:rPr>
              <a:t>А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– Рассмотри товар на витрине, обрати внимание на стоимость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990000"/>
                </a:solidFill>
                <a:latin typeface="Trebuchet MS"/>
              </a:rPr>
              <a:t>Г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– Обратись к продавцу с просьбой показать товар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990000"/>
                </a:solidFill>
                <a:latin typeface="Trebuchet MS"/>
              </a:rPr>
              <a:t>А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– Спроси продавца о качестве товара, о сроках гарантии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990000"/>
                </a:solidFill>
                <a:latin typeface="Trebuchet MS"/>
              </a:rPr>
              <a:t>З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– Оплати покупку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990000"/>
                </a:solidFill>
                <a:latin typeface="Trebuchet MS"/>
              </a:rPr>
              <a:t>И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– Возьми чек, проверь по нему сдачу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990000"/>
                </a:solidFill>
                <a:latin typeface="Trebuchet MS"/>
              </a:rPr>
              <a:t>Н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– Положи чек на хранение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66ff33"/>
                </a:solidFill>
                <a:latin typeface="Trebuchet MS"/>
              </a:rPr>
              <a:t>Гарантия</a:t>
            </a:r>
            <a:r>
              <a:rPr b="0" lang="ru-RU" sz="2500" spc="-1" strike="noStrike">
                <a:solidFill>
                  <a:srgbClr val="66ff33"/>
                </a:solidFill>
                <a:latin typeface="Trebuchet MS"/>
              </a:rPr>
              <a:t> </a:t>
            </a:r>
            <a:r>
              <a:rPr b="0" lang="ru-RU" sz="2500" spc="-1" strike="noStrike">
                <a:solidFill>
                  <a:srgbClr val="90c226"/>
                </a:solidFill>
                <a:latin typeface="Trebuchet MS"/>
              </a:rPr>
              <a:t>– ручательство за качество товара. Дается на разное время для разных товаров: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дежда и обувь: 14 дней со дня покупки или с начала сезона,  в крупных специализированных магазинах до 60 дн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товая техника, теле-радио аппаратура: от 1 года до 3 ле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Гарантийные сроки обозначены в уголке покупател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66ff33"/>
                </a:solidFill>
                <a:latin typeface="Trebuchet MS"/>
              </a:rPr>
              <a:t>Права покупателя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1. На покупку качественного товара, то есть без брака, надежног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2. На полную и правдивую информацию о товар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3. На возмещение ущерба, вызванного покупкой некачественного  товар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4. На защиту прав и интересов в суд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5. На определение точного веса и меры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51280" y="260280"/>
            <a:ext cx="6337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6ff33"/>
                </a:solidFill>
                <a:latin typeface="Trebuchet MS"/>
              </a:rPr>
              <a:t>Если вы сохранили чек, и время гарантии не истекло,</a:t>
            </a:r>
            <a:br>
              <a:rPr sz="3600"/>
            </a:br>
            <a:r>
              <a:rPr b="0" lang="ru-RU" sz="3600" spc="-1" strike="noStrike">
                <a:solidFill>
                  <a:srgbClr val="66ff33"/>
                </a:solidFill>
                <a:latin typeface="Trebuchet MS"/>
              </a:rPr>
              <a:t>вы имеете право: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50920" y="3357720"/>
            <a:ext cx="822960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менять некачественный товар на качественны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низить цену и вернуть разницу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зволить продавцу устранить дефект или оплатить ремон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ернуть вещь, взять деньг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66ff33"/>
                </a:solidFill>
                <a:latin typeface="Trebuchet MS"/>
              </a:rPr>
              <a:t>Культура поведения в магазине: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опусти людей, … из магазин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ойди в нужный …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ыбирая …, смотри на цен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е облокачивайся на …, не прикасайся к ней пальцам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Если есть …, спроси последнего, встань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тоя в очереди, не толкайся, …не разговарива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…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братись к продавцу, четко называй название товара  и его  количеств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асплатись за товар, считай …, возьми чек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4" name="Picture 4" descr="vanya"/>
          <p:cNvPicPr/>
          <p:nvPr/>
        </p:nvPicPr>
        <p:blipFill>
          <a:blip r:embed="rId1"/>
          <a:stretch/>
        </p:blipFill>
        <p:spPr>
          <a:xfrm>
            <a:off x="6084720" y="907920"/>
            <a:ext cx="305928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90c226"/>
                </a:solidFill>
                <a:latin typeface="Trebuchet MS"/>
              </a:rPr>
              <a:t>Магазин промышленных товаров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У нас открылся магазин, сколько в нём товаров разных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бувь, галстуки, подарки, духи, ткани и перчатк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ыбирай любую вещь нужную в хозяйстве. Проявляй свой интерес по правилам хозяйк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Picture 4" descr="2"/>
          <p:cNvPicPr/>
          <p:nvPr/>
        </p:nvPicPr>
        <p:blipFill>
          <a:blip r:embed="rId1"/>
          <a:stretch/>
        </p:blipFill>
        <p:spPr>
          <a:xfrm>
            <a:off x="1042920" y="2238480"/>
            <a:ext cx="331308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Знать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6880" y="1918800"/>
            <a:ext cx="7488360" cy="40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назначение промтоварных магазинов;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порядок приобретения товаров;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ассортимент товара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Picture 6" descr="j0254500"/>
          <p:cNvPicPr/>
          <p:nvPr/>
        </p:nvPicPr>
        <p:blipFill>
          <a:blip r:embed="rId1"/>
          <a:stretch/>
        </p:blipFill>
        <p:spPr>
          <a:xfrm>
            <a:off x="7956720" y="189000"/>
            <a:ext cx="9522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64803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rebuchet MS"/>
              </a:rPr>
              <a:t>Специализированные 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ромтоварные магазины продают товары одного ассортимента, сопутствующие им товары.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1" name="Picture 6" descr="ткани 1"/>
          <p:cNvPicPr/>
          <p:nvPr/>
        </p:nvPicPr>
        <p:blipFill>
          <a:blip r:embed="rId1"/>
          <a:stretch/>
        </p:blipFill>
        <p:spPr>
          <a:xfrm>
            <a:off x="6084720" y="189000"/>
            <a:ext cx="2873520" cy="33145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обувь 2"/>
          <p:cNvPicPr/>
          <p:nvPr/>
        </p:nvPicPr>
        <p:blipFill>
          <a:blip r:embed="rId2"/>
          <a:stretch/>
        </p:blipFill>
        <p:spPr>
          <a:xfrm>
            <a:off x="6443640" y="3933720"/>
            <a:ext cx="2700360" cy="31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47560" y="549360"/>
            <a:ext cx="811872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rebuchet MS"/>
              </a:rPr>
              <a:t>Ассортимент</a:t>
            </a:r>
            <a:r>
              <a:rPr b="0" lang="ru-RU" sz="4000" spc="-1" strike="noStrike">
                <a:solidFill>
                  <a:srgbClr val="cc0000"/>
                </a:solidFill>
                <a:latin typeface="Trebuchet MS"/>
              </a:rPr>
              <a:t> </a:t>
            </a: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– подбор товаров одного вида по различным сортам, наименованиям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Picture 5" descr="часы 2"/>
          <p:cNvPicPr/>
          <p:nvPr/>
        </p:nvPicPr>
        <p:blipFill>
          <a:blip r:embed="rId1"/>
          <a:stretch/>
        </p:blipFill>
        <p:spPr>
          <a:xfrm>
            <a:off x="1595520" y="2924280"/>
            <a:ext cx="456084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24000" y="259920"/>
            <a:ext cx="8820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Trebuchet MS"/>
              </a:rPr>
              <a:t>Помните: Дорогостоящие покупки лучше совершать  в специализированных магазинах, так как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них большой выбор товаров одного ассортимент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этих магазинах действует накопительная система скидок до 10%, выдаются именные дисконтные карточк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чество товаров гарантировано, то есть, нет бракованных  товаро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роки гарантии на многие товары увеличены (до 60 дней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51536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Отделы магазина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06320" y="1257480"/>
            <a:ext cx="8229600" cy="39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Trebuchet MS"/>
              </a:rPr>
              <a:t>                   </a:t>
            </a:r>
            <a:r>
              <a:rPr b="1" i="1" lang="ru-RU" sz="1800" spc="-1" strike="noStrike">
                <a:solidFill>
                  <a:srgbClr val="cc0000"/>
                </a:solidFill>
                <a:latin typeface="Trebuchet MS"/>
              </a:rPr>
              <a:t>ОДЕЖД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Picture 5" descr="одежда 3"/>
          <p:cNvPicPr/>
          <p:nvPr/>
        </p:nvPicPr>
        <p:blipFill>
          <a:blip r:embed="rId1"/>
          <a:stretch/>
        </p:blipFill>
        <p:spPr>
          <a:xfrm>
            <a:off x="1042920" y="1989000"/>
            <a:ext cx="472608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cc0000"/>
                </a:solidFill>
                <a:latin typeface="Trebuchet MS"/>
              </a:rPr>
              <a:t>обувь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1" name="Picture 7" descr="обувь 1"/>
          <p:cNvPicPr/>
          <p:nvPr/>
        </p:nvPicPr>
        <p:blipFill>
          <a:blip r:embed="rId1"/>
          <a:stretch/>
        </p:blipFill>
        <p:spPr>
          <a:xfrm>
            <a:off x="457200" y="1557360"/>
            <a:ext cx="3376440" cy="3672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уфли, тапки, босонож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берут для всякой ножк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десь обуться каждый может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Хоть в ботинок, хоть в сапоже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09:27:29Z</dcterms:created>
  <dc:creator>Татьтьяна Григоревна</dc:creator>
  <dc:description/>
  <dc:language>en-US</dc:language>
  <cp:lastModifiedBy>OBZ</cp:lastModifiedBy>
  <dcterms:modified xsi:type="dcterms:W3CDTF">2020-04-07T03:18:07Z</dcterms:modified>
  <cp:revision>27</cp:revision>
  <dc:subject/>
  <dc:title>ИНТЕГРАЦИЯ</dc:title>
</cp:coreProperties>
</file>