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B6E-9D15-42FA-AA73-E2E2B0CF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1F0-C9DD-463B-A3B3-F1C732CE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13A-3EBC-41DC-AD7B-53561494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E8F-77B6-42F5-B64C-22250AD1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16B0-0F60-4EA6-B953-951325A6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42D1-D4B1-4DA8-838F-AC014D29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38B2-7CD5-4CDA-9599-AC7979FC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799-D99B-4707-BA8B-EC15C27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508C-8C34-4608-82B4-12DD31E5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8996-C48D-4049-8F0A-3C754867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2484-DED2-4E2F-A10F-7AE3AFB1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30F-17F8-42AD-9DE8-1DA4BFC7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C594-7AB9-41AF-9D2B-E2FB150B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3EF8-F9E0-4F9F-92F6-782D3A0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95C7-4187-443E-86D5-25DD945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D77A-EA47-435F-A2A7-9BB720EA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9C5D-4AEA-4ABA-9BBA-CCF339F4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101-0FC3-49FD-A9A2-D267F0FE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59F-B4AF-4273-B4B2-7901B6D8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C31-4E0F-4E88-B073-05789FFD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FF8-DF19-4902-90E2-D89ADEE0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4EC-3385-41F5-AFDE-A526EDF3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E41-E185-4413-9543-35C2FCB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E18-155A-4B18-8F0D-EF2FDD17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1345-F083-45B6-B6A6-A632DA7584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C888-E576-429E-9D30-CDECF431D8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PT Astra Serif"/>
              </a:rPr>
              <a:t>«Путешестви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PT Astra Serif"/>
              </a:rPr>
              <a:t>по математическим заданиям»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63400" y="-82440"/>
            <a:ext cx="801720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Продолжите эту дорожку (логический ряд)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геометрическими фигурами у себя в тетрад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Объект 4" descr=""/>
          <p:cNvPicPr/>
          <p:nvPr/>
        </p:nvPicPr>
        <p:blipFill>
          <a:blip r:embed="rId1"/>
          <a:stretch/>
        </p:blipFill>
        <p:spPr>
          <a:xfrm>
            <a:off x="579600" y="2227320"/>
            <a:ext cx="79848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2664000" y="620640"/>
            <a:ext cx="425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знайка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826920" y="1557360"/>
            <a:ext cx="77058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ое сейчас время года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колько всего времен года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ой сейчас месяц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зовите дни недели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зовите весенние месяцы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колько выходных дней в неделе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ой цветок исполнял все желания девочки Жени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Бывает круг с тремя углами?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2494800" y="404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Поручения»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0" y="1341360"/>
            <a:ext cx="9144000" cy="41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99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Ребята, при выполнении этих заданий будьте очень внимательны!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99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1) нарисуйте прямую линию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2) нарисуйте  отрезок и измерьте ег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3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3) нарисуйте   треугольник  внутри  него знак плюс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T Astra Serif"/>
              </a:rPr>
              <a:t>4) нарисуйте  и разделите квадрат на 4 равные части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1116000" y="40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T Astra Serif"/>
              </a:rPr>
              <a:t>Составьте задачи по картинкам и решите их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324000" y="1727280"/>
            <a:ext cx="7993080" cy="202860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24000" y="1727280"/>
            <a:ext cx="346392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4572000" y="1428840"/>
            <a:ext cx="3745080" cy="24908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6"/>
          <p:cNvSpPr/>
          <p:nvPr/>
        </p:nvSpPr>
        <p:spPr>
          <a:xfrm>
            <a:off x="357120" y="4203720"/>
            <a:ext cx="7993080" cy="20289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782640" y="4316400"/>
            <a:ext cx="1428840" cy="1916280"/>
          </a:xfrm>
          <a:prstGeom prst="rect">
            <a:avLst/>
          </a:prstGeom>
          <a:ln w="0">
            <a:noFill/>
          </a:ln>
        </p:spPr>
      </p:pic>
      <p:sp>
        <p:nvSpPr>
          <p:cNvPr id="169" name="Стрелка: вправо 4"/>
          <p:cNvSpPr/>
          <p:nvPr/>
        </p:nvSpPr>
        <p:spPr>
          <a:xfrm>
            <a:off x="3119400" y="4950000"/>
            <a:ext cx="977760" cy="4838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003b76"/>
          </a:solidFill>
          <a:ln w="25560">
            <a:solidFill>
              <a:srgbClr val="002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4"/>
          <a:stretch/>
        </p:blipFill>
        <p:spPr>
          <a:xfrm>
            <a:off x="4406760" y="3757680"/>
            <a:ext cx="2181240" cy="2495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5"/>
          <a:stretch/>
        </p:blipFill>
        <p:spPr>
          <a:xfrm>
            <a:off x="1225440" y="5024520"/>
            <a:ext cx="615960" cy="795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6"/>
          <a:stretch/>
        </p:blipFill>
        <p:spPr>
          <a:xfrm>
            <a:off x="5645160" y="5643720"/>
            <a:ext cx="3189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858240" y="333360"/>
            <a:ext cx="80186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PT Astra Serif"/>
              </a:rPr>
              <a:t>Игра с счетными палочками</a:t>
            </a:r>
            <a:r>
              <a:rPr b="0" lang="ru-RU" sz="4000" spc="-1" strike="noStrike">
                <a:solidFill>
                  <a:srgbClr val="ffffff"/>
                </a:solidFill>
                <a:latin typeface="PT Astra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361800" y="1197000"/>
            <a:ext cx="84582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Отсчитайте четыре палочки и сделайте квадрат, затем еще три и сделайте еще квадрат. Сколько палочек отсчитали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103000"/>
              </a:lnSpc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Сколько квадратов получилось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103000"/>
              </a:lnSpc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Отсчитайте три палочки и сделайте треугольник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103000"/>
              </a:lnSpc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Отсчитайте две палочки и сделайте еще один треугольник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103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Сколько треугольников получилось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480" indent="-6480" algn="just"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T Astra Serif"/>
              </a:rPr>
              <a:t>Сделайте любую фигуру из палочек. (лисичку, дом, кошку, машинку и т.д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202600" cy="57927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1440000" y="228600"/>
            <a:ext cx="62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PT Astra Serif"/>
              </a:rPr>
              <a:t>Графический диктан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8T05:44:48Z</dcterms:created>
  <dc:creator>Home</dc:creator>
  <dc:description/>
  <dc:language>en-US</dc:language>
  <cp:lastModifiedBy>acer</cp:lastModifiedBy>
  <dcterms:modified xsi:type="dcterms:W3CDTF">2020-04-07T15:21:37Z</dcterms:modified>
  <cp:revision>21</cp:revision>
  <dc:subject/>
  <dc:title>Путешествие в созвездие весов</dc:title>
</cp:coreProperties>
</file>