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34D-6567-49E5-BBE5-2117091E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0BF-08DE-4DD6-8C61-49496CE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70C-574E-42D1-8151-D94E12D0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9C0-602B-43A4-B60A-D65074CC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3B34-2FB0-4CB5-9800-BCA7A617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B4F-16D2-4C6B-B995-D8991F2D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F3D-33D9-479B-B91D-E73B053B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12F-8DA4-4165-AFA3-52E3F3B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0676-C905-498E-9D7B-664A712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323-8E6A-48D3-BCC6-4D8C0D0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B24-01A3-44C6-BBB7-4F73320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705-7D52-428B-A18A-186D15E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2F09-4593-40B5-B877-0D26AF7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E950-5B53-4840-91A9-93C60E8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69A-6CCD-4ABD-98C0-C67A7F0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A2A7-DF91-4A52-BE78-3D825807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BAD-B97A-45DD-ACDA-820CFE95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A7F-6006-418F-B2D6-13434B0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CB2-5903-4993-A521-7C7E6C4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16F-6FC6-457D-9563-DADEBE7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646-D210-4011-8A3C-2A03784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B78-08D2-47B5-9F91-22FBCC2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CED-3F71-48D6-97F1-F72A056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D45-DE2D-4226-9712-77AB72EA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B58-0FA5-45AB-B82A-82FC61A23C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039-F8A5-4E04-945B-03194648D1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PT Astra Serif"/>
              </a:rPr>
              <a:t>«Путешестви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PT Astra Serif"/>
              </a:rPr>
              <a:t>по математическим заданиям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63400" y="-82440"/>
            <a:ext cx="80172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Продолжите эту дорожку (логический ряд)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геометрическими фигурами у себя в тетрад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Объект 4" descr=""/>
          <p:cNvPicPr/>
          <p:nvPr/>
        </p:nvPicPr>
        <p:blipFill>
          <a:blip r:embed="rId1"/>
          <a:stretch/>
        </p:blipFill>
        <p:spPr>
          <a:xfrm>
            <a:off x="579600" y="2227320"/>
            <a:ext cx="79848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2664000" y="620640"/>
            <a:ext cx="425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знайк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826920" y="1557360"/>
            <a:ext cx="7705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е сейчас время года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колько всего времен года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й сейчас месяц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зовите дни недели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зовите весенние месяцы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колько выходных дней в неделе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й цветок исполнял все желания девочки Жени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ывает круг с тремя углами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494800" y="404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Поручения»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0" y="1341360"/>
            <a:ext cx="9144000" cy="41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99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Ребята, при выполнении этих заданий будьте очень внимательны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99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1) нарисуйте прямую линию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2) нарисуйте  отрезок и измерьте е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3) нарисуйте   треугольник  внутри  него знак плюс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4) нарисуйте  и разделите квадрат на 4 равные част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1116000" y="40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T Astra Serif"/>
              </a:rPr>
              <a:t>Составьте задачи по картинкам и решите их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324000" y="1727280"/>
            <a:ext cx="7993080" cy="20286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727280"/>
            <a:ext cx="346392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3745080" cy="24908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6"/>
          <p:cNvSpPr/>
          <p:nvPr/>
        </p:nvSpPr>
        <p:spPr>
          <a:xfrm>
            <a:off x="357120" y="4203720"/>
            <a:ext cx="7993080" cy="20289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782640" y="4316400"/>
            <a:ext cx="1428840" cy="191628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: вправо 4"/>
          <p:cNvSpPr/>
          <p:nvPr/>
        </p:nvSpPr>
        <p:spPr>
          <a:xfrm>
            <a:off x="3119400" y="495000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3b76"/>
          </a:solidFill>
          <a:ln w="25560">
            <a:solidFill>
              <a:srgbClr val="002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4406760" y="3757680"/>
            <a:ext cx="2181240" cy="2495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5"/>
          <a:stretch/>
        </p:blipFill>
        <p:spPr>
          <a:xfrm>
            <a:off x="1225440" y="5024520"/>
            <a:ext cx="615960" cy="795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6"/>
          <a:stretch/>
        </p:blipFill>
        <p:spPr>
          <a:xfrm>
            <a:off x="5645160" y="5643720"/>
            <a:ext cx="3189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858240" y="333360"/>
            <a:ext cx="80186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T Astra Serif"/>
              </a:rPr>
              <a:t>Игра с счетными палочками</a:t>
            </a:r>
            <a:r>
              <a:rPr b="0" lang="ru-RU" sz="4000" spc="-1" strike="noStrike">
                <a:solidFill>
                  <a:srgbClr val="ffffff"/>
                </a:solidFill>
                <a:latin typeface="PT Astra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361800" y="1197000"/>
            <a:ext cx="8458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четыре палочки и сделайте квадрат, затем еще три и сделайте еще квадрат. Сколько палочек отсчитал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колько квадратов получилось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три палочки и сделайте треугольни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две палочки и сделайте еще один треугольни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колько треугольников получилось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делайте любую фигуру из палочек. (лисичку, дом, кошку, машинку и т.д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202600" cy="5792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440000" y="22860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T Astra Serif"/>
              </a:rPr>
              <a:t>Графический дикт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05:44:48Z</dcterms:created>
  <dc:creator>Home</dc:creator>
  <dc:description/>
  <dc:language>en-US</dc:language>
  <cp:lastModifiedBy>acer</cp:lastModifiedBy>
  <dcterms:modified xsi:type="dcterms:W3CDTF">2020-04-07T15:21:37Z</dcterms:modified>
  <cp:revision>21</cp:revision>
  <dc:subject/>
  <dc:title>Путешествие в созвездие весов</dc:title>
</cp:coreProperties>
</file>