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4C21-3810-4451-A469-A6357683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DF6-25C1-4062-BA4D-1FEFCE34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2FF-CD01-440E-973A-45D4423E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B5C9-7388-4A68-A221-97BA0D95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BD39-46C8-4C66-8762-AC478265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7331-8B8D-4BDE-8989-1AB2649A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E6B3-DCCB-491E-A334-56F0053D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F015-AA07-4BA6-839E-174F2E0D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208D-9958-4DA6-8358-FE980380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E08D-1386-4516-B0AF-4E9A5F11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D09F-991D-4ABD-ACD7-C9A556D5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107B-E766-4292-877F-FBB5F4B2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7654-7D22-4FD5-9762-B73D6CBD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6A95-4652-45B7-BBD6-7DF35E6B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1921-E244-49E4-B8C6-9D944EF0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E993-8699-4B59-A96A-E2F0791C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95D7-EF07-4E95-8289-3832395C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926-2B7C-4CAD-AD30-2DAF1ECE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4EC-B978-422F-A5C6-E368AD9F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EDF2-151B-4111-8811-A1BA4D1D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DA6-B1F4-49C3-9618-CA8C8D5A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F31-6744-4C55-AC4B-FA6069BD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252-7762-424E-8A2D-96E4E051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BD9C-4BC9-4044-92A1-7D5FAE59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63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135d8b"/>
                </a:gs>
                <a:gs pos="100000">
                  <a:srgbClr val="14639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14639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A277-FB00-43ED-B849-93EC4CA177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63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11547d"/>
                </a:gs>
                <a:gs pos="100000">
                  <a:srgbClr val="14639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14639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3025-8E96-4A1D-9762-6BA74A0D273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773000"/>
            <a:ext cx="8425080" cy="1942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885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Century Gothic"/>
              </a:rPr>
              <a:t>Местоимения</a:t>
            </a:r>
            <a:endParaRPr b="0" lang="en-US" sz="8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Возвратные местоимения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9640" y="1125360"/>
          <a:ext cx="7561440" cy="5089680"/>
        </p:xfrm>
        <a:graphic>
          <a:graphicData uri="http://schemas.openxmlformats.org/drawingml/2006/table">
            <a:tbl>
              <a:tblPr/>
              <a:tblGrid>
                <a:gridCol w="4032360"/>
                <a:gridCol w="352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Местоим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Возвратное местоим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yse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rse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mse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rse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se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urselv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rselv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mselv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Указательные местоимения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казательные местоимения выступают в предложении в роли опред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казательные местоимения изменяются по числ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3645000"/>
          <a:ext cx="7632720" cy="2371680"/>
        </p:xfrm>
        <a:graphic>
          <a:graphicData uri="http://schemas.openxmlformats.org/drawingml/2006/table">
            <a:tbl>
              <a:tblPr/>
              <a:tblGrid>
                <a:gridCol w="4103640"/>
                <a:gridCol w="352908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Единственное чис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Множественное чис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is -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от (эта, это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se –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at -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т (та, то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ose -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Вопросительные местоимения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8360" y="981000"/>
          <a:ext cx="8147160" cy="5200560"/>
        </p:xfrm>
        <a:graphic>
          <a:graphicData uri="http://schemas.openxmlformats.org/drawingml/2006/table">
            <a:tbl>
              <a:tblPr/>
              <a:tblGrid>
                <a:gridCol w="4344840"/>
                <a:gridCol w="380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Местоим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ерев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й, чья, чьё, чь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, как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i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at kind of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ой, что з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г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д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чем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at f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че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647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Неопределенные местоимения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1052640"/>
          <a:ext cx="8569080" cy="5494320"/>
        </p:xfrm>
        <a:graphic>
          <a:graphicData uri="http://schemas.openxmlformats.org/drawingml/2006/table">
            <a:tbl>
              <a:tblPr/>
              <a:tblGrid>
                <a:gridCol w="3073320"/>
                <a:gridCol w="2778120"/>
                <a:gridCol w="2717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овествовательное предло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Вопросительное предло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трицательное предло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ли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t a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mebody</a:t>
                      </a: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me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то-нибудь, кто-либ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nybody</a:t>
                      </a: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,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any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то-нибудь, кто-либ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nobody</a:t>
                      </a: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,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no one/ n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кт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meth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-нибудь, что-либ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nyth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-нибудь, что-либ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noth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ч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me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де-нибуд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ny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де-нибуд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no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гд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meh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-нибуд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nyh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-нибуд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solidFill>
            <a:srgbClr val="f5f8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333360"/>
          <a:ext cx="8229600" cy="4894200"/>
        </p:xfrm>
        <a:graphic>
          <a:graphicData uri="http://schemas.openxmlformats.org/drawingml/2006/table">
            <a:tbl>
              <a:tblPr/>
              <a:tblGrid>
                <a:gridCol w="2819520"/>
                <a:gridCol w="5410080"/>
              </a:tblGrid>
              <a:tr h="109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somebody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— кто-нибудь, кто-т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Утвердительная ф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Не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 asked somebody to help him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Отрицательная форм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He asked nobody to help him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He did not ask any­body to help him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Вопросительная ф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Вопросительная форма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Times New Roman"/>
                        </a:rPr>
                        <a:t>Did he ask anybody to help him?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Виды местоимений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тяжате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вра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казате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просите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определен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Личные местоимения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тупают в предложении в роли подлежащего или дополн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ют 2 падеж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ий падеж (именитель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ктный паде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Личные местоимения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1268280"/>
          <a:ext cx="8229600" cy="5089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Местоим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бщий паде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бъектный паде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ритяжательные местоимения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чают на вопрос: «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se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Чей?» (Чья? Чьё? Чьи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еют 2 формы: присоединяемую и независиму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рисоединяемой форме они выступают в роли определения. За присоединяемой формой всегда следует существительно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другое опреде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y book, their house, his future prof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ритяжательные местоимения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езависимой форме они являются именной частью составного именного сказуем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едложении притяжательные местоимения в независимой форме стоят, как правило, на последнем мес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s book i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mine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ese flowers ar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your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ритяжательные местоимения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907920"/>
          <a:ext cx="8496360" cy="5516640"/>
        </p:xfrm>
        <a:graphic>
          <a:graphicData uri="http://schemas.openxmlformats.org/drawingml/2006/table">
            <a:tbl>
              <a:tblPr/>
              <a:tblGrid>
                <a:gridCol w="2832120"/>
                <a:gridCol w="3040200"/>
                <a:gridCol w="2624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Местоим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рисоединяемая фор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Независимая фор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й (моя, моё, мои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в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i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озвратные местоимения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60000"/>
              </a:lnSpc>
              <a:spcBef>
                <a:spcPts val="601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усском языке соответствуют возвратному местоимению «себя» или глагольной частице «ся», «сь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601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вратные местоимения являются частью сказуем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Наприме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wash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onesel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ыва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ash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ysel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умываюс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885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озвратные местоимения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усском языке местоимение «себя» применяется по отношению ко всем лицам и числ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ccff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английском языке форма возвратного местоимения изменяется в зависимости от лица и числа определяемого сло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Он поранился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He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injur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hims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Она поранилась. -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She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injur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hers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06:08:09Z</dcterms:created>
  <dc:creator>Zver</dc:creator>
  <dc:description/>
  <dc:language>en-US</dc:language>
  <cp:lastModifiedBy>User</cp:lastModifiedBy>
  <dcterms:modified xsi:type="dcterms:W3CDTF">2017-02-21T03:51:34Z</dcterms:modified>
  <cp:revision>17</cp:revision>
  <dc:subject/>
  <dc:title>Слайд 1</dc:title>
</cp:coreProperties>
</file>