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C65-D01A-4D08-B59B-432DEA43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7D2-EB2E-4B19-B837-9995B51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186-470D-41BD-A272-6570F859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2B-3986-4C0C-836F-19E121DB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B59-1321-4C54-98C4-9D62506C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C3A-1B21-4CEE-A0D4-3AF4B07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F885-CA8F-44A3-B68E-496C3411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F44-D79B-47DD-8B85-5F0CA43A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48C5-D6F4-4F47-9490-52FDBB9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D618-E6D9-49A1-8D2E-A4EE043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2B0-BE44-4227-811F-6A432F7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7BC-804D-49D1-A2B3-1083E402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64D-F311-40F0-8620-B30CE9D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E0C1-6BBB-478A-9049-E6B0281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A442-BB8D-4414-8F55-6893DCE2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2C7-58B4-4A19-814E-7F1BAB9F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E234-42C5-4D8C-94C9-CA44FC83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297-D95C-4FB7-920F-DCF0014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828-00A8-433C-B3D3-61E46B77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E83-6196-4313-91F9-F1672A9C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E9C-D683-4FC4-BD41-8E27A0DE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214-2988-4B52-9CA5-652469C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93F-631F-4C27-8BA8-EA299CC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337-7752-44CB-A495-1F97BE8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3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35d8b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615-9E4F-4E5B-B7D4-7B11F1BED0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3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11547d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7FB-AF0B-4F4F-8689-013DAB8898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773000"/>
            <a:ext cx="8425080" cy="194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885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Century Gothic"/>
              </a:rPr>
              <a:t>Местоимения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125360"/>
          <a:ext cx="7561440" cy="5089680"/>
        </p:xfrm>
        <a:graphic>
          <a:graphicData uri="http://schemas.openxmlformats.org/drawingml/2006/table">
            <a:tbl>
              <a:tblPr/>
              <a:tblGrid>
                <a:gridCol w="403236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озвратное 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m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m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каз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ательные местоимения выступают в предложении в роли опред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ательные местоимения изменяются по числ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3645000"/>
          <a:ext cx="7632720" cy="2371680"/>
        </p:xfrm>
        <a:graphic>
          <a:graphicData uri="http://schemas.openxmlformats.org/drawingml/2006/table">
            <a:tbl>
              <a:tblPr/>
              <a:tblGrid>
                <a:gridCol w="4103640"/>
                <a:gridCol w="35290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ножественное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от (эта, эт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se 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t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т (та, т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se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опроситель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81000"/>
          <a:ext cx="8147160" cy="5200560"/>
        </p:xfrm>
        <a:graphic>
          <a:graphicData uri="http://schemas.openxmlformats.org/drawingml/2006/table">
            <a:tbl>
              <a:tblPr/>
              <a:tblGrid>
                <a:gridCol w="4344840"/>
                <a:gridCol w="380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в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й, чья, чьё, чь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, ка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kind of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й, что 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г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е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f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6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еопределен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052640"/>
          <a:ext cx="8569080" cy="5494320"/>
        </p:xfrm>
        <a:graphic>
          <a:graphicData uri="http://schemas.openxmlformats.org/drawingml/2006/table">
            <a:tbl>
              <a:tblPr/>
              <a:tblGrid>
                <a:gridCol w="3073320"/>
                <a:gridCol w="2778120"/>
                <a:gridCol w="271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вествова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опроси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трица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-нибудь, к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any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-нибудь, к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 one/ 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т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-нибудь, ч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-нибудь, ч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ч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г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h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h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solidFill>
            <a:srgbClr val="f5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333360"/>
          <a:ext cx="8229600" cy="489420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109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somebody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— кто-нибудь, кто-т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Утвердительная 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Н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asked somebody to help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Отрицательная фор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He asked nobody to help him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He did not ask any­body to help him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Вопросительная 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Вопросительная форма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Did he ask anybody to help him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иды местоимений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тяж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ра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а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и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предел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ич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упают в предложении в роли подлежащего или допол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т 2 падеж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ий падеж (име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ный пад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ич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268280"/>
          <a:ext cx="8229600" cy="508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бщий 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бъектный 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чают на вопрос: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se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Чей?» (Чья? Чьё? Чьи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ют 2 формы: присоединяемую и независим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соединяемой форме они выступают в роли определения. За присоединяемой формой всегда следует существительн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другое опред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y book, their house, his future prof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езависимой форме они являются именной частью составного именного сказуем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едложении притяжательные местоимения в независимой форме стоят, как правило, на последнем мес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book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min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se flowers ar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your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907920"/>
          <a:ext cx="8496360" cy="5516640"/>
        </p:xfrm>
        <a:graphic>
          <a:graphicData uri="http://schemas.openxmlformats.org/drawingml/2006/table">
            <a:tbl>
              <a:tblPr/>
              <a:tblGrid>
                <a:gridCol w="2832120"/>
                <a:gridCol w="3040200"/>
                <a:gridCol w="2624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рисоединяемая 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зависимая 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й (моя, моё, мо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60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усском языке соответствуют возвратному местоимению «себя» или глагольной частице «ся», «с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60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вратные местоимения являются частью сказуем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прим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ash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e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ыв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ash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y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мываю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усском языке местоимение «себя» применяется по отношению ко всем лицам и чис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нглийском языке форма возвратного местоимения изменяется в зависимости от лица и числа определяемого 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н поранился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ju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im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на поранилась. -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h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ju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e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6:08:09Z</dcterms:created>
  <dc:creator>Zver</dc:creator>
  <dc:description/>
  <dc:language>en-US</dc:language>
  <cp:lastModifiedBy>User</cp:lastModifiedBy>
  <dcterms:modified xsi:type="dcterms:W3CDTF">2017-02-21T03:51:34Z</dcterms:modified>
  <cp:revision>17</cp:revision>
  <dc:subject/>
  <dc:title>Слайд 1</dc:title>
</cp:coreProperties>
</file>