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98E-B1E4-46DC-BD06-2FABAB70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1DC-11B0-41FE-80A6-D49B649A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A3D-A2C6-464F-8301-4F33DF6D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A49-752B-45E0-A8AB-45E86B8B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E8B-5188-457E-885B-8AA87FF2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704-E3E2-4844-AD24-D6FCC06D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1A4-07D6-4A38-AA41-B5CF0C98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26F-634B-4367-9AED-F8D8740E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45A-E1B5-4C17-A8C5-7DDB1645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9C5-F946-429C-B264-ABF082B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AF8-4169-42BA-8A53-E2B658C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BB5-5456-485D-BB4B-68398FB2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FEBF-0C20-4EB6-8C2B-5AACEF52D0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8" descr="32451c80e368.jpg"/>
          <p:cNvPicPr/>
          <p:nvPr/>
        </p:nvPicPr>
        <p:blipFill>
          <a:blip r:embed="rId2"/>
          <a:stretch/>
        </p:blipFill>
        <p:spPr>
          <a:xfrm>
            <a:off x="0" y="4381560"/>
            <a:ext cx="243036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6280"/>
            <a:ext cx="6553080" cy="3960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_BosaNova"/>
                <a:ea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a_BosaNova"/>
                <a:ea typeface="Times New Roman"/>
              </a:rPr>
              <a:t>«Местоимения . Повторение»</a:t>
            </a: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начение местоиме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340000" y="162864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имения позволяют избегать неоправданных повторов в речи, указывают на предмет, не называя его, и чаще всего используются в предложении вместо имён существ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имения делают нашу речь яркой, выразительной, крас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стоим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00000" y="134136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ывают на предмет, количество, признак, 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называю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ют н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то? что? какой? чей? скольк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ются п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дежам, числам, род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бы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леном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стоимения заменяют им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71640" y="1197000"/>
          <a:ext cx="7777080" cy="381636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7272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Имя 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Имя 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Имя числ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996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кой? Че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кольк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6892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Я, ты, мы, вы, он, она, оно, они, себя, никто, ничто, никого, кто-то, что-то, что-либо, кто-нибудь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ой, твой, свой, ваш, свои, этот, тот, самый, весь, каждый, такой, таков, никакой, ничей, какой-нибудь, чей-либо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колько, столько, сколько-нибудь, сколько-то, нескольк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ряды местоим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49636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написания неопределенных местоиме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835280" y="1560600"/>
            <a:ext cx="72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определенных местоимениях (некто, нечто и др.) приставка НЕ- всегда стои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 ударени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ишется слитно (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ьк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ые местоимения с приставкой КОЕ- и суффиксами -ТО, -ЛИБО, -НИБУДЬ пишу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ез дефи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то-нибудь, кое-кт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ОЕ- отделяется от местоимения предлогом, пишется через дефис (кое_у_ког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написания отрицательных местоимени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457280" y="1484280"/>
            <a:ext cx="74883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тавки НЕ-, НИ- пишу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итн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)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тав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ар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чего). Пристав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удар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ичег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 и НИ отделяются предлогом, то они пишутся раздельно в три слова (ни_у_когО, нЕ_у_ког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20:12:14Z</dcterms:created>
  <dc:creator>Светлана</dc:creator>
  <dc:description/>
  <dc:language>en-US</dc:language>
  <cp:lastModifiedBy>Админ</cp:lastModifiedBy>
  <dcterms:modified xsi:type="dcterms:W3CDTF">2020-04-07T09:17:07Z</dcterms:modified>
  <cp:revision>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80000000000010243100207f6000400038000</vt:lpwstr>
  </property>
</Properties>
</file>