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085F-98F6-41F9-B8AB-8123057F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12E-8103-45D8-84A7-1FF61C85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D54-1B3F-4FFD-AE1B-4A33ABD6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A9B-36DD-4CAF-9A08-1D4CD132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F73-A3A9-4277-B457-BF6F83BC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D50-92B6-401A-878F-00FEFFAA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D80-E4A5-4D79-AEF1-C8211101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DBA-34B6-4025-9651-4F058E50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3EA-8320-412A-90B7-CD4D206E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7A8-7CE9-4F53-BC92-EC6D54D5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5C7-7364-49DB-B39F-3A2CF99D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F19-B25F-4F8D-9DD0-7820CF2E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29DC-6AB7-482F-8F6F-682D970A87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8" descr="32451c80e368.jpg"/>
          <p:cNvPicPr/>
          <p:nvPr/>
        </p:nvPicPr>
        <p:blipFill>
          <a:blip r:embed="rId2"/>
          <a:stretch/>
        </p:blipFill>
        <p:spPr>
          <a:xfrm>
            <a:off x="0" y="4381560"/>
            <a:ext cx="243036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476280"/>
            <a:ext cx="6553080" cy="3960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_BosaNova"/>
                <a:ea typeface="Times New Roman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a_BosaNova"/>
                <a:ea typeface="Times New Roman"/>
              </a:rPr>
              <a:t>«Местоимения . Повторение»</a:t>
            </a:r>
            <a:br>
              <a:rPr sz="4800"/>
            </a:b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начение местоимен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340000" y="162864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имения позволяют избегать неоправданных повторов в речи, указывают на предмет, не называя его, и чаще всего используются в предложении вместо имён существ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имения делают нашу речь яркой, выразительной, краси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стоим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900000" y="134136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ывают на предмет, количество, признак, 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называю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чают н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то? что? какой? чей? скольк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ются п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дежам, числам, род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бы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леном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стоимения заменяют им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71640" y="1197000"/>
          <a:ext cx="7777080" cy="381636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7272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Имя сущест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Имя 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Имя числ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т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кой? Ч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кольк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6892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Я, ты, мы, вы, он, она, оно, они, себя, никто, ничто, никого, кто-то, что-то, что-либо, кто-нибудь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ой, твой, свой, ваш, свои, этот, тот, самый, весь, каждый, такой, таков, никакой, ничей, какой-нибудь, чей-либо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колько, столько, сколько-нибудь, сколько-то, нескольк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зряды местоим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49636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написания неопределенных местоимен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835280" y="1560600"/>
            <a:ext cx="72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определенных местоимениях (некто, нечто и др.) приставка НЕ- всегда стои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 ударение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ишется слитно (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ьк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ые местоимения с приставкой КОЕ- и суффиксами -ТО, -ЛИБО, -НИБУДЬ пишу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ез дефи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кто-нибудь, кое-кт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КОЕ- отделяется от местоимения предлогом, пишется через дефис (кое_у_ког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написания отрицательных местоимений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457280" y="1484280"/>
            <a:ext cx="748836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тавки НЕ-, НИ- пишу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итн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о)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тав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е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арн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чего). Пристав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е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ударн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ичег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 и НИ отделяются предлогом, то они пишутся раздельно в три слова (ни_у_когО, нЕ_у_ког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20:12:14Z</dcterms:created>
  <dc:creator>Светлана</dc:creator>
  <dc:description/>
  <dc:language>en-US</dc:language>
  <cp:lastModifiedBy>Админ</cp:lastModifiedBy>
  <dcterms:modified xsi:type="dcterms:W3CDTF">2020-04-07T09:17:07Z</dcterms:modified>
  <cp:revision>6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80000000000010243100207f6000400038000</vt:lpwstr>
  </property>
</Properties>
</file>