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4.png" ContentType="image/png"/>
  <Override PartName="/ppt/media/image11.jpeg" ContentType="image/jpeg"/>
  <Override PartName="/ppt/media/image12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3.jpeg" ContentType="image/jpeg"/>
  <Override PartName="/ppt/media/image26.jpeg" ContentType="image/jpeg"/>
  <Override PartName="/ppt/media/image5.jpeg" ContentType="image/jpeg"/>
  <Override PartName="/ppt/media/image6.jpeg" ContentType="image/jpeg"/>
  <Override PartName="/ppt/media/image33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gif" ContentType="image/gif"/>
  <Override PartName="/ppt/media/image14.jpeg" ContentType="image/jpeg"/>
  <Override PartName="/ppt/media/image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16.png" ContentType="image/png"/>
  <Override PartName="/ppt/media/image17.jpeg" ContentType="image/jpeg"/>
  <Override PartName="/ppt/media/image18.jpeg" ContentType="image/jpeg"/>
  <Override PartName="/ppt/media/image32.gif" ContentType="image/gif"/>
  <Override PartName="/ppt/media/image2.gif" ContentType="image/gif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42A5-5359-4E7B-8D75-584DAD837DE9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а учитель физической культуры: Тимофеева З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C916-3C34-45F1-9230-6A8EFF93581B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8B93-5F56-4112-99C6-9BCED319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101-0CA1-4669-921F-FD287CBD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8AA7-189B-47FE-B932-5DF794E6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7EA-6FBA-4856-B603-802F20A1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785B-B190-4BFA-8ECC-A534E63D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C81-6307-484E-82AA-1630B91D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9F0-5011-4244-A4E1-AB22AA09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00A0-F00C-403B-983A-D146F8A1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DC79-D9D9-42A4-A500-C5B41045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3E6-4F71-4B39-964E-4B33706D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93D-3A0C-47BB-ACDC-B0FA8808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2EC-011E-4AEA-846A-02D379B6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40B3-7705-4F83-8100-1C9494FC38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image" Target="../media/image28.jpeg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image" Target="../media/image31.jpeg"/><Relationship Id="rId8" Type="http://schemas.openxmlformats.org/officeDocument/2006/relationships/image" Target="../media/image32.gif"/><Relationship Id="rId9" Type="http://schemas.openxmlformats.org/officeDocument/2006/relationships/image" Target="../media/image32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port_news_background_tv"/>
          <p:cNvPicPr/>
          <p:nvPr/>
        </p:nvPicPr>
        <p:blipFill>
          <a:blip r:embed="rId1"/>
          <a:srcRect l="0" t="0" r="0" b="103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684360" y="620640"/>
            <a:ext cx="777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ЕТОДИКА ОБУЧЕНИЯ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УСКА НА ЛЫЖАХ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Picture 9" descr="people078"/>
          <p:cNvPicPr/>
          <p:nvPr/>
        </p:nvPicPr>
        <p:blipFill>
          <a:blip r:embed="rId2"/>
          <a:stretch/>
        </p:blipFill>
        <p:spPr>
          <a:xfrm>
            <a:off x="2484360" y="206064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1" descr="0009-009-Spasibo-za-vnima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9"/>
          <p:cNvSpPr/>
          <p:nvPr/>
        </p:nvSpPr>
        <p:spPr>
          <a:xfrm>
            <a:off x="3386160" y="34020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Правила спус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179280" y="839520"/>
            <a:ext cx="8713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00cc"/>
                </a:solidFill>
                <a:uFillTx/>
                <a:latin typeface="Arial"/>
              </a:rPr>
              <a:t>I</a:t>
            </a:r>
            <a:r>
              <a:rPr b="1" lang="ru-RU" sz="1600" spc="-1" strike="noStrike" u="sng">
                <a:solidFill>
                  <a:srgbClr val="9900cc"/>
                </a:solidFill>
                <a:uFillTx/>
                <a:latin typeface="Arial"/>
              </a:rPr>
              <a:t>. Одновременный бесшажный ход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Описание техни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ика хода состоит из одновременного толчка руками, скольжения на двух лыжах в согнутом положении, голова слегка приподнята. Продолжая скользить, нужно медленно выпрямляться и плавным, маятникообразным движением вынести палки вперед. Палки ставятся чуть впереди креплений, начинается толчок. Толчок заканчивается полным выпрямлением рук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-1176480" y="6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3"/>
          <p:cNvGrpSpPr/>
          <p:nvPr/>
        </p:nvGrpSpPr>
        <p:grpSpPr>
          <a:xfrm>
            <a:off x="0" y="2637000"/>
            <a:ext cx="8962920" cy="1781280"/>
            <a:chOff x="0" y="2637000"/>
            <a:chExt cx="8962920" cy="1781280"/>
          </a:xfrm>
        </p:grpSpPr>
        <p:pic>
          <p:nvPicPr>
            <p:cNvPr id="55" name="Picture 12" descr="лыж6"/>
            <p:cNvPicPr/>
            <p:nvPr/>
          </p:nvPicPr>
          <p:blipFill>
            <a:blip r:embed="rId1"/>
            <a:srcRect l="29730" t="22035" r="53430" b="55778"/>
            <a:stretch/>
          </p:blipFill>
          <p:spPr>
            <a:xfrm>
              <a:off x="5940360" y="2708280"/>
              <a:ext cx="1511280" cy="136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7" descr="лыж1"/>
            <p:cNvPicPr/>
            <p:nvPr/>
          </p:nvPicPr>
          <p:blipFill>
            <a:blip r:embed="rId2"/>
            <a:srcRect l="33498" t="16999" r="53430" b="55901"/>
            <a:stretch/>
          </p:blipFill>
          <p:spPr>
            <a:xfrm>
              <a:off x="0" y="2637000"/>
              <a:ext cx="1152360" cy="144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6" descr="лыж2"/>
            <p:cNvPicPr/>
            <p:nvPr/>
          </p:nvPicPr>
          <p:blipFill>
            <a:blip r:embed="rId3"/>
            <a:srcRect l="33285" t="17490" r="53390" b="55910"/>
            <a:stretch/>
          </p:blipFill>
          <p:spPr>
            <a:xfrm>
              <a:off x="1187280" y="2711520"/>
              <a:ext cx="1152720" cy="136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5" descr="лыж3"/>
            <p:cNvPicPr/>
            <p:nvPr/>
          </p:nvPicPr>
          <p:blipFill>
            <a:blip r:embed="rId4"/>
            <a:srcRect l="32748" t="15931" r="53222" b="55429"/>
            <a:stretch/>
          </p:blipFill>
          <p:spPr>
            <a:xfrm>
              <a:off x="2340000" y="2638440"/>
              <a:ext cx="1163520" cy="144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4" descr="лыж4"/>
            <p:cNvPicPr/>
            <p:nvPr/>
          </p:nvPicPr>
          <p:blipFill>
            <a:blip r:embed="rId5"/>
            <a:srcRect l="33658" t="21072" r="53242" b="56544"/>
            <a:stretch/>
          </p:blipFill>
          <p:spPr>
            <a:xfrm>
              <a:off x="3492360" y="2709720"/>
              <a:ext cx="119556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3" descr="лыж5"/>
            <p:cNvPicPr/>
            <p:nvPr/>
          </p:nvPicPr>
          <p:blipFill>
            <a:blip r:embed="rId6"/>
            <a:srcRect l="31664" t="21497" r="53450" b="56449"/>
            <a:stretch/>
          </p:blipFill>
          <p:spPr>
            <a:xfrm>
              <a:off x="4643280" y="2781360"/>
              <a:ext cx="136872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1" descr="лыж7"/>
            <p:cNvPicPr/>
            <p:nvPr/>
          </p:nvPicPr>
          <p:blipFill>
            <a:blip r:embed="rId7"/>
            <a:srcRect l="29819" t="22007" r="53450" b="56525"/>
            <a:stretch/>
          </p:blipFill>
          <p:spPr>
            <a:xfrm>
              <a:off x="7380360" y="2781360"/>
              <a:ext cx="158256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Rectangle 19"/>
            <p:cNvSpPr/>
            <p:nvPr/>
          </p:nvSpPr>
          <p:spPr>
            <a:xfrm>
              <a:off x="179280" y="4080960"/>
              <a:ext cx="864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  <a:ea typeface="Times New Roman"/>
                </a:rPr>
                <a:t>1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  <a:ea typeface="Times New Roman"/>
                </a:rPr>
                <a:t>	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  <a:ea typeface="Times New Roman"/>
                </a:rPr>
                <a:t>    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</a:rPr>
                <a:t>    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  <a:ea typeface="Times New Roman"/>
                </a:rPr>
                <a:t>2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  <a:ea typeface="Times New Roman"/>
                </a:rPr>
                <a:t>	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  <a:ea typeface="Times New Roman"/>
                </a:rPr>
                <a:t>    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</a:rPr>
                <a:t>         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  <a:ea typeface="Times New Roman"/>
                </a:rPr>
                <a:t>3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  <a:ea typeface="Times New Roman"/>
                </a:rPr>
                <a:t>	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  <a:ea typeface="Times New Roman"/>
                </a:rPr>
                <a:t> 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</a:rPr>
                <a:t>	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  <a:ea typeface="Times New Roman"/>
                </a:rPr>
                <a:t>4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  <a:ea typeface="Times New Roman"/>
                </a:rPr>
                <a:t>	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  <a:ea typeface="Times New Roman"/>
                </a:rPr>
                <a:t> 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</a:rPr>
                <a:t>      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  <a:ea typeface="Times New Roman"/>
                </a:rPr>
                <a:t>5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  <a:ea typeface="Times New Roman"/>
                </a:rPr>
                <a:t>	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  <a:ea typeface="Times New Roman"/>
                </a:rPr>
                <a:t>   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</a:rPr>
                <a:t>	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  <a:ea typeface="Times New Roman"/>
                </a:rPr>
                <a:t>6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  <a:ea typeface="Times New Roman"/>
                </a:rPr>
                <a:t>	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  <a:ea typeface="Times New Roman"/>
                </a:rPr>
                <a:t>      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</a:rPr>
                <a:t>    </a:t>
              </a:r>
              <a:r>
                <a:rPr b="1" lang="ru-RU" sz="1600" spc="-1" strike="noStrike">
                  <a:solidFill>
                    <a:srgbClr val="9900cc"/>
                  </a:solidFill>
                  <a:latin typeface="Arial"/>
                  <a:ea typeface="Times New Roman"/>
                </a:rPr>
                <a:t>7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4" name="Rectangle 4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5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6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21"/>
          <p:cNvSpPr/>
          <p:nvPr/>
        </p:nvSpPr>
        <p:spPr>
          <a:xfrm>
            <a:off x="179280" y="4296600"/>
            <a:ext cx="8675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одновременный бесшажный ход применяется на пологих склонах (спусках), при плохом скольжении – на спусках средней крутизны и на раскатанной жесткой лыжне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нужно выполнять законченный толчок палками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во время толчка руками принимает участие в работе и туловище, которое должно «провисать» между палками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) нельзя широко ставить палки на снег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) нельзя приседать при толчке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) нельзя резко выпрямлять туловище после толчк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5" descr="4_1855015477-41702"/>
          <p:cNvPicPr/>
          <p:nvPr/>
        </p:nvPicPr>
        <p:blipFill>
          <a:blip r:embed="rId8"/>
          <a:stretch/>
        </p:blipFill>
        <p:spPr>
          <a:xfrm>
            <a:off x="7812000" y="5589720"/>
            <a:ext cx="106380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9"/>
          <p:cNvSpPr/>
          <p:nvPr/>
        </p:nvSpPr>
        <p:spPr>
          <a:xfrm>
            <a:off x="2919600" y="18792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СПУСКИ НА ЛЫЖА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397800" y="548640"/>
            <a:ext cx="25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СТОЙ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2987640" y="549360"/>
            <a:ext cx="583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ивает наибольшую устойчивость на спуске, удобна и наименее утомительна. Ноги слегка согнуты, лыжи расставлены на расстоянии 10-15 см друг от друга, туловище наклонено вперед, вес тела равномерно распределен на обе ноги, руки опущены и немного вынесены вперед, палки почти параллельны склону, кольцами назад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Основная"/>
          <p:cNvPicPr/>
          <p:nvPr/>
        </p:nvPicPr>
        <p:blipFill>
          <a:blip r:embed="rId1"/>
          <a:srcRect l="20514" t="16649" r="45884" b="44420"/>
          <a:stretch/>
        </p:blipFill>
        <p:spPr>
          <a:xfrm>
            <a:off x="179280" y="836640"/>
            <a:ext cx="2808360" cy="17272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2"/>
          <p:cNvSpPr/>
          <p:nvPr/>
        </p:nvSpPr>
        <p:spPr>
          <a:xfrm>
            <a:off x="396720" y="2491560"/>
            <a:ext cx="24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КАЯ СТОЙ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3"/>
          <p:cNvSpPr/>
          <p:nvPr/>
        </p:nvSpPr>
        <p:spPr>
          <a:xfrm>
            <a:off x="2987640" y="256572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ичается от основной более выпрямленным положением туловища, ноги слегка согнуты для амортизации неровностей спуска, одна лыжа немного выдвинута вперед для удержания равновесия в переднезаднем направлении. Применяется стойка главным образом при необходимости уменьшить скорость и на более крутых склонах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4" descr="Высокая"/>
          <p:cNvPicPr/>
          <p:nvPr/>
        </p:nvPicPr>
        <p:blipFill>
          <a:blip r:embed="rId2"/>
          <a:srcRect l="22381" t="15572" r="42104" b="44817"/>
          <a:stretch/>
        </p:blipFill>
        <p:spPr>
          <a:xfrm>
            <a:off x="179280" y="2852640"/>
            <a:ext cx="2737080" cy="17287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5"/>
          <p:cNvSpPr/>
          <p:nvPr/>
        </p:nvSpPr>
        <p:spPr>
          <a:xfrm>
            <a:off x="469800" y="465228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ЗКАЯ СТОЙ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6"/>
          <p:cNvSpPr/>
          <p:nvPr/>
        </p:nvSpPr>
        <p:spPr>
          <a:xfrm>
            <a:off x="2987640" y="4869000"/>
            <a:ext cx="59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ется на открытых пологих склонах, длинных и прямых участках спуска для достижения наибольшей скорости. В низкой стойке лыжника ноги сильно согнуты, туловище наклонено вперед, руки с палками вытягивают вперед. Вес тела равномерно загружает стопу ног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7" descr="Низкая"/>
          <p:cNvPicPr/>
          <p:nvPr/>
        </p:nvPicPr>
        <p:blipFill>
          <a:blip r:embed="rId3"/>
          <a:srcRect l="11166" t="3487" r="47817" b="37929"/>
          <a:stretch/>
        </p:blipFill>
        <p:spPr>
          <a:xfrm>
            <a:off x="179280" y="4941720"/>
            <a:ext cx="2664000" cy="191628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1" name="Rectangle 5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6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3282480" y="18792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ПОДЪЕМНА ЛЫЖА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470880" y="475560"/>
            <a:ext cx="40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ПОДЪЕМ СТУПАЮЩИМ ШАГО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2556000" y="841680"/>
            <a:ext cx="6300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ется в тех случаях, когда подниматься скользящим шагом уже невозможно, а применять «полуелочку» или «елочку» еще нецелесообразно. Координация движений этим способом в принципе та же, что и в попеременном двухшажном ходе, только отсутствует фаза скольжения и меняется ритм работы рук. Делается по возможности широкий шаг с прихлопыванием лыжи, этим самым улучшается сцепление со снегом. Туловище наклоняется вперед, палки ставятся под небольшим углом к склону горы, увеличивается сила и продолжительность отталкивания ими. Перерывы в опорных положениях рук исчезаю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3" descr="Ступающий"/>
          <p:cNvPicPr/>
          <p:nvPr/>
        </p:nvPicPr>
        <p:blipFill>
          <a:blip r:embed="rId1"/>
          <a:srcRect l="24313" t="18076" r="45727" b="48824"/>
          <a:stretch/>
        </p:blipFill>
        <p:spPr>
          <a:xfrm>
            <a:off x="179280" y="1197000"/>
            <a:ext cx="2376720" cy="2031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7"/>
          <p:cNvSpPr/>
          <p:nvPr/>
        </p:nvSpPr>
        <p:spPr>
          <a:xfrm>
            <a:off x="4285800" y="3572640"/>
            <a:ext cx="42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ЪЕМ СКОЛЬЗЯЩИМ ША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324000" y="3938400"/>
            <a:ext cx="6076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вляется по существу разновидностью попеременного двухшажного хода и применяется на пологих склонах. Передвигаясь на равнине этим способом и переходя на подъем, сохраняется общая координация движений, но в структуре хода происходит перестройка: ликвидируется прокат и создается непрерывное приложение усилий; еще не окончили толчок рука и нога, как уже вступают в работу другая нога и рука. Нога выносится стопой и наклоненной вперед голенью, лыжа выносимой ноги нагружается весом тела как можно позж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9" descr="Скользящий"/>
          <p:cNvPicPr/>
          <p:nvPr/>
        </p:nvPicPr>
        <p:blipFill>
          <a:blip r:embed="rId2"/>
          <a:srcRect l="22441" t="17339" r="45757" b="44326"/>
          <a:stretch/>
        </p:blipFill>
        <p:spPr>
          <a:xfrm>
            <a:off x="6372360" y="4149720"/>
            <a:ext cx="2555640" cy="192888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5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2" descr="эмблема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68360" y="1125360"/>
            <a:ext cx="5616720" cy="4400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27222322"/>
          <p:cNvPicPr/>
          <p:nvPr/>
        </p:nvPicPr>
        <p:blipFill>
          <a:blip r:embed="rId2"/>
          <a:stretch/>
        </p:blipFill>
        <p:spPr>
          <a:xfrm>
            <a:off x="0" y="4519440"/>
            <a:ext cx="2724120" cy="2338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лыж"/>
          <p:cNvPicPr/>
          <p:nvPr/>
        </p:nvPicPr>
        <p:blipFill>
          <a:blip r:embed="rId3"/>
          <a:srcRect l="47894" t="34604" r="5906" b="5186"/>
          <a:stretch/>
        </p:blipFill>
        <p:spPr>
          <a:xfrm>
            <a:off x="6948360" y="189000"/>
            <a:ext cx="2016360" cy="196992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5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6" name="Rectangle 10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ectangle 14"/>
          <p:cNvSpPr/>
          <p:nvPr/>
        </p:nvSpPr>
        <p:spPr>
          <a:xfrm>
            <a:off x="1407600" y="47556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Учащиеся должны знать, что при спуске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539640" y="1052640"/>
            <a:ext cx="66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нужно сгибать ноги в коленных суставах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нельзя сильно наклонять туловище вперед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нельзя руки с палками широко расставлять в стороны и держать перед собой кольцами вперед или волочить их по снегу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нужно вес тела равномерно распределять на обе лыжи и слегка вывести одну лыжу вперед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1551960" y="3572640"/>
            <a:ext cx="51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Учащиеся должны знать, что при подъеме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2700360" y="4437000"/>
            <a:ext cx="59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нельзя делать слишком большой наклон туловища вперед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нельзя ставить лыжные палки в снег под слишком тупым углом далеко от туловища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нельзя делать высокий вынос рук (выше головы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9"/>
          <p:cNvSpPr/>
          <p:nvPr/>
        </p:nvSpPr>
        <p:spPr>
          <a:xfrm>
            <a:off x="396000" y="40392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ПОДЪЕМ «ЁЛОЧКОЙ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3203640" y="765720"/>
            <a:ext cx="557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ется на более крутых склонах, когда ступающим шагом преодолеть подъем трудно. Чтобы избежать скатывания вниз, необходимо увеличить сцепление лыж со снегом за счет разведения носков лыж в стороны. След от лыж напоминает ветки елочки, поэтому способ получил такое название. Лыжи ставятся на внутренние ребра. При этом пятки лыж не должны перекрещиваться. Палки ставятся по бокам и сзади лыж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Елочка"/>
          <p:cNvPicPr/>
          <p:nvPr/>
        </p:nvPicPr>
        <p:blipFill>
          <a:blip r:embed="rId1"/>
          <a:srcRect l="26203" t="11925" r="41954" b="25154"/>
          <a:stretch/>
        </p:blipFill>
        <p:spPr>
          <a:xfrm>
            <a:off x="611280" y="765000"/>
            <a:ext cx="2333520" cy="2880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2"/>
          <p:cNvSpPr/>
          <p:nvPr/>
        </p:nvSpPr>
        <p:spPr>
          <a:xfrm>
            <a:off x="397440" y="3859920"/>
            <a:ext cx="36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ПОДЪЕМ «ПОЛУЁЛОЧКОЙ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3" descr="Полуелочка"/>
          <p:cNvPicPr/>
          <p:nvPr/>
        </p:nvPicPr>
        <p:blipFill>
          <a:blip r:embed="rId2"/>
          <a:srcRect l="20563" t="12870" r="28943" b="24133"/>
          <a:stretch/>
        </p:blipFill>
        <p:spPr>
          <a:xfrm>
            <a:off x="5435640" y="3789360"/>
            <a:ext cx="3373560" cy="26179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4"/>
          <p:cNvSpPr/>
          <p:nvPr/>
        </p:nvSpPr>
        <p:spPr>
          <a:xfrm>
            <a:off x="324000" y="4365720"/>
            <a:ext cx="4833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ется при преодолении склонов наискось. Лыжник одной лыжей (опорной) шагает по склону, разводя носок лыжи в сторону, а другой скользит по лыжне прямо. Шаг верхней ноги всегда длиннее, нижней. Палки работают так же, как и при подъеме ступающим шаго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4" descr="rebenok_na_lizhah_w300_h300"/>
          <p:cNvPicPr/>
          <p:nvPr/>
        </p:nvPicPr>
        <p:blipFill>
          <a:blip r:embed="rId1"/>
          <a:stretch/>
        </p:blipFill>
        <p:spPr>
          <a:xfrm>
            <a:off x="250920" y="3716280"/>
            <a:ext cx="2743200" cy="28576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7" name="Rectangle 5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9"/>
          <p:cNvSpPr/>
          <p:nvPr/>
        </p:nvSpPr>
        <p:spPr>
          <a:xfrm>
            <a:off x="3041280" y="187920"/>
            <a:ext cx="30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ТОРМОЖЕНИЯ ЛЫЖАМ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327600" y="548640"/>
            <a:ext cx="568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ИСАНИЕ ТЕХНИКИ ТОРМОЖЕНИЯ «ПЛУГОМ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Плуг"/>
          <p:cNvPicPr/>
          <p:nvPr/>
        </p:nvPicPr>
        <p:blipFill>
          <a:blip r:embed="rId2"/>
          <a:srcRect l="28064" t="10111" r="42019" b="32864"/>
          <a:stretch/>
        </p:blipFill>
        <p:spPr>
          <a:xfrm>
            <a:off x="6156360" y="620640"/>
            <a:ext cx="2408040" cy="2879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2"/>
          <p:cNvSpPr/>
          <p:nvPr/>
        </p:nvSpPr>
        <p:spPr>
          <a:xfrm>
            <a:off x="468360" y="1053000"/>
            <a:ext cx="54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ется на прямых спусках со склонов малой и средней крутизны. «Плуг» начинается с разведения лыж в стороны и давления на них каблуками ботинок; носки лыж остаются вместе, пятки лыж широко разведены в стороны, лыжи ставятся на внутренние ребра; колени сводятся вместе, туловище и руки принимают положение, как и при спуске в основной стойке; вес тела распределен равномерно на обе лыж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3095640" y="3789720"/>
            <a:ext cx="60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торможение «плугом» применяется для уменьшения скорости на спусках или полной остановки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во время торможения носки лыж должны быть вместе, пятки лыж разведены в стороны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лыжи необходимо поставить на внутренние ребра, вес тела распределить равномерно на обе лыжи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4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оложение туловища и рук с палками должно быть, как при спуске в основной стойк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5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6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7"/>
          <p:cNvSpPr/>
          <p:nvPr/>
        </p:nvSpPr>
        <p:spPr>
          <a:xfrm>
            <a:off x="830880" y="332640"/>
            <a:ext cx="761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ИСАНИЕ ТЕХНИКИ ТОРМОЖЕНИЯ УПОРОМ («ПОЛУПЛУГОМ»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Полуплуг"/>
          <p:cNvPicPr/>
          <p:nvPr/>
        </p:nvPicPr>
        <p:blipFill>
          <a:blip r:embed="rId1"/>
          <a:srcRect l="26191" t="11018" r="41995" b="32921"/>
          <a:stretch/>
        </p:blipFill>
        <p:spPr>
          <a:xfrm>
            <a:off x="539640" y="765000"/>
            <a:ext cx="2370240" cy="2592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3132000" y="981000"/>
            <a:ext cx="5278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ется на косых спусках малой и средней крутизны. Нужно перенести вес тела на верхнюю лыжу, а нижнюю поставить на ребро в положение упора. Носки лыж удерживаются на одном уровне. При необходимости увеличения торможения нижнюю лыжу ставят больше в сторон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611280" y="3797280"/>
            <a:ext cx="554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и торможении нельзя выводить нижнюю лыжу далеко вперед, создавая перекрещивающиеся лыж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нельзя выпрямлять ногу с верхней лыжей, на которой происходит скольжение, и, наоборот, нельзя сгибать отведенную в сторону (в упор) ногу с нижней (упоровой) лыже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getting-up-step2"/>
          <p:cNvPicPr/>
          <p:nvPr/>
        </p:nvPicPr>
        <p:blipFill>
          <a:blip r:embed="rId2"/>
          <a:stretch/>
        </p:blipFill>
        <p:spPr>
          <a:xfrm>
            <a:off x="6372360" y="3716280"/>
            <a:ext cx="2401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4" descr="0105"/>
          <p:cNvPicPr/>
          <p:nvPr/>
        </p:nvPicPr>
        <p:blipFill>
          <a:blip r:embed="rId1"/>
          <a:srcRect l="9676" t="0" r="4165" b="0"/>
          <a:stretch/>
        </p:blipFill>
        <p:spPr>
          <a:xfrm>
            <a:off x="6877080" y="189000"/>
            <a:ext cx="2266920" cy="224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2" descr="images"/>
          <p:cNvPicPr/>
          <p:nvPr/>
        </p:nvPicPr>
        <p:blipFill>
          <a:blip r:embed="rId2"/>
          <a:srcRect l="14379" t="0" r="11708" b="7190"/>
          <a:stretch/>
        </p:blipFill>
        <p:spPr>
          <a:xfrm>
            <a:off x="7451640" y="4869000"/>
            <a:ext cx="1470240" cy="184464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9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6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gradFill rotWithShape="0">
              <a:gsLst>
                <a:gs pos="0">
                  <a:srgbClr val="005cbf"/>
                </a:gs>
                <a:gs pos="100000">
                  <a:srgbClr val="005cb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8" descr="6213d992ba3b174d8c1a242fc78a7c69"/>
          <p:cNvPicPr/>
          <p:nvPr/>
        </p:nvPicPr>
        <p:blipFill>
          <a:blip r:embed="rId3"/>
          <a:stretch/>
        </p:blipFill>
        <p:spPr>
          <a:xfrm flipH="1">
            <a:off x="-684360" y="4221000"/>
            <a:ext cx="3183120" cy="2476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Olympics-clipart-300x225"/>
          <p:cNvPicPr/>
          <p:nvPr/>
        </p:nvPicPr>
        <p:blipFill>
          <a:blip r:embed="rId4"/>
          <a:stretch/>
        </p:blipFill>
        <p:spPr>
          <a:xfrm>
            <a:off x="755640" y="2276640"/>
            <a:ext cx="7777080" cy="2643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snow"/>
          <p:cNvPicPr/>
          <p:nvPr/>
        </p:nvPicPr>
        <p:blipFill>
          <a:blip r:embed="rId5"/>
          <a:stretch/>
        </p:blipFill>
        <p:spPr>
          <a:xfrm>
            <a:off x="395280" y="4933800"/>
            <a:ext cx="1571760" cy="1924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snow_anim_1"/>
          <p:cNvPicPr/>
          <p:nvPr/>
        </p:nvPicPr>
        <p:blipFill>
          <a:blip r:embed="rId6"/>
          <a:stretch/>
        </p:blipFill>
        <p:spPr>
          <a:xfrm>
            <a:off x="5867280" y="2205000"/>
            <a:ext cx="2724120" cy="33526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5"/>
          <p:cNvSpPr/>
          <p:nvPr/>
        </p:nvSpPr>
        <p:spPr>
          <a:xfrm>
            <a:off x="1258920" y="2421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зимний день я не скучаю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стро лыжи надеваю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руки я беру две палки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ветерком играю в салки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3780000" y="189000"/>
            <a:ext cx="33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 снегу две полосы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дивились две лисы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дошла одна поближе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Здесь бежали чьи-то ..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2987640" y="5300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то по снегу быстро мчится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овалиться не боится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5222160" y="155736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ыж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5366520" y="609300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ыжни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3" descr="n"/>
          <p:cNvPicPr/>
          <p:nvPr/>
        </p:nvPicPr>
        <p:blipFill>
          <a:blip r:embed="rId7"/>
          <a:stretch/>
        </p:blipFill>
        <p:spPr>
          <a:xfrm>
            <a:off x="179280" y="189000"/>
            <a:ext cx="3097440" cy="208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0" descr="0006-012-Da-pozadumalas-a-syr-vo-rtu-derzhala"/>
          <p:cNvPicPr/>
          <p:nvPr/>
        </p:nvPicPr>
        <p:blipFill>
          <a:blip r:embed="rId8"/>
          <a:stretch/>
        </p:blipFill>
        <p:spPr>
          <a:xfrm>
            <a:off x="2916360" y="1125360"/>
            <a:ext cx="1638000" cy="1143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1" descr="0006-012-Da-pozadumalas-a-syr-vo-rtu-derzhala"/>
          <p:cNvPicPr/>
          <p:nvPr/>
        </p:nvPicPr>
        <p:blipFill>
          <a:blip r:embed="rId9"/>
          <a:stretch/>
        </p:blipFill>
        <p:spPr>
          <a:xfrm flipH="1">
            <a:off x="-360" y="981000"/>
            <a:ext cx="1638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06:58:03Z</dcterms:created>
  <dc:creator>User</dc:creator>
  <dc:description/>
  <dc:language>en-US</dc:language>
  <cp:lastModifiedBy>Windows User</cp:lastModifiedBy>
  <dcterms:modified xsi:type="dcterms:W3CDTF">2020-04-07T17:28:54Z</dcterms:modified>
  <cp:revision>8</cp:revision>
  <dc:subject/>
  <dc:title>Слайд 1</dc:title>
</cp:coreProperties>
</file>