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B33-72B8-44DB-8D80-1690AF4F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AA4-AB43-442F-9AEF-0F7426B6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414-5164-488F-840F-CBAC79E2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2B0-23E7-4785-97EF-B3ED8902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E89-28E8-48BF-886C-34C959B0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1AA-225D-4718-8957-186C0AC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3CC1-63AE-4EBA-BC6D-F5311C1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25D-3D8C-4A13-BF7D-0186443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E54A-981D-48E5-8868-B878822C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F6EC-7059-4D6A-9BD0-358AF62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51F-4A55-4560-9A4A-E0871B4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F2B-01DD-4E51-B78A-8D66478B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1D9E-5D72-44A4-9EEF-4474DC3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F284-84C7-4242-9D13-586CFB5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A2E-8D9C-4EB1-A315-0644C41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6E02-1221-4665-BC41-F479615B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359F-7406-413F-B184-1EDFE3A4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5A0-2B5D-446E-B377-02F45D4B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139-68D0-44F6-B437-8C27B4E8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70A-0A6B-49CA-BA68-0F58F64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C12-F710-4ABC-B437-B858EF1B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360-411E-4948-981F-722C9A9C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3DD-DA2B-47EE-83A6-95A1823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F18-9A7C-40F5-8B32-3B0E3F9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F3D-18F4-4E83-B821-E68292CBA5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0988-029A-4221-8EDC-44D978C8574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щность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диницы мощно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резентация выполнена учителем физики </a:t>
            </a:r>
            <a:br>
              <a:rPr sz="1800"/>
            </a:b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ГБОУ СОШ №241 г. Санкт-Петербург </a:t>
            </a:r>
            <a:br>
              <a:rPr sz="1800"/>
            </a:b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Овчаровой Светланой Федоровной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жите единицы измерения, которые 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не являютс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единицами измерения рабо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Н·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Д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Н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вычисления работы надо силу 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умножить на площад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разделить на площад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умножить на пу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разделить на пу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1747800" y="5565600"/>
            <a:ext cx="533520" cy="53532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5640480" y="4344840"/>
            <a:ext cx="533160" cy="5349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618600" y="452520"/>
            <a:ext cx="1512720" cy="703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A=F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·s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чка заполнена водой. Пользуясь ведром, ровно половину воды из бочки вычерпала девочка. Оставшуюся часть воды – мальчик. Одинаковую ли работу совершили девочка и мальчик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Мальчик совершил большую работу, чем девочк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евочка совершила большую работу, чем мальчик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динакову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 наклонному желобу скатываются деревянный и стальной шарики одинакового объема. Одинаковую ли работу совершит сила тяжести при скатывании каждого из этих ш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При скатывании деревянного шара совершается большая работ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При скатывании стального шара совершается большая рабо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динакову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335560" y="4879800"/>
            <a:ext cx="380880" cy="38124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1519200" y="3886200"/>
            <a:ext cx="304920" cy="3063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618600" y="452520"/>
            <a:ext cx="1512720" cy="703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A=F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·s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пределите работу, совершаемую при подъеме груза весом 4 Н на высоту 40 с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1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1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1,6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80 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20800" y="1523520"/>
            <a:ext cx="382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ычислите работу, произведенную силой  0,02 кН, если расстояние, пройденное телом по направлению действия этой силы, равно 20 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4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1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2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400 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1824120" y="4344840"/>
            <a:ext cx="533160" cy="5349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564160" y="5872320"/>
            <a:ext cx="533520" cy="5349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618600" y="452520"/>
            <a:ext cx="1512720" cy="703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A=F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·s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льпинист поднялся в горах на высоту 400 м. Определите механическую работу, совершенную альпинистом при подъеме, если его масса вместе со снаряжением равна  80 кг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32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320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2 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помощи подъемного крана подняли груз массой 500 кг на высоту 10 м. Какая при этом совершается работа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02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0 к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1824120" y="5489640"/>
            <a:ext cx="457200" cy="45864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5640480" y="4802040"/>
            <a:ext cx="458640" cy="45900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3870720" y="5413320"/>
            <a:ext cx="1625400" cy="703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F=m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·g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5809680" y="5413320"/>
            <a:ext cx="2221560" cy="703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g=10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м/с</a:t>
            </a:r>
            <a:r>
              <a:rPr b="1" lang="ru-RU" sz="4000" spc="-1" strike="noStrike" baseline="30000">
                <a:solidFill>
                  <a:srgbClr val="3333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Rectangle 12">
            <a:hlinkClick r:id="rId1" action="ppaction://hlinksldjump"/>
          </p:cNvPr>
          <p:cNvSpPr/>
          <p:nvPr/>
        </p:nvSpPr>
        <p:spPr>
          <a:xfrm>
            <a:off x="5183280" y="6329520"/>
            <a:ext cx="914400" cy="29988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6618600" y="452520"/>
            <a:ext cx="1512720" cy="703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A=F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·s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4"/>
          <p:cNvSpPr/>
          <p:nvPr/>
        </p:nvSpPr>
        <p:spPr>
          <a:xfrm>
            <a:off x="3732120" y="223920"/>
            <a:ext cx="3129120" cy="2824200"/>
          </a:xfrm>
          <a:prstGeom prst="irregularSeal1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5" name="Picture 6" descr="Лошадь и трактор вспахивали равные наделы земли. Мощность, развиваемая трактором, больше мощности, развиваемой лошадью. Поэтому и затраченное ими время не одинаково: у крестьянина оно больше, чем у тракториста."/>
          <p:cNvPicPr/>
          <p:nvPr/>
        </p:nvPicPr>
        <p:blipFill>
          <a:blip r:embed="rId1"/>
          <a:stretch/>
        </p:blipFill>
        <p:spPr>
          <a:xfrm>
            <a:off x="5640480" y="2894040"/>
            <a:ext cx="3205080" cy="2643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Землекоп и экскаватор работали равное количество времени.  Мощность, развиваемая экскаватором, больше мощности, развиваемой землекопом. Поэтому и совершенная экскаватором работа больше работы, совершенной землекопом."/>
          <p:cNvPicPr/>
          <p:nvPr/>
        </p:nvPicPr>
        <p:blipFill>
          <a:blip r:embed="rId2"/>
          <a:stretch/>
        </p:blipFill>
        <p:spPr>
          <a:xfrm>
            <a:off x="1519200" y="2894040"/>
            <a:ext cx="35114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пределени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у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диницы измере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пособы измере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рочитайте текст на стр. 166-167   учебника  (с карандашом в руках), подготовьтесь рассказать о мощности как о физической величин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346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ощность - это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у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диницы измерения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И: 1       = 1Вт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 кВт;   1 МВт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960720" y="2817720"/>
            <a:ext cx="2136960" cy="114624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5032800" y="152100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Arial"/>
              </a:rPr>
              <a:t>физическая величина,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599120" y="190188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которая характеризует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1597320" y="236052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и равна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4114800" y="2741760"/>
                <a:ext cx="152712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2577960" y="4268880"/>
                <a:ext cx="530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6"/>
          <p:cNvSpPr/>
          <p:nvPr/>
        </p:nvSpPr>
        <p:spPr>
          <a:xfrm>
            <a:off x="6785640" y="5260680"/>
            <a:ext cx="16894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Джеймс Уатт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58" name="Picture 17" descr="26514_or"/>
          <p:cNvPicPr/>
          <p:nvPr/>
        </p:nvPicPr>
        <p:blipFill>
          <a:blip r:embed="rId1"/>
          <a:stretch/>
        </p:blipFill>
        <p:spPr>
          <a:xfrm>
            <a:off x="6251400" y="2360520"/>
            <a:ext cx="26258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пе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Мощ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216080"/>
            <a:ext cx="7491600" cy="502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Мощность – это физическая величина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 характеризует ............................................................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вна .......................................................................................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Формула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... – мощность, ... – работа, ... – врем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СИ:  1        =1 ….. (…………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Мегаватт 1 МВт = ……………Вт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ловатт ………………………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198960" y="2130480"/>
            <a:ext cx="1222200" cy="687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589480" y="350532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2665440" y="373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266400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5869080" y="2665440"/>
            <a:ext cx="2743200" cy="2060640"/>
            <a:chOff x="5869080" y="2665440"/>
            <a:chExt cx="2743200" cy="2060640"/>
          </a:xfrm>
        </p:grpSpPr>
        <p:sp>
          <p:nvSpPr>
            <p:cNvPr id="267" name="AutoShape 14"/>
            <p:cNvSpPr/>
            <p:nvPr/>
          </p:nvSpPr>
          <p:spPr>
            <a:xfrm>
              <a:off x="5869080" y="2665440"/>
              <a:ext cx="2743200" cy="20574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6554880" y="3735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7242480" y="373536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70" name="Text Box 17"/>
          <p:cNvSpPr/>
          <p:nvPr/>
        </p:nvSpPr>
        <p:spPr>
          <a:xfrm>
            <a:off x="4570200" y="1442880"/>
            <a:ext cx="37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быстроту выполнения работы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2507760" y="1749600"/>
            <a:ext cx="39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ношению работы ко времени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72" name="Group 22"/>
          <p:cNvGrpSpPr/>
          <p:nvPr/>
        </p:nvGrpSpPr>
        <p:grpSpPr>
          <a:xfrm>
            <a:off x="3808440" y="2054160"/>
            <a:ext cx="380880" cy="780120"/>
            <a:chOff x="3808440" y="2054160"/>
            <a:chExt cx="380880" cy="780120"/>
          </a:xfrm>
        </p:grpSpPr>
        <p:sp>
          <p:nvSpPr>
            <p:cNvPr id="273" name="Text Box 19"/>
            <p:cNvSpPr/>
            <p:nvPr/>
          </p:nvSpPr>
          <p:spPr>
            <a:xfrm>
              <a:off x="3810240" y="2054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4" name="Text Box 20"/>
            <p:cNvSpPr/>
            <p:nvPr/>
          </p:nvSpPr>
          <p:spPr>
            <a:xfrm>
              <a:off x="3886200" y="2435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3808440" y="2435400"/>
              <a:ext cx="3808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76" name="Text Box 24"/>
          <p:cNvSpPr/>
          <p:nvPr/>
        </p:nvSpPr>
        <p:spPr>
          <a:xfrm>
            <a:off x="1825560" y="2970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657960" y="2970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5108400" y="2970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580560" y="3581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Вт      ват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3960720" y="38862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 000 000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2968560" y="419112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 кВт = 1 000 Вт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Text Box 32"/>
          <p:cNvSpPr/>
          <p:nvPr/>
        </p:nvSpPr>
        <p:spPr>
          <a:xfrm>
            <a:off x="7016760" y="3048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Text Box 33"/>
          <p:cNvSpPr/>
          <p:nvPr/>
        </p:nvSpPr>
        <p:spPr>
          <a:xfrm>
            <a:off x="6557760" y="3886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4" name="Text Box 34"/>
          <p:cNvSpPr/>
          <p:nvPr/>
        </p:nvSpPr>
        <p:spPr>
          <a:xfrm>
            <a:off x="7473960" y="388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5" name="Text Box 35"/>
          <p:cNvSpPr/>
          <p:nvPr/>
        </p:nvSpPr>
        <p:spPr>
          <a:xfrm>
            <a:off x="3199320" y="228456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1569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3" descr="device_gen8"/>
          <p:cNvPicPr/>
          <p:nvPr/>
        </p:nvPicPr>
        <p:blipFill>
          <a:blip r:embed="rId1"/>
          <a:stretch/>
        </p:blipFill>
        <p:spPr>
          <a:xfrm>
            <a:off x="5487840" y="4726080"/>
            <a:ext cx="1832040" cy="13748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1366920" y="1314360"/>
            <a:ext cx="748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00"/>
                </a:solidFill>
                <a:uFillTx/>
                <a:latin typeface="Times New Roman"/>
              </a:rPr>
              <a:t>Цель работы: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 измерение мощности, развиваемой мышцами рук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00"/>
                </a:solidFill>
                <a:uFillTx/>
                <a:latin typeface="Times New Roman"/>
              </a:rPr>
              <a:t>Задание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: определить мощность, развиваемую при подъеме гири мальчиком и девочкой. Сравнить результаты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1515600" y="413064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00"/>
                </a:solidFill>
                <a:uFillTx/>
                <a:latin typeface="Times New Roman"/>
              </a:rPr>
              <a:t>Оборудование: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90" name="Picture 16" descr="172967_0"/>
          <p:cNvPicPr/>
          <p:nvPr/>
        </p:nvPicPr>
        <p:blipFill>
          <a:blip r:embed="rId2"/>
          <a:stretch/>
        </p:blipFill>
        <p:spPr>
          <a:xfrm>
            <a:off x="7472520" y="4726080"/>
            <a:ext cx="1374480" cy="1374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http://www.championnet.ru/spree/products/1893/original/LARSEN_NT307.jpg?1375847668"/>
          <p:cNvPicPr/>
          <p:nvPr/>
        </p:nvPicPr>
        <p:blipFill>
          <a:blip r:embed="rId3"/>
          <a:stretch/>
        </p:blipFill>
        <p:spPr>
          <a:xfrm>
            <a:off x="1976400" y="4660920"/>
            <a:ext cx="2730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220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74a16"/>
                </a:solidFill>
                <a:latin typeface="Times New Roman"/>
              </a:rPr>
              <a:t>Кот Матроскин и Шарик буксировали автомобиль дяди Федора до Простоквашино </a:t>
            </a:r>
            <a:br>
              <a:rPr sz="2600"/>
            </a:br>
            <a:r>
              <a:rPr b="1" lang="ru-RU" sz="2600" spc="-1" strike="noStrike">
                <a:solidFill>
                  <a:srgbClr val="574a16"/>
                </a:solidFill>
                <a:latin typeface="Times New Roman"/>
              </a:rPr>
              <a:t>в течение 1часа, действуя с силой 120Н. Расстояние до Простоквашино 1км. </a:t>
            </a:r>
            <a:br>
              <a:rPr sz="2600"/>
            </a:br>
            <a:r>
              <a:rPr b="1" lang="ru-RU" sz="2600" spc="-1" strike="noStrike">
                <a:solidFill>
                  <a:srgbClr val="574a16"/>
                </a:solidFill>
                <a:latin typeface="Times New Roman"/>
              </a:rPr>
              <a:t>Найдите мощность «живой силы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Объект 3" descr="http://orbitnetwork.ru/images/troe-iz-prostokvashino/02.jpg"/>
          <p:cNvPicPr/>
          <p:nvPr/>
        </p:nvPicPr>
        <p:blipFill>
          <a:blip r:embed="rId1"/>
          <a:stretch/>
        </p:blipFill>
        <p:spPr>
          <a:xfrm>
            <a:off x="2435400" y="2589120"/>
            <a:ext cx="595296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Повторяем тему «Работа. Единицы работ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ст содержит 5 заданий с выбором ответа на два вариант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кажите на листке фамилию, номер вариант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мена слайдов происходит в автоматическом режим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 5 секунд до окончания демонстрации слайда появляются песочные час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6" name="Picture 4" descr="GSCBRWOODGDLEG"/>
          <p:cNvPicPr/>
          <p:nvPr/>
        </p:nvPicPr>
        <p:blipFill>
          <a:blip r:embed="rId1"/>
          <a:stretch/>
        </p:blipFill>
        <p:spPr>
          <a:xfrm>
            <a:off x="7167600" y="3809880"/>
            <a:ext cx="1832040" cy="1373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>
            <a:hlinkClick r:id="rId2" action="ppaction://hlinksldjump"/>
          </p:cNvPr>
          <p:cNvSpPr/>
          <p:nvPr/>
        </p:nvSpPr>
        <p:spPr>
          <a:xfrm>
            <a:off x="4267080" y="6176880"/>
            <a:ext cx="1525680" cy="38124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ть тест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§ 56, упр. 31,   упр. (1, 2, 3) –                  письменно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1d09"/>
                </a:solidFill>
                <a:latin typeface="Arial"/>
              </a:rPr>
              <a:t>Для желающих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ыполнить задание  (2 или 3) и придумать задачи с установленными данным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жите, в каком из перечисленных случаев совершается механическая работ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Вода давит на стенку сосуд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альчик удерживает ведро с водой в рука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Капля воды падает вни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жите, в каком из перечисленных случаев совершается механическая работ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альчик поднимается вверх по лестниц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На пружине висит гру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Человек держит тяжелый мешок на плеча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Picture 14" descr="GSCBRWOODGDLEG"/>
          <p:cNvPicPr/>
          <p:nvPr/>
        </p:nvPicPr>
        <p:blipFill>
          <a:blip r:embed="rId1"/>
          <a:stretch/>
        </p:blipFill>
        <p:spPr>
          <a:xfrm>
            <a:off x="4343400" y="146160"/>
            <a:ext cx="1832040" cy="1373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5"/>
          <p:cNvSpPr/>
          <p:nvPr/>
        </p:nvSpPr>
        <p:spPr>
          <a:xfrm>
            <a:off x="1442880" y="1978200"/>
            <a:ext cx="3664080" cy="43513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5259240" y="1978200"/>
            <a:ext cx="3664080" cy="43513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 advTm="4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жите единицы измерения, которые </a:t>
            </a:r>
            <a:r>
              <a:rPr b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не являютс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единицами измерения рабо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Н·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Д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Н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вычисления работы надо силу 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умножить на площад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разделить на площад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умножить на пу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разделить на пу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9" name="Picture 8" descr="GSCBRWOODGDLEG"/>
          <p:cNvPicPr/>
          <p:nvPr/>
        </p:nvPicPr>
        <p:blipFill>
          <a:blip r:embed="rId1"/>
          <a:stretch/>
        </p:blipFill>
        <p:spPr>
          <a:xfrm>
            <a:off x="4343400" y="146160"/>
            <a:ext cx="1832040" cy="13730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1442880" y="1978200"/>
            <a:ext cx="3664080" cy="43513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5259240" y="1978200"/>
            <a:ext cx="3664080" cy="43513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30000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Бочка заполнена водой. Пользуясь ведром, ровно половину воды из бочки вычерпала девочка. Оставшуюся часть воды – мальчик. Одинаковую ли работу совершили девочка и мальчик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Мальчик совершил большую работу, чем девочк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евочка совершила большую работу, чем мальчик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динакову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 наклонному желобу скатываются деревянный и стальной шарики одинакового объема. Одинаковую ли работу совершит сила тяжести при скатывании каждого из этих ш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При скатывании деревянного шара совершается большая работ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При скатывании стального шара совершается большая рабо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динакову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6" name="Picture 7" descr="GSCBRWOODGDLEG"/>
          <p:cNvPicPr/>
          <p:nvPr/>
        </p:nvPicPr>
        <p:blipFill>
          <a:blip r:embed="rId1"/>
          <a:stretch/>
        </p:blipFill>
        <p:spPr>
          <a:xfrm>
            <a:off x="4343400" y="146160"/>
            <a:ext cx="1832040" cy="13730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1442880" y="1978200"/>
            <a:ext cx="3664080" cy="47336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259240" y="1978200"/>
            <a:ext cx="3664080" cy="47336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40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пределите работу, совершаемую при подъеме груза весом 4 Н на высоту 40 с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1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1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1,6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80 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800" y="1523520"/>
            <a:ext cx="3822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ычислите работу, произведенную силой  0,02 кН, если расстояние, пройденное телом по направлению действия этой силы, равно 20 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4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1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2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400 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3" name="Picture 7" descr="GSCBRWOODGDLEG"/>
          <p:cNvPicPr/>
          <p:nvPr/>
        </p:nvPicPr>
        <p:blipFill>
          <a:blip r:embed="rId1"/>
          <a:stretch/>
        </p:blipFill>
        <p:spPr>
          <a:xfrm>
            <a:off x="4343400" y="146160"/>
            <a:ext cx="1832040" cy="13730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8"/>
          <p:cNvSpPr/>
          <p:nvPr/>
        </p:nvSpPr>
        <p:spPr>
          <a:xfrm>
            <a:off x="1442880" y="1978200"/>
            <a:ext cx="3664080" cy="43513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259240" y="1978200"/>
            <a:ext cx="3664080" cy="43513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40000"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льпинист поднялся в горах на высоту 400 м. Определите механическую работу, совершенную альпинистом при подъеме, если его масса вместе со снаряжением равна  80 кг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32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320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2 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помощи подъемного крана подняли груз массой 500 кг на высоту 10 м. Какая при этом совершается работа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0,02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0 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 кДж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Г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50 кДж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0" name="Picture 7" descr="GSCBRWOODGDLEG"/>
          <p:cNvPicPr/>
          <p:nvPr/>
        </p:nvPicPr>
        <p:blipFill>
          <a:blip r:embed="rId1"/>
          <a:stretch/>
        </p:blipFill>
        <p:spPr>
          <a:xfrm>
            <a:off x="4343400" y="146160"/>
            <a:ext cx="1832040" cy="1373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442880" y="1901880"/>
            <a:ext cx="3664080" cy="480996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5259240" y="1901880"/>
            <a:ext cx="3664080" cy="480996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advTm="6000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Проверяем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93">
            <a:hlinkClick r:id="rId1" action="ppaction://hlinksldjump"/>
          </p:cNvPr>
          <p:cNvSpPr/>
          <p:nvPr/>
        </p:nvSpPr>
        <p:spPr>
          <a:xfrm>
            <a:off x="3808440" y="1825560"/>
            <a:ext cx="2289240" cy="38124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ть проверку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8800" y="1521000"/>
            <a:ext cx="366876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1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жите, в каком из перечисленных случаев совершается механическая работ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Вода давит на стенку сосуд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альчик удерживает ведро с водой в рука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Капля воды падает вни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73440" y="1521000"/>
            <a:ext cx="367020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ариант 2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Укажите, в каком из перечисленных случаев совершается механическая работ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А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альчик поднимается вверх по лестниц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Б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На пружине висит гру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Человек держит тяжелый мешок на плеча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519200" y="1292400"/>
            <a:ext cx="7624800" cy="22860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9" name="Picture 7" descr="409px-Glass-of-water"/>
          <p:cNvPicPr/>
          <p:nvPr/>
        </p:nvPicPr>
        <p:blipFill>
          <a:blip r:embed="rId1"/>
          <a:stretch/>
        </p:blipFill>
        <p:spPr>
          <a:xfrm>
            <a:off x="4495680" y="3429000"/>
            <a:ext cx="993960" cy="145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smart_backpack_0"/>
          <p:cNvPicPr/>
          <p:nvPr/>
        </p:nvPicPr>
        <p:blipFill>
          <a:blip r:embed="rId2"/>
          <a:stretch/>
        </p:blipFill>
        <p:spPr>
          <a:xfrm>
            <a:off x="4495680" y="4956120"/>
            <a:ext cx="965160" cy="1449360"/>
          </a:xfrm>
          <a:prstGeom prst="rect">
            <a:avLst/>
          </a:prstGeom>
          <a:ln w="0">
            <a:noFill/>
          </a:ln>
        </p:spPr>
      </p:pic>
      <p:sp>
        <p:nvSpPr>
          <p:cNvPr id="211" name="Oval 10"/>
          <p:cNvSpPr/>
          <p:nvPr/>
        </p:nvSpPr>
        <p:spPr>
          <a:xfrm>
            <a:off x="1595520" y="5413320"/>
            <a:ext cx="533160" cy="5349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5792760" y="3200400"/>
            <a:ext cx="533520" cy="5349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20-04-07T09:29:3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