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939-8282-4A29-826C-B9EC1642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836-5A06-450C-85D9-E65939F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B72-39F9-4A20-AA20-3713E2A7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6A0-9102-4866-8654-3857D916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7DA-424A-4092-A281-0E86D7E4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3623-D0AC-4A2F-AF06-5BA2F2D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73D-70FE-488E-B55F-2995685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694-9AE0-4B4B-8E86-4C1C51FE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DC0-A00D-415B-A63D-ACA733B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ED52-E14E-47AC-9857-7C14F93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6F7B-C6ED-49B0-90F6-E20FCB6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BF2-464A-430B-901C-F65C8380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2BE4-33B8-45DE-87CD-67A5ACE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4245-7F15-427A-8D99-C664E7D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F5BD-54C6-4E84-ACDD-511C373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525C-C635-4777-9C05-1FB2D421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916-B8CA-4CA3-93EF-6635E858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620B-ABF6-4CA1-AE07-E56E5526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80AB-1F33-465C-9F32-1370B2D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7E4C-BCE2-476E-AE36-7ED1EEE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C881-94D4-4E98-B3A5-BC82FB35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460A-5DC6-42F6-A65F-27AF7097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7BA-A9CB-4B00-AA54-8BE33EB6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82CC-31C3-4D10-9FE5-F5EEF1E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4199-1625-40BD-AD24-10B3E69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5AA2-8E41-495C-B516-C8194CB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5728-D225-49AE-9943-A6AEA7C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2F42-6FEE-4613-9CD7-203D326E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33C0-4A4A-4BEF-A5F8-956B3FF7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7DC2-3572-4003-BE3C-8967CF8A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BEDF-328A-43B6-ADCC-4A565957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6F57-7A21-4F96-B9A4-A7DDA2D7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CCE3-EBE8-45D5-9747-3AFEA1C0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CEC-1DAF-47B7-86F8-E8153215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BA0C-DDFF-4A5C-8F88-32B2C768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2F51-2B1B-46E8-96BF-E40B5B5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EFE0-EA96-4177-9F03-9415253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86C6-425B-469A-958D-1C5C2E2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798E-EAC8-4381-A4D6-D24EE32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E24F5-916A-4802-A36D-784F1477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E58C-674E-4907-8046-51ED49C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109A-5E5C-4C8F-BDBA-3B6CD5E7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0113-E338-4E75-8642-1BC5AD17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79D8-FB28-4498-8BBB-F021632C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6E7-9ADB-4F97-8332-2E973F5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7C4BD-917D-4B9E-B222-4E80959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A5B0-78EE-494E-AE1C-85C209DD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FF1D9-A09D-40A9-A6AD-8AFFE86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28275-F6F6-4B37-ABD8-063901D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AA56B-A07A-4B1C-815F-DD3473C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A564-9E98-45BD-BFE2-95C730C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544A-1A58-458F-B6FB-F0C3F20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5827-0606-4517-B802-20300C1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D288-D68C-4052-9600-D692FD4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32D6-3114-4451-A418-86AC974D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CD9-58D5-4BD0-A73D-21320F2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54E7-48AF-47B2-A84E-28D824DE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61D-F4C5-405B-8DC6-0EF4943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5B6-0A11-4F8C-A057-26A6B04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B93-7A5B-447D-99FC-A57D1A6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EEF-ACCA-4AA5-8023-195EA0F3891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BA82-C1EB-4D8C-85A3-9BB1AF59FF3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2AE4-4CCA-4087-9B12-0FCFD2BBDA0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4B50-4B01-4FF5-8EB1-1AB9B8CFF4E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20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890F-183B-4FB3-B1DC-679FD21B3627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3"/>
          <p:cNvSpPr txBox="1"/>
          <p:nvPr/>
        </p:nvSpPr>
        <p:spPr>
          <a:xfrm>
            <a:off x="1042920" y="1844640"/>
            <a:ext cx="74898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684360" y="48182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рок русского языка в 8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3505320"/>
            <a:ext cx="8498160" cy="6458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684360" y="268272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БРА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06560" y="1357200"/>
          <a:ext cx="8137440" cy="56865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23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а О, стоящая перед обращением, не отделяется от него никаким знак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небо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над нами синей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ак вот судьба твоих сынов, о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Рим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о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громкая держав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днородные обращения, соединённые союзом И или ДА запятой не разделяю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Здравствуй,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солнце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да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утро весёлое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ы А и ДА, стоящие перед обращением, запятой от них не отделяются, а перед ними запятая стави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Петьк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да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Петька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же, куда ты запропастился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19"/>
          <p:cNvSpPr/>
          <p:nvPr/>
        </p:nvSpPr>
        <p:spPr>
          <a:xfrm>
            <a:off x="123984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826920" y="3556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наки препин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23"/>
          <p:cNvSpPr/>
          <p:nvPr/>
        </p:nvSpPr>
        <p:spPr>
          <a:xfrm>
            <a:off x="5651640" y="1357200"/>
            <a:ext cx="288720" cy="26064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24"/>
          <p:cNvSpPr/>
          <p:nvPr/>
        </p:nvSpPr>
        <p:spPr>
          <a:xfrm>
            <a:off x="6659640" y="2492280"/>
            <a:ext cx="28872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5"/>
          <p:cNvSpPr/>
          <p:nvPr/>
        </p:nvSpPr>
        <p:spPr>
          <a:xfrm>
            <a:off x="8244000" y="2467080"/>
            <a:ext cx="28872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26"/>
          <p:cNvSpPr/>
          <p:nvPr/>
        </p:nvSpPr>
        <p:spPr>
          <a:xfrm>
            <a:off x="7359480" y="3645000"/>
            <a:ext cx="28908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27"/>
          <p:cNvSpPr/>
          <p:nvPr/>
        </p:nvSpPr>
        <p:spPr>
          <a:xfrm>
            <a:off x="5364000" y="4167360"/>
            <a:ext cx="287640" cy="2584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28"/>
          <p:cNvSpPr/>
          <p:nvPr/>
        </p:nvSpPr>
        <p:spPr>
          <a:xfrm>
            <a:off x="5557680" y="5157720"/>
            <a:ext cx="287640" cy="25884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29"/>
          <p:cNvSpPr/>
          <p:nvPr/>
        </p:nvSpPr>
        <p:spPr>
          <a:xfrm>
            <a:off x="7113600" y="5180040"/>
            <a:ext cx="28728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934920" y="6699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ru-RU" sz="2400" spc="-1" strike="noStrike">
                <a:solidFill>
                  <a:srgbClr val="212121"/>
                </a:solidFill>
                <a:latin typeface="Arial"/>
                <a:ea typeface="Arial"/>
              </a:rPr>
              <a:t>.Спишите в тетрадь предложения, расставив знаки препинания при обращениях</a:t>
            </a:r>
            <a:r>
              <a:rPr b="0" lang="ru-RU" sz="2400" spc="-1" strike="noStrike">
                <a:solidFill>
                  <a:srgbClr val="212121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34920" y="144468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оседка  перестань срам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ражданин  Спасите раненого бо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 барабанщики предместий  когда же среди гулких плит ваш голос ярости и мести вновь над Парижем прогрем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олубчик ты мой  сделай это для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Федя  а Федя  дай карандаш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1979640" y="2421000"/>
            <a:ext cx="144360" cy="2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97" name="WordArt 7"/>
          <p:cNvSpPr txBox="1"/>
          <p:nvPr/>
        </p:nvSpPr>
        <p:spPr>
          <a:xfrm>
            <a:off x="2700360" y="2492280"/>
            <a:ext cx="133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98" name="WordArt 8"/>
          <p:cNvSpPr txBox="1"/>
          <p:nvPr/>
        </p:nvSpPr>
        <p:spPr>
          <a:xfrm>
            <a:off x="6084720" y="3357720"/>
            <a:ext cx="144720" cy="2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99" name="WordArt 10"/>
          <p:cNvSpPr txBox="1"/>
          <p:nvPr/>
        </p:nvSpPr>
        <p:spPr>
          <a:xfrm>
            <a:off x="3059280" y="5300640"/>
            <a:ext cx="1443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1332000" y="82440"/>
            <a:ext cx="79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ния для закрепления т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6920" y="43498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>
                <a:solidFill>
                  <a:srgbClr val="212121"/>
                </a:solidFill>
                <a:latin typeface="Arial"/>
                <a:ea typeface="Arial"/>
              </a:rPr>
              <a:t>. Измените предложения так, чтобы выделенные слова стали обращениями</a:t>
            </a:r>
            <a:r>
              <a:rPr b="0" lang="ru-RU" sz="2400" spc="-1" strike="noStrike">
                <a:solidFill>
                  <a:srgbClr val="212121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974960" y="519732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Ветер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поёт нам про дикие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Мой друг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астойчиво добиваетс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Ребят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шли на ре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971640" y="1413000"/>
            <a:ext cx="79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тр. 195-20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очитать теорию по учебн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ыполнить упр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52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7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(3 предложе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790560" y="1628640"/>
            <a:ext cx="8163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браще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слово(или сочетание слов), называющее того, кому адресована ре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99880" y="4941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Саша</a:t>
            </a:r>
            <a:r>
              <a:rPr b="1" lang="ru-RU" sz="4800" spc="-1" strike="noStrike">
                <a:solidFill>
                  <a:srgbClr val="0c5a82"/>
                </a:solidFill>
                <a:latin typeface="Arial"/>
                <a:ea typeface="Arial"/>
              </a:rPr>
              <a:t>, у тебя сегодня сколько урок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"/>
          <p:cNvSpPr/>
          <p:nvPr/>
        </p:nvSpPr>
        <p:spPr>
          <a:xfrm>
            <a:off x="2340000" y="4761000"/>
            <a:ext cx="2872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042920" y="620640"/>
            <a:ext cx="7871040" cy="59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Хорошая, любимая, родная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ы друг от друга далеко жив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от,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Любушк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Митя проститься пришёл: он едет к матушке с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1042920" y="111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пособы выра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8"/>
          <p:cNvSpPr/>
          <p:nvPr/>
        </p:nvSpPr>
        <p:spPr>
          <a:xfrm>
            <a:off x="1890720" y="2239920"/>
            <a:ext cx="2890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9"/>
          <p:cNvSpPr/>
          <p:nvPr/>
        </p:nvSpPr>
        <p:spPr>
          <a:xfrm>
            <a:off x="3710160" y="2203560"/>
            <a:ext cx="2872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0"/>
          <p:cNvSpPr/>
          <p:nvPr/>
        </p:nvSpPr>
        <p:spPr>
          <a:xfrm>
            <a:off x="5527800" y="2239920"/>
            <a:ext cx="2872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11"/>
          <p:cNvSpPr/>
          <p:nvPr/>
        </p:nvSpPr>
        <p:spPr>
          <a:xfrm>
            <a:off x="2700360" y="4941720"/>
            <a:ext cx="287280" cy="35892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900000" y="333360"/>
            <a:ext cx="7869240" cy="64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Что вы такой герцогиней смотрите,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красавица вы мо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расуйся,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град Петро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и 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колебимо, как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"/>
          <p:cNvSpPr/>
          <p:nvPr/>
        </p:nvSpPr>
        <p:spPr>
          <a:xfrm>
            <a:off x="2700360" y="2819520"/>
            <a:ext cx="2872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3"/>
          <p:cNvSpPr/>
          <p:nvPr/>
        </p:nvSpPr>
        <p:spPr>
          <a:xfrm>
            <a:off x="3780000" y="5084640"/>
            <a:ext cx="28728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971640" y="981000"/>
            <a:ext cx="81723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бращение имеет форму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менительного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падежа и произносится с особой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звательной интонацией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Друзья мо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прекрасен наш союз (Пушк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разговорной речи существуют особые формы обращения: так называемый усечённый именительный падеж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Ма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дай ру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Пе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а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Пе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приходи пора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977760" y="141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амматическая фор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8"/>
          <p:cNvSpPr/>
          <p:nvPr/>
        </p:nvSpPr>
        <p:spPr>
          <a:xfrm>
            <a:off x="2195640" y="2708280"/>
            <a:ext cx="36036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9"/>
          <p:cNvSpPr/>
          <p:nvPr/>
        </p:nvSpPr>
        <p:spPr>
          <a:xfrm>
            <a:off x="3995640" y="5013360"/>
            <a:ext cx="252360" cy="287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10"/>
          <p:cNvSpPr/>
          <p:nvPr/>
        </p:nvSpPr>
        <p:spPr>
          <a:xfrm>
            <a:off x="2556000" y="5635800"/>
            <a:ext cx="28728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11"/>
          <p:cNvSpPr/>
          <p:nvPr/>
        </p:nvSpPr>
        <p:spPr>
          <a:xfrm>
            <a:off x="3635280" y="5635800"/>
            <a:ext cx="25236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971640" y="353880"/>
            <a:ext cx="76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древнерусском языке для обращений существовал специальный падеж (седьмой). Он назывался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звательным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. В сказке А.С. Пушкина мы находим древнюю форму обращения «старч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5"/>
          <p:cNvPicPr/>
          <p:nvPr/>
        </p:nvPicPr>
        <p:blipFill>
          <a:blip r:embed="rId1"/>
          <a:stretch/>
        </p:blipFill>
        <p:spPr>
          <a:xfrm>
            <a:off x="6207120" y="2779560"/>
            <a:ext cx="2629080" cy="38102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324000" y="3429000"/>
            <a:ext cx="590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Приплыла к нему рыбка, спрос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«Чего тебе надоб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старче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9"/>
          <p:cNvSpPr/>
          <p:nvPr/>
        </p:nvSpPr>
        <p:spPr>
          <a:xfrm>
            <a:off x="2916360" y="5084640"/>
            <a:ext cx="35856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826920" y="148428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устной речи обращения служат для привлечения внимания собеседника и одновременно для выражения отношения говорящего к собеседн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  <a:ea typeface="Arial"/>
              </a:rPr>
              <a:t>Провожающ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, просим вас освободить ваго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7"/>
          <p:cNvSpPr/>
          <p:nvPr/>
        </p:nvSpPr>
        <p:spPr>
          <a:xfrm>
            <a:off x="3059280" y="4076640"/>
            <a:ext cx="360360" cy="36036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755640" y="2276640"/>
            <a:ext cx="7956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Обращение </a:t>
            </a: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не является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леном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042920" y="366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интаксическая роль обращ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900000" y="1397160"/>
          <a:ext cx="8064720" cy="5310000"/>
        </p:xfrm>
        <a:graphic>
          <a:graphicData uri="http://schemas.openxmlformats.org/drawingml/2006/table">
            <a:tbl>
              <a:tblPr/>
              <a:tblGrid>
                <a:gridCol w="4392720"/>
                <a:gridCol w="367200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Наташ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иди сюд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перёд тебе наука,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друг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Соседушка, мой свет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! Пожалуйста, покуша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тколе,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умна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бредёшь ты, </a:t>
                      </a:r>
                      <a:r>
                        <a:rPr b="0" lang="ru-RU" sz="24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голов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Box 20"/>
          <p:cNvSpPr/>
          <p:nvPr/>
        </p:nvSpPr>
        <p:spPr>
          <a:xfrm>
            <a:off x="1332000" y="1159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наки препин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1"/>
          <p:cNvSpPr/>
          <p:nvPr/>
        </p:nvSpPr>
        <p:spPr>
          <a:xfrm>
            <a:off x="5796000" y="1628640"/>
            <a:ext cx="288720" cy="26064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2"/>
          <p:cNvSpPr/>
          <p:nvPr/>
        </p:nvSpPr>
        <p:spPr>
          <a:xfrm>
            <a:off x="8388360" y="2133720"/>
            <a:ext cx="287280" cy="2584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23"/>
          <p:cNvSpPr/>
          <p:nvPr/>
        </p:nvSpPr>
        <p:spPr>
          <a:xfrm>
            <a:off x="6732720" y="2997360"/>
            <a:ext cx="287280" cy="2584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24"/>
          <p:cNvSpPr/>
          <p:nvPr/>
        </p:nvSpPr>
        <p:spPr>
          <a:xfrm>
            <a:off x="6753240" y="5445000"/>
            <a:ext cx="289080" cy="26064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25"/>
          <p:cNvSpPr/>
          <p:nvPr/>
        </p:nvSpPr>
        <p:spPr>
          <a:xfrm>
            <a:off x="6300720" y="6093000"/>
            <a:ext cx="287280" cy="260280"/>
          </a:xfrm>
          <a:prstGeom prst="ellipse">
            <a:avLst/>
          </a:prstGeom>
          <a:noFill/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13:50Z</dcterms:created>
  <dc:creator>Admin</dc:creator>
  <dc:description/>
  <dc:language>en-US</dc:language>
  <cp:lastModifiedBy>Elena</cp:lastModifiedBy>
  <dcterms:modified xsi:type="dcterms:W3CDTF">2020-04-07T14:01:38Z</dcterms:modified>
  <cp:revision>11</cp:revision>
  <dc:subject/>
  <dc:title>Слайд 1</dc:title>
</cp:coreProperties>
</file>