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067-456F-4FBD-AEA4-D115EDE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855-F41C-41EF-B0CE-51AB10F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5BF-484D-457B-80BC-57FA585A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98B-8FE0-4D75-9BC0-0BC98E1E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6BD-4D5D-4FE2-B047-66B0DC1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5A4-770B-4404-A62B-416BD847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F21-8D1F-450D-B023-5578743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1DC-8E00-4650-B7ED-EEA1D93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DEE-FDDC-42E6-B204-56EA8F25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D3C-BE47-42A1-ADE0-67FAFE1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6E3-943A-48C9-9A6E-428B13FA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20F-F58E-4AF8-8012-CFB73104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E712-228E-445C-9C68-564F8614249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781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РГАНИЗАЦИЯ КАРАУЛЬНОЙ СЛУЖБ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АСОВОЙ И ЕГО НЕПРИКОСНОВЕ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ЯЗАННОСТИ ЧАСОВ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24000" y="33336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0)Услышав лай караульной собаки или при срабатывании технических средств охраны, немедленно сообщать об этом в караульное помещение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1)Применять оружие без предупреждения в случае явного нападения на него или на охраняемый им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овому запрещено: спать, сидеть, прислоняться к чему-либо, писать, читать, петь, разговаривать, есть, пить, курить, отправлять естественные потребности или иным образом отвлекаться от выполнения своих обязанностей, принимать от кого бы то ни было и передавать кому бы то ни было какие-либо предметы, вызывать своими действиями срабатывание технических средств охраны, досылать без необходимости патрон в патронни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50920" y="4762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Подготовку к несению службы в карауле проводят в три этап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)За два-три дня до заступления осуществляют подбор и распределение личного состава караула согласно табелю постам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)В день, предшествующий заступлению, с личным составом караула проводят занятие по изучению положений уставов, табеля постам с уточнением на макете охраняемых объектов особых обязанностей и вариантов действий часовых на постах, действий караульных в составе резервной (контрольно-охранной) группы, организации взаимодействия с дежурным подразделением, а также соответствующих инструкций и требований безопасности при обращении с оружием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)В день заступления в караул проводят практическое занятие с отработкой действий всех лиц караула на постах в различных условиях обстан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189000"/>
            <a:ext cx="8640720" cy="71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В караул запрещено назначать военнослужащих, не приведенных к Военной присяге (не принесших обязательство), не усвоивших соответствующей программы подготовки прибывшего пополнения, совершивших деяния, содержащие признаки преступлений, по которым ведется расследование, больных и других военнослужащих, 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которые в данное время не могут нести караульную службу по своему морально-психологическому состоя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В ночь, предшествующую заступлению в наряд, военнослужащие, назначенные в караул, не должны нести никакой службы или привлекаться к занятиям и работам. В день заступления в наряд, в часы, указанные в распорядке дня, личному составу караула должно быть предоставлено не менее 3 ч для подготовки к несению службы, а при заступлении в караул через сутки — не менее 4 ч, в том числе не менее 1 ч для отдыха (сн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24000" y="404640"/>
            <a:ext cx="864072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Calibri"/>
              </a:rPr>
              <a:t>Караулом называется вооружённое подразделение, назначенное для выполнения боевой задачи по охране и обороне боевых знамён, военных и государственных объектов, а также для охраны военнослужащих, содержащихся на гауптвахте и в дисциплинарной воинской ча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Несение караульной службы является выполнением боевой задачи и требует от личного состава точного соблюдения всех положений Устава гарнизонной, комендантской и караульной служб Вооружённых Сил Российской Федерации, высокой бдительности, непреклонной решимости и разумной инициатив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иновные в нарушении требований караульной службы привлекаются к ответственности в соответствии с законода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6880" y="260280"/>
            <a:ext cx="849312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Для несения караульной службы назначаются кара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Караулы бывают гарнизонные и внутренние (корабельные); они могут быть постоянными или времен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Гарнизонный караул назначается для охраны и обороны объектов центрального или окружного подчинения, не имеющих своих подразделений охраны, караул при гарнизонной гауптвахте — для охраны военнослужащих, содержащихся на гарнизонной гауптвах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нутренний (корабельный) караул назначается для охраны и обороны объектов одной воинской части (корабля) или соеди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0920" y="333360"/>
            <a:ext cx="878508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Гарнизонные караулы подчиняются начальнику гарнизона, помощнику начальника гарнизона по организации гарнизонной службы, дежурному по гарнизону и его помощнику. Караул при гарнизонной гауптвахте подчиняется военному коменданту гарнизона, дежурному по военной комендатуре и начальнику гауптвах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нутренние (корабельные) караулы подчиняются командиру воинской части (корабля), дежурному по воинской части (кораблю) и его помощнику, если помощник дежурного по воинской части — офицер. Внутренний караул, охраняющий объекты батальона (дивизиона), расположенного отдельно от остальных подразделений воинской части, кроме того, подчиняется командиру этого батальона (дивизиона) и дежурному по батальону (дивизиону), равному или старшему по воинскому званию начальнику карау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50920" y="260280"/>
            <a:ext cx="856908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Помощнику дежурного по воинской части, назначенному из числа прапорщиков (мичманов), подчиняются караулы, начальники которых назначены не из числа офицеров, а помощнику дежурного по воинской части из числа сержантов (старшин) — караулы, начальники которых назначены из числа сержантов (старши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остав караула назнача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Calibri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Начальник карау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2)Караульные по числу постов и сме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3)Разводящ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4)При необходимости помощник начальника карау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5)Помощник начальника караула (оператор) по техническим средствам охраны или смена операторов (два-три человека, один из которых может быть назначен помощником начальника караула по техническим средствам охран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333360"/>
            <a:ext cx="871380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</a:t>
            </a: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мощник начальника караула по службе караульных соба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7)Вожатые караульных собак и водители транспортных сре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караулы по охране штабов и пунктов управления от объединения и выше, а также по охране организаций, кроме перечисленных лиц, назначаются караульные контрольно-пропускных постов, в караул при гауптвахте — контролёры, конвойные и вывод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Военно-морском флоте для охраны и обороны кораблей (отдельных помещений корабля) назначаются вооружённые вахтенные. Порядок несения ими караульной службы определяется Корабельным уставом Военно-морского ф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79280" y="333360"/>
            <a:ext cx="885672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Для непосредственной охраны и обороны объектов из состава караула выставляются часов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Часовым называется вооружённый караульный выполняющий боевую задачу по охране и обороне порученного ему по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Постом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называется всё порученное для охраны и обороны часовому, а также место или участок местности, на котором он выполняет свои обяза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раульный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тановится часовым кода он докладывает своему разводящему  о том, что он пост принял под охра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Часовой есть лицо неприкосновенное. Неприкосновенность часового заключается: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1)В особой охране законодательством Российской Федерации его прав и личного достоинст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4000" y="333360"/>
            <a:ext cx="8712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 подчинении его строго определенным лицам — начальнику караула, помощнику начальника караула и своему разводящему.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)В обязанности всех лиц беспрекословно выполнять требования часового, определяемые его служ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4)В предоставлении ему права применять оружие в случаях, указанных в Уставе гарнизонной и караульной служб Вооруженных Сил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Часовой обязан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1)Бдительно охранять и стойко оборонять свой пост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2)Нести службу бодро, не отвлекаться, не выпускать из рук оружия и никому не отдавать его, включая и лиц, которым он подчине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3)Продвигаясь по указанному маршруту или находясь на наблюдательной вышке, внимательно осматривать подступы к посту, ограждение и докладывать по средствам связи о ходе несения службы в установленные табелем постам сро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50920" y="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е оставлять поста, пока не будет сменен или снят, даже если его жизни угрожает опасность; самовольное оставление поста является преступлением против военной служб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5)Иметь на посту оружие заряженным и всегда готовым к действию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6)Не допускать к посту ближе расстояния, указанного в табеле постам и обозначенного на местности указателями запретной границы, никого кроме начальника караула, помощника начальника караула, своего разводящего и лиц, которых они сопровожд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7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Знать маршруты и график движения транспортных средств караула, а также их опознавательные знаки и сигналы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8)Уметь применять находящиеся на посту средства пожаротушения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9)Вызывать начальника караула при обнаружении неисправности в ограждении объекта (на посту) и нарушениях порядка вблизи своего поста или на соседнем пост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3:34:18Z</dcterms:created>
  <dc:creator>... ...</dc:creator>
  <dc:description/>
  <dc:language>en-US</dc:language>
  <cp:lastModifiedBy>Владелец</cp:lastModifiedBy>
  <dcterms:modified xsi:type="dcterms:W3CDTF">2020-04-07T14:07:44Z</dcterms:modified>
  <cp:revision>16</cp:revision>
  <dc:subject/>
  <dc:title>Слайд 1</dc:title>
</cp:coreProperties>
</file>