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5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B371-7702-445F-91B7-DF323AB3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B47D-B33B-465F-BCCB-0BFB82A2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96F8-584E-401C-8A14-6D5AD7BE3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C26F-DE5F-4605-BD8B-600D9712D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73A5-EE1A-44D3-A225-F59A6C97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5843-B05E-4F53-B25A-E410673A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8D8C-984B-4E48-A46D-1CE07900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B4CB-5AD9-4396-97CB-C074A2D3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F6C1-5807-43BF-86CC-F5EFF4F5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8A47-2752-402A-B4CA-E8C07B93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773A-58AF-44D4-B777-63B8A2BC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70F1-0C48-40DC-A385-CC8D421B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EAD5-2BAD-4938-AE18-DA34963F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E16B-3504-4B8C-A68C-7397FA0B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BB6F-2D56-4144-B854-9870A294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0021-9C46-49FD-9667-80CE1003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7BB3-0D79-4DE1-B275-E976AFC81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CDB2FA-1260-4FF4-BEB5-A010D2FEA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429B5-B1D3-4860-8D41-3E2CB7C5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79742C-906F-4ECF-BBEE-BA7A888E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74C8A9-8D2E-4E81-B7E0-5D7302E1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DE59EE-28D6-4100-B14F-BFA0E32E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0EB4-972F-4E8E-8D8A-6FD06110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4AAF93-EC9B-4161-ACBF-6E13E8D3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08DD2D-6A56-485E-A909-B0186C83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A08A9A-275A-4385-8F39-CE4B5FA9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5BC00F-68E5-4868-A021-A2A0F483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EBF259-4C7A-42CA-BA85-4DB725C0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6AF173-8F40-4837-9839-F203119A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182E3F-950B-4544-B4EA-42E6A410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6D97A-B02A-4729-ABF2-7D336BB7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7C265-EF49-4DC9-B8F4-57857913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483FA-01B8-4E65-AE2E-922DC217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33F3-2B51-4763-B62F-AD9523FF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4AFA5-837F-440D-976E-5DFB2AB1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13D3F-E8CF-44AA-8F52-04B4D590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38365-B0EE-42F4-BD27-26397830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5A40B-21E4-4BAC-8488-129BDFB4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8CB12-9D99-42FD-844D-6153597C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681B9-22E9-4422-802F-E9BC291D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19BC1-C4D1-49CF-9B8A-E1590BDF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06C8F-C863-4CEE-A49C-ED877A3CC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DFF5C-5ED7-466A-BD83-4FBA8C06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4DB58C-F6B8-4042-9A79-E1983C8E6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580E-1F83-429D-9596-7A776F6D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662462-4B00-4AC3-9951-26C30B58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B47E4B-6BD6-4C05-852D-BC8C7A05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2BBCF4-6A10-4646-96B4-CFAD6F02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C3F9E7-6CCD-40B6-95AD-2BED0FA1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79E9F0-24FF-411C-A172-2A1C1F9F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420CBE-739E-4132-B604-D83FC4AD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0303A6-CF43-4392-B5C0-8320E7AA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D88359-F76F-43CC-A75B-4D144B4C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F0DD19-ADFA-4296-B4F0-A4DE4E3C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F74760-917C-456B-991E-373DABD0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1A98-5980-4E4C-AA98-4926F9EB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A1D7BC-E53F-44F6-9BB1-521098478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82F267-DE28-4E69-AE98-ECBC89A9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F28A56-AF7D-4E9D-B2C1-C2355ABF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864DBA-AD82-4B04-8827-378BE123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4337A8-D0DF-4327-B91E-ED4D58F7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C88426-3557-4072-849C-3D5F8771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11F630-AB80-4FB0-9381-8F740F59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294C2C-FDC6-4ED3-9BEC-5EBFB6FA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7B1D0A-DDE4-4D4A-AF04-FB0B973A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B9956F-FD4D-4729-9036-0080F10E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367D-ACEC-4AF7-976B-310B13E3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E134E6-5ABC-4DB0-A98C-BE671646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D590C8-5382-4FD3-97D1-6693F637B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512771-DCB3-4D5E-9F40-5A6C6975E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D6DF97-4875-499E-A823-311BEA80F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C03039-C0D7-4FC7-90A3-FF995246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96EB6B-CAB7-4405-91F2-21C936C3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785990-9220-4256-B1BA-D8742C58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835ADD-72C7-4B4A-903D-06D92060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8A81A8-C23E-4F1C-8CC9-8EE85C14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0125ED-3A47-42F5-8C0D-8FE91746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CC45-45B6-4513-8B1E-693A79F3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8C081E-8418-4F6B-BD90-06B985E4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447A32-6E83-4AE6-A3A6-0F8BEBB5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C0FE9F-7DF8-46CC-945D-915D3EBE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6EF4ED-475D-4A7C-89B0-5C2ADE781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010983-5074-4696-8600-C151B27BF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8D4A-16B7-4827-87AE-BE8F2E27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3E87-5F60-4D12-81B5-A6415B9FC93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7A68-D920-4D23-BD42-5707A3F8A20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FAEB-B299-4D52-B8B5-AD4ACE27837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dec9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e7dec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7dec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7de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0EEE-1D86-4E66-A1A1-752BDA0ACBD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B41B-24EF-4FAB-B5C0-41EB2E6767D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BEE0-F1E1-4840-9BE5-A3447C03386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8AE7-E3D1-46F2-9BCF-65D22DE76D2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68000" y="2781000"/>
            <a:ext cx="6100920" cy="33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2300"/>
            </a:br>
            <a:r>
              <a:rPr b="1" lang="ru-RU" sz="3600" spc="-1" strike="noStrike">
                <a:solidFill>
                  <a:srgbClr val="4f271c"/>
                </a:solidFill>
                <a:latin typeface="Arial"/>
              </a:rPr>
              <a:t>ОСТОРОЖНО – ЭЛЕКТРОПРИБОРЫ!!!</a:t>
            </a:r>
            <a:r>
              <a:rPr b="1" lang="ru-RU" sz="4800" spc="-1" strike="noStrike">
                <a:solidFill>
                  <a:srgbClr val="4f271c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4f271c"/>
                </a:solidFill>
                <a:latin typeface="Arial"/>
              </a:rPr>
              <a:t>            </a:t>
            </a:r>
            <a:br>
              <a:rPr sz="1600"/>
            </a:br>
            <a:r>
              <a:rPr b="1" lang="ru-RU" sz="1600" spc="-1" strike="noStrike">
                <a:solidFill>
                  <a:srgbClr val="10253f"/>
                </a:solidFill>
                <a:latin typeface="Arial"/>
              </a:rPr>
              <a:t>                                           </a:t>
            </a:r>
            <a:r>
              <a:rPr b="1" lang="en-US" sz="1600" spc="-1" strike="noStrike">
                <a:solidFill>
                  <a:srgbClr val="10253f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4f27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4608360" cy="53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гости к нам пришла соседк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ы резвились с ней полдн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ицу вставили в розетку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 розетки – столб огня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ы с соседкой еле-ел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ыгнуть в сторону успел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апа мой, большой знаток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м сказал: “В розетке – ток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м розетку эту 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огать не советую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тюги и провод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хватайте никогда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к невидимый без рук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с ударить может вдруг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Picture 8" descr=""/>
          <p:cNvPicPr/>
          <p:nvPr/>
        </p:nvPicPr>
        <p:blipFill>
          <a:blip r:embed="rId1"/>
          <a:stretch/>
        </p:blipFill>
        <p:spPr>
          <a:xfrm>
            <a:off x="5292720" y="1413000"/>
            <a:ext cx="28940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20e5e"/>
                </a:solidFill>
                <a:latin typeface="Arial"/>
              </a:rPr>
              <a:t>Чтоб не случилась с тобою беда</a:t>
            </a:r>
            <a:br>
              <a:rPr sz="2800"/>
            </a:br>
            <a:r>
              <a:rPr b="1" lang="ru-RU" sz="2800" spc="-1" strike="noStrike">
                <a:solidFill>
                  <a:srgbClr val="120e5e"/>
                </a:solidFill>
                <a:latin typeface="Arial"/>
              </a:rPr>
              <a:t>Правила эти помни всегда!!!</a:t>
            </a:r>
            <a:endParaRPr b="0" lang="en-US" sz="28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94" name="Picture 4" descr="22222"/>
          <p:cNvPicPr/>
          <p:nvPr/>
        </p:nvPicPr>
        <p:blipFill>
          <a:blip r:embed="rId1"/>
          <a:stretch/>
        </p:blipFill>
        <p:spPr>
          <a:xfrm>
            <a:off x="2484360" y="1557360"/>
            <a:ext cx="3657600" cy="355608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11280" y="5444640"/>
            <a:ext cx="763272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99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е заливай водой горящие электроприбо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2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r>
              <a:rPr b="1" lang="ru-RU" sz="3900" spc="-1" strike="noStrike">
                <a:solidFill>
                  <a:srgbClr val="4f271c"/>
                </a:solidFill>
                <a:latin typeface="Tahoma"/>
              </a:rPr>
              <a:t>Не играй с розетками!!!</a:t>
            </a:r>
            <a:endParaRPr b="0" lang="en-US" sz="39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97" name="Picture 4" descr="5555"/>
          <p:cNvPicPr/>
          <p:nvPr/>
        </p:nvPicPr>
        <p:blipFill>
          <a:blip r:embed="rId1"/>
          <a:stretch/>
        </p:blipFill>
        <p:spPr>
          <a:xfrm>
            <a:off x="1979640" y="1989000"/>
            <a:ext cx="44164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271c"/>
                </a:solidFill>
                <a:latin typeface="Tahoma"/>
              </a:rPr>
              <a:t>Не дотрагивайся до проводов и электроприборов мокрыми руками!!!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99" name="Picture 4" descr="111141"/>
          <p:cNvPicPr/>
          <p:nvPr/>
        </p:nvPicPr>
        <p:blipFill>
          <a:blip r:embed="rId1"/>
          <a:stretch/>
        </p:blipFill>
        <p:spPr>
          <a:xfrm>
            <a:off x="2124000" y="1989000"/>
            <a:ext cx="4416480" cy="42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271c"/>
                </a:solidFill>
                <a:latin typeface="Tahoma"/>
              </a:rPr>
              <a:t>Не оставляйте без присмотра включенные электроприборы!!!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401" name="Picture 4" descr="3333333"/>
          <p:cNvPicPr/>
          <p:nvPr/>
        </p:nvPicPr>
        <p:blipFill>
          <a:blip r:embed="rId1"/>
          <a:stretch/>
        </p:blipFill>
        <p:spPr>
          <a:xfrm>
            <a:off x="1982880" y="1889280"/>
            <a:ext cx="441648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218440" cy="16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1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271c"/>
                </a:solidFill>
                <a:latin typeface="Tahoma"/>
              </a:rPr>
              <a:t>Если все приборы разом</a:t>
            </a:r>
            <a:br>
              <a:rPr sz="3200"/>
            </a:br>
            <a:r>
              <a:rPr b="1" lang="ru-RU" sz="3200" spc="-1" strike="noStrike">
                <a:solidFill>
                  <a:srgbClr val="4f271c"/>
                </a:solidFill>
                <a:latin typeface="Tahoma"/>
              </a:rPr>
              <a:t>Ты в одну розетку включишь,</a:t>
            </a:r>
            <a:br>
              <a:rPr sz="3200"/>
            </a:br>
            <a:r>
              <a:rPr b="1" lang="ru-RU" sz="3200" spc="-1" strike="noStrike">
                <a:solidFill>
                  <a:srgbClr val="4f271c"/>
                </a:solidFill>
                <a:latin typeface="Tahoma"/>
              </a:rPr>
              <a:t>То пожар проводки сразу</a:t>
            </a:r>
            <a:br>
              <a:rPr sz="3200"/>
            </a:br>
            <a:r>
              <a:rPr b="1" lang="ru-RU" sz="3200" spc="-1" strike="noStrike">
                <a:solidFill>
                  <a:srgbClr val="4f271c"/>
                </a:solidFill>
                <a:latin typeface="Tahoma"/>
              </a:rPr>
              <a:t>В этой комнате получишь!!!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1"/>
          <a:stretch/>
        </p:blipFill>
        <p:spPr>
          <a:xfrm>
            <a:off x="2411280" y="2276640"/>
            <a:ext cx="3381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80360" cy="149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271c"/>
                </a:solidFill>
                <a:latin typeface="Tahoma"/>
              </a:rPr>
              <a:t>В розетку ни в коем случае нельзя втыкать посторонние предметы (особенно металлические)!!!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405" name="Picture 4" descr="kids2"/>
          <p:cNvPicPr/>
          <p:nvPr/>
        </p:nvPicPr>
        <p:blipFill>
          <a:blip r:embed="rId1"/>
          <a:stretch/>
        </p:blipFill>
        <p:spPr>
          <a:xfrm>
            <a:off x="2124000" y="2565360"/>
            <a:ext cx="43210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137440" cy="193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271c"/>
                </a:solidFill>
                <a:latin typeface="Tahoma"/>
              </a:rPr>
              <a:t>Нельзя тянуть </a:t>
            </a:r>
            <a:br>
              <a:rPr sz="3200"/>
            </a:br>
            <a:r>
              <a:rPr b="1" lang="ru-RU" sz="3200" spc="-1" strike="noStrike">
                <a:solidFill>
                  <a:srgbClr val="4f271c"/>
                </a:solidFill>
                <a:latin typeface="Tahoma"/>
              </a:rPr>
              <a:t>за электрический провод. </a:t>
            </a:r>
            <a:br>
              <a:rPr sz="3200"/>
            </a:br>
            <a:r>
              <a:rPr b="1" lang="ru-RU" sz="3200" spc="-1" strike="noStrike">
                <a:solidFill>
                  <a:srgbClr val="4f271c"/>
                </a:solidFill>
                <a:latin typeface="Tahoma"/>
              </a:rPr>
              <a:t>Выключая электроприбор, </a:t>
            </a:r>
            <a:br>
              <a:rPr sz="3200"/>
            </a:br>
            <a:r>
              <a:rPr b="1" lang="ru-RU" sz="3200" spc="-1" strike="noStrike">
                <a:solidFill>
                  <a:srgbClr val="4f271c"/>
                </a:solidFill>
                <a:latin typeface="Tahoma"/>
              </a:rPr>
              <a:t>возьмись за вилку!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407" name="Picture 4" descr="kids3"/>
          <p:cNvPicPr/>
          <p:nvPr/>
        </p:nvPicPr>
        <p:blipFill>
          <a:blip r:embed="rId1"/>
          <a:stretch/>
        </p:blipFill>
        <p:spPr>
          <a:xfrm>
            <a:off x="2050920" y="2997360"/>
            <a:ext cx="43927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353440" cy="29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271c"/>
                </a:solidFill>
                <a:latin typeface="Tahoma"/>
              </a:rPr>
              <a:t>Внимание! Внимание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271c"/>
                </a:solidFill>
                <a:latin typeface="Tahoma"/>
              </a:rPr>
              <a:t>Соблюдайте правила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271c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4f271c"/>
                </a:solidFill>
                <a:latin typeface="Tahoma"/>
              </a:rPr>
              <a:t>чтоб не было возгорания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46784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f271c"/>
                </a:solidFill>
                <a:latin typeface="Arial"/>
              </a:rPr>
              <a:t>Загадки об электроприборах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Белый шкаф стоит в углу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шей кухни на полу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нем немало льда и снега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нем всегда мороз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ожет быть, снег белый с неба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то-нибудь принес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десь морозно даже летом..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то мне скажет, что же это?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Picture 6" descr=""/>
          <p:cNvPicPr/>
          <p:nvPr/>
        </p:nvPicPr>
        <p:blipFill>
          <a:blip r:embed="rId1"/>
          <a:stretch/>
        </p:blipFill>
        <p:spPr>
          <a:xfrm>
            <a:off x="4788000" y="1341360"/>
            <a:ext cx="365760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610920" y="1052280"/>
            <a:ext cx="746748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2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f271c"/>
                </a:solidFill>
                <a:latin typeface="Arial"/>
              </a:rPr>
              <a:t>Ток бежит по проводам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52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f271c"/>
                </a:solidFill>
                <a:latin typeface="Arial"/>
              </a:rPr>
              <a:t>Свет несёт в квартиру нам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52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f271c"/>
                </a:solidFill>
                <a:latin typeface="Arial"/>
              </a:rPr>
              <a:t>Чтоб работали приборы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52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f271c"/>
                </a:solidFill>
                <a:latin typeface="Arial"/>
              </a:rPr>
              <a:t>Холодильник, монитор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52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f271c"/>
                </a:solidFill>
                <a:latin typeface="Arial"/>
              </a:rPr>
              <a:t>Кофемолки, пылесос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52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f271c"/>
                </a:solidFill>
                <a:latin typeface="Arial"/>
              </a:rPr>
              <a:t>Ток энергию принёс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80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Есть у меня в квартире робо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 него огромный хобо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Любит робот чистот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 гудит, как лайнер "ТУ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н охотно пыль глотает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 болеет, не чихае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Что говорить – не солнце я,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о освещать умею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еня лишь включите, друзья,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 станет жизнь светлее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 будет времени для сна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егда, когда я включена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Picture 7" descr=""/>
          <p:cNvPicPr/>
          <p:nvPr/>
        </p:nvPicPr>
        <p:blipFill>
          <a:blip r:embed="rId1"/>
          <a:srcRect l="35567" t="36106" r="36312" b="35669"/>
          <a:stretch/>
        </p:blipFill>
        <p:spPr>
          <a:xfrm>
            <a:off x="4932360" y="549360"/>
            <a:ext cx="2157480" cy="23032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"/>
          <p:cNvPicPr/>
          <p:nvPr/>
        </p:nvPicPr>
        <p:blipFill>
          <a:blip r:embed="rId2"/>
          <a:stretch/>
        </p:blipFill>
        <p:spPr>
          <a:xfrm>
            <a:off x="1116000" y="3716280"/>
            <a:ext cx="251928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468000" y="1052280"/>
            <a:ext cx="388764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26560" y="836640"/>
            <a:ext cx="7705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Я и важен, я и нужен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Лишь включите вы мен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Если только захочу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ипяточку вскипяч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 вас чаем напою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хотите, вы, ребята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Я вам песенку спою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Если песню не хотите –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Я вам сказку расскажу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Picture 11" descr=""/>
          <p:cNvPicPr/>
          <p:nvPr/>
        </p:nvPicPr>
        <p:blipFill>
          <a:blip r:embed="rId1"/>
          <a:stretch/>
        </p:blipFill>
        <p:spPr>
          <a:xfrm>
            <a:off x="5219640" y="620640"/>
            <a:ext cx="2195640" cy="24480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2" descr=""/>
          <p:cNvPicPr/>
          <p:nvPr/>
        </p:nvPicPr>
        <p:blipFill>
          <a:blip r:embed="rId2"/>
          <a:stretch/>
        </p:blipFill>
        <p:spPr>
          <a:xfrm>
            <a:off x="755640" y="3429000"/>
            <a:ext cx="324000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3657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4360" y="620640"/>
            <a:ext cx="79912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Только я, только я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Я на кухне главна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Без меня, как ни трудитесь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Без обеда насидитесь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 столе я нахожусь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ам, ребята, пригожус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еня вечером включит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огда читать вы захотите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9" descr=""/>
          <p:cNvPicPr/>
          <p:nvPr/>
        </p:nvPicPr>
        <p:blipFill>
          <a:blip r:embed="rId1"/>
          <a:srcRect l="68528" t="39168" r="2384" b="35754"/>
          <a:stretch/>
        </p:blipFill>
        <p:spPr>
          <a:xfrm>
            <a:off x="4859280" y="260280"/>
            <a:ext cx="2338560" cy="2664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0" descr=""/>
          <p:cNvPicPr/>
          <p:nvPr/>
        </p:nvPicPr>
        <p:blipFill>
          <a:blip r:embed="rId2"/>
          <a:stretch/>
        </p:blipFill>
        <p:spPr>
          <a:xfrm>
            <a:off x="1258920" y="319572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610920" y="476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 сатиновому пол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рейс пошел электроход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н плывет, с волнами споря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То назад, а то вперед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Там, где он оставил след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и одной морщинки нет!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от так дом —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дно окно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аждый ден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окне кино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Picture 4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3595680" cy="27734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5" descr=""/>
          <p:cNvPicPr/>
          <p:nvPr/>
        </p:nvPicPr>
        <p:blipFill>
          <a:blip r:embed="rId2"/>
          <a:srcRect l="3246" t="36389" r="67482" b="36682"/>
          <a:stretch/>
        </p:blipFill>
        <p:spPr>
          <a:xfrm>
            <a:off x="4859280" y="333360"/>
            <a:ext cx="2879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8208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рез поле и лес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ается голос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н бежит по проводам 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кажешь здес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слышно т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мотри на боч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 мне вертится волч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 кого он не бьёт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то всё собьё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2995920" cy="22449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"/>
          <p:cNvPicPr/>
          <p:nvPr/>
        </p:nvPicPr>
        <p:blipFill>
          <a:blip r:embed="rId2"/>
          <a:srcRect l="4906" t="11640" r="66545" b="63964"/>
          <a:stretch/>
        </p:blipFill>
        <p:spPr>
          <a:xfrm>
            <a:off x="755640" y="3213000"/>
            <a:ext cx="287964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467840" cy="4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f271c"/>
                </a:solidFill>
                <a:latin typeface="Arial"/>
              </a:rPr>
              <a:t>Игра с мячом «Для чего это нужно?».</a:t>
            </a:r>
            <a:endParaRPr b="0" lang="en-US" sz="2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640" y="90792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вайте вместе вспомним, какие действия совершают разными электроприбора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тюгом – гладят бельё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ксером – взбивают кр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еном – сушат волос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ампой – освещают книг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ылесосом – пылесосят ковр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нтилятором – охлаждают воздух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холодильнике – хранят продукт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микроволновке – разогревают ед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чайнике – кипятят вод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электроплите – готовят ед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телефону – звонят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магнитофоне – слушают музы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497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83b2a"/>
                </a:solidFill>
                <a:latin typeface="Tahoma"/>
              </a:rPr>
              <a:t>Главное правило пользования электроприборами для дошкольни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271c"/>
                </a:solidFill>
                <a:latin typeface="Tahoma"/>
              </a:rPr>
              <a:t>Нельзя включать электроприборы без разрешения взрослы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271c"/>
                </a:solidFill>
                <a:latin typeface="Tahoma"/>
              </a:rPr>
              <a:t>и в их отсутств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83b2a"/>
                </a:solidFill>
                <a:latin typeface="Tahoma"/>
              </a:rPr>
              <a:t>И если вы будете соблюдать все эти правила, то электричество будет  всегда вашим друг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221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0746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ети, будьте бдительны!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чень заняты ваши родители.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мните о своей безопасности –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округ не мал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пасностей!</a:t>
            </a:r>
            <a:br>
              <a:rPr sz="2600"/>
            </a:br>
            <a:endParaRPr b="0" lang="en-US" sz="26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78" name="Picture 4" descr="kids4"/>
          <p:cNvPicPr/>
          <p:nvPr/>
        </p:nvPicPr>
        <p:blipFill>
          <a:blip r:embed="rId1"/>
          <a:stretch/>
        </p:blipFill>
        <p:spPr>
          <a:xfrm>
            <a:off x="2124000" y="2421000"/>
            <a:ext cx="36576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200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349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f271c"/>
                </a:solidFill>
                <a:latin typeface="Arial"/>
              </a:rPr>
              <a:t>Жизнь опасна если рядом </a:t>
            </a:r>
            <a:br>
              <a:rPr sz="3000"/>
            </a:br>
            <a:r>
              <a:rPr b="1" lang="ru-RU" sz="3000" spc="-1" strike="noStrike">
                <a:solidFill>
                  <a:srgbClr val="4f271c"/>
                </a:solidFill>
                <a:latin typeface="Arial"/>
              </a:rPr>
              <a:t>Зажигалки, спички, ток </a:t>
            </a:r>
            <a:br>
              <a:rPr sz="3000"/>
            </a:br>
            <a:r>
              <a:rPr b="1" lang="ru-RU" sz="3000" spc="-1" strike="noStrike">
                <a:solidFill>
                  <a:srgbClr val="4f271c"/>
                </a:solidFill>
                <a:latin typeface="Arial"/>
              </a:rPr>
              <a:t>Не бери их в руки, детка, </a:t>
            </a:r>
            <a:br>
              <a:rPr sz="3000"/>
            </a:br>
            <a:r>
              <a:rPr b="1" lang="ru-RU" sz="3000" spc="-1" strike="noStrike">
                <a:solidFill>
                  <a:srgbClr val="4f271c"/>
                </a:solidFill>
                <a:latin typeface="Arial"/>
              </a:rPr>
              <a:t>Вот тогда и будет толк</a:t>
            </a:r>
            <a:r>
              <a:rPr b="0" lang="ru-RU" sz="3000" spc="-1" strike="noStrike">
                <a:solidFill>
                  <a:srgbClr val="4f271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80" name="Picture 5" descr=""/>
          <p:cNvPicPr/>
          <p:nvPr/>
        </p:nvPicPr>
        <p:blipFill>
          <a:blip r:embed="rId1"/>
          <a:stretch/>
        </p:blipFill>
        <p:spPr>
          <a:xfrm>
            <a:off x="1835280" y="2421000"/>
            <a:ext cx="490536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3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349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ru-RU" sz="2700" spc="-1" strike="noStrike">
                <a:solidFill>
                  <a:srgbClr val="4f271c"/>
                </a:solidFill>
                <a:latin typeface="Arial"/>
              </a:rPr>
              <a:t>Газ на кухне, пылесос, </a:t>
            </a:r>
            <a:br>
              <a:rPr sz="2700"/>
            </a:br>
            <a:r>
              <a:rPr b="1" lang="ru-RU" sz="2700" spc="-1" strike="noStrike">
                <a:solidFill>
                  <a:srgbClr val="4f271c"/>
                </a:solidFill>
                <a:latin typeface="Arial"/>
              </a:rPr>
              <a:t>Телевизор, тостер </a:t>
            </a:r>
            <a:br>
              <a:rPr sz="2700"/>
            </a:br>
            <a:r>
              <a:rPr b="1" lang="ru-RU" sz="2700" spc="-1" strike="noStrike">
                <a:solidFill>
                  <a:srgbClr val="4f271c"/>
                </a:solidFill>
                <a:latin typeface="Arial"/>
              </a:rPr>
              <a:t>Пусть включает взрослый.</a:t>
            </a:r>
            <a:r>
              <a:rPr b="0" lang="ru-RU" sz="2300" spc="-1" strike="noStrike">
                <a:solidFill>
                  <a:srgbClr val="4f271c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82" name="Picture 8" descr=""/>
          <p:cNvPicPr/>
          <p:nvPr/>
        </p:nvPicPr>
        <p:blipFill>
          <a:blip r:embed="rId1"/>
          <a:stretch/>
        </p:blipFill>
        <p:spPr>
          <a:xfrm>
            <a:off x="1936800" y="1916280"/>
            <a:ext cx="450828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5238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f271c"/>
                </a:solidFill>
                <a:latin typeface="Arial"/>
              </a:rPr>
              <a:t>И девочка, и мальчик, </a:t>
            </a:r>
            <a:br>
              <a:rPr sz="2700"/>
            </a:br>
            <a:r>
              <a:rPr b="1" lang="ru-RU" sz="2700" spc="-1" strike="noStrike">
                <a:solidFill>
                  <a:srgbClr val="4f271c"/>
                </a:solidFill>
                <a:latin typeface="Arial"/>
              </a:rPr>
              <a:t>Не суй в розетку пальчик </a:t>
            </a:r>
            <a:br>
              <a:rPr sz="2700"/>
            </a:br>
            <a:r>
              <a:rPr b="1" lang="ru-RU" sz="2700" spc="-1" strike="noStrike">
                <a:solidFill>
                  <a:srgbClr val="4f271c"/>
                </a:solidFill>
                <a:latin typeface="Arial"/>
              </a:rPr>
              <a:t>В розетке круглый год </a:t>
            </a:r>
            <a:br>
              <a:rPr sz="2700"/>
            </a:br>
            <a:r>
              <a:rPr b="1" lang="ru-RU" sz="2700" spc="-1" strike="noStrike">
                <a:solidFill>
                  <a:srgbClr val="4f271c"/>
                </a:solidFill>
                <a:latin typeface="Arial"/>
              </a:rPr>
              <a:t>Живет опасный ток!</a:t>
            </a:r>
            <a:endParaRPr b="0" lang="en-US" sz="27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1908000" y="2276640"/>
            <a:ext cx="453564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200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349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f271c"/>
                </a:solidFill>
                <a:latin typeface="Arial"/>
              </a:rPr>
              <a:t>Нельзя играться с утюгом, </a:t>
            </a:r>
            <a:br>
              <a:rPr sz="3000"/>
            </a:br>
            <a:r>
              <a:rPr b="1" lang="ru-RU" sz="3000" spc="-1" strike="noStrike">
                <a:solidFill>
                  <a:srgbClr val="4f271c"/>
                </a:solidFill>
                <a:latin typeface="Arial"/>
              </a:rPr>
              <a:t>Утюг бывает тоже злом!</a:t>
            </a:r>
            <a:br>
              <a:rPr sz="3000"/>
            </a:br>
            <a:r>
              <a:rPr b="1" lang="ru-RU" sz="3000" spc="-1" strike="noStrike">
                <a:solidFill>
                  <a:srgbClr val="4f271c"/>
                </a:solidFill>
                <a:latin typeface="Arial"/>
              </a:rPr>
              <a:t>Не приключиться чтоб беде, </a:t>
            </a:r>
            <a:br>
              <a:rPr sz="3000"/>
            </a:br>
            <a:r>
              <a:rPr b="1" lang="ru-RU" sz="3000" spc="-1" strike="noStrike">
                <a:solidFill>
                  <a:srgbClr val="4f271c"/>
                </a:solidFill>
                <a:latin typeface="Arial"/>
              </a:rPr>
              <a:t>Утюг нельзя включать тебе!!!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86" name="Picture 4" descr="0001"/>
          <p:cNvPicPr/>
          <p:nvPr/>
        </p:nvPicPr>
        <p:blipFill>
          <a:blip r:embed="rId1"/>
          <a:stretch/>
        </p:blipFill>
        <p:spPr>
          <a:xfrm>
            <a:off x="1403280" y="2637000"/>
            <a:ext cx="601344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6113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ru-RU" sz="3000" spc="-1" strike="noStrike">
                <a:solidFill>
                  <a:srgbClr val="4f271c"/>
                </a:solidFill>
                <a:latin typeface="Arial"/>
              </a:rPr>
              <a:t>Если ты включил утюг, </a:t>
            </a:r>
            <a:br>
              <a:rPr sz="3000"/>
            </a:br>
            <a:r>
              <a:rPr b="1" lang="ru-RU" sz="3000" spc="-1" strike="noStrike">
                <a:solidFill>
                  <a:srgbClr val="4f271c"/>
                </a:solidFill>
                <a:latin typeface="Arial"/>
              </a:rPr>
              <a:t>Убегать не надо вдруг. </a:t>
            </a:r>
            <a:br>
              <a:rPr sz="3000"/>
            </a:br>
            <a:r>
              <a:rPr b="1" lang="ru-RU" sz="3000" spc="-1" strike="noStrike">
                <a:solidFill>
                  <a:srgbClr val="4f271c"/>
                </a:solidFill>
                <a:latin typeface="Arial"/>
              </a:rPr>
              <a:t>Закрывая в доме дверь, </a:t>
            </a:r>
            <a:br>
              <a:rPr sz="3000"/>
            </a:br>
            <a:r>
              <a:rPr b="1" lang="ru-RU" sz="3000" spc="-1" strike="noStrike">
                <a:solidFill>
                  <a:srgbClr val="4f271c"/>
                </a:solidFill>
                <a:latin typeface="Arial"/>
              </a:rPr>
              <a:t>Все ли выключил, проверь.</a:t>
            </a:r>
            <a:r>
              <a:rPr b="0" lang="ru-RU" sz="2600" spc="-1" strike="noStrike">
                <a:solidFill>
                  <a:srgbClr val="4f271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88" name="Picture 5" descr="4444"/>
          <p:cNvPicPr/>
          <p:nvPr/>
        </p:nvPicPr>
        <p:blipFill>
          <a:blip r:embed="rId1"/>
          <a:stretch/>
        </p:blipFill>
        <p:spPr>
          <a:xfrm>
            <a:off x="1979640" y="2246400"/>
            <a:ext cx="5040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77080" cy="207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f271c"/>
                </a:solidFill>
                <a:latin typeface="Arial"/>
              </a:rPr>
              <a:t>Вот докрасна утюг раскалился </a:t>
            </a:r>
            <a:br>
              <a:rPr sz="3000"/>
            </a:br>
            <a:r>
              <a:rPr b="1" lang="ru-RU" sz="3000" spc="-1" strike="noStrike">
                <a:solidFill>
                  <a:srgbClr val="4f271c"/>
                </a:solidFill>
                <a:latin typeface="Arial"/>
              </a:rPr>
              <a:t>Хозяин ушел, а пожар приключился </a:t>
            </a:r>
            <a:br>
              <a:rPr sz="3000"/>
            </a:br>
            <a:r>
              <a:rPr b="1" lang="ru-RU" sz="3000" spc="-1" strike="noStrike">
                <a:solidFill>
                  <a:srgbClr val="4f271c"/>
                </a:solidFill>
                <a:latin typeface="Arial"/>
              </a:rPr>
              <a:t>Скажем, друзья вам, дружно и ясно: </a:t>
            </a:r>
            <a:br>
              <a:rPr sz="3000"/>
            </a:br>
            <a:r>
              <a:rPr b="1" lang="ru-RU" sz="3000" spc="-1" strike="noStrike">
                <a:solidFill>
                  <a:srgbClr val="4f271c"/>
                </a:solidFill>
                <a:latin typeface="Arial"/>
              </a:rPr>
              <a:t>Утюг и розетку трогать опасно.</a:t>
            </a:r>
            <a:r>
              <a:rPr b="0" lang="ru-RU" sz="2600" spc="-1" strike="noStrike">
                <a:solidFill>
                  <a:srgbClr val="4f271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90" name="Picture 4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489564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20:05:32Z</dcterms:created>
  <dc:creator>Admin</dc:creator>
  <dc:description/>
  <dc:language>en-US</dc:language>
  <cp:lastModifiedBy>Админ</cp:lastModifiedBy>
  <dcterms:modified xsi:type="dcterms:W3CDTF">2020-04-07T18:29:40Z</dcterms:modified>
  <cp:revision>33</cp:revision>
  <dc:subject/>
  <dc:title>Огонь в картинках и загадках.</dc:title>
</cp:coreProperties>
</file>