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F4B-335C-4D71-9768-2D62256E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0E7-6327-4039-98C7-DB70E3B6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42D-4A3A-46B1-87AB-5B201400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5D9-2231-42F9-AC18-EE8A411A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6C7-E83E-4103-9574-FC43BB7C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773-04DE-4D96-849D-C372A83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A7A-36CB-4B7E-8838-EC930AD9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0E7-CF9E-4008-8AB8-873D3308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C29-04DE-45BD-ADE0-39CCCAE5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4F9-3DB9-46AA-B337-B6B125B3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930-3AB1-4CED-BAC0-5D3D0D64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EB7-09FF-4D5D-AAFF-365A3E3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3214-137C-40C5-BAB0-735A476D46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петербургские детские поэты и поэтессы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7680" y="762120"/>
            <a:ext cx="3932280" cy="29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рина Плаксин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Рисунок 5" descr=""/>
          <p:cNvPicPr/>
          <p:nvPr/>
        </p:nvPicPr>
        <p:blipFill>
          <a:blip r:embed="rId1"/>
          <a:stretch/>
        </p:blipFill>
        <p:spPr>
          <a:xfrm>
            <a:off x="861840" y="1136520"/>
            <a:ext cx="62247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77960" y="674280"/>
            <a:ext cx="6651720" cy="29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арис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лександрова-Гончар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1407960" y="757080"/>
            <a:ext cx="36766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78320" y="577440"/>
            <a:ext cx="4848120" cy="29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оман Нефедов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273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лена Евсеев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Объект 4" descr=""/>
          <p:cNvPicPr/>
          <p:nvPr/>
        </p:nvPicPr>
        <p:blipFill>
          <a:blip r:embed="rId1"/>
          <a:stretch/>
        </p:blipFill>
        <p:spPr>
          <a:xfrm>
            <a:off x="4940280" y="279360"/>
            <a:ext cx="6489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71880" y="2117520"/>
            <a:ext cx="4092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талия Хрущёв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Рисунок 4" descr=""/>
          <p:cNvPicPr/>
          <p:nvPr/>
        </p:nvPicPr>
        <p:blipFill>
          <a:blip r:embed="rId1"/>
          <a:srcRect l="2513" t="0" r="2513" b="0"/>
          <a:stretch/>
        </p:blipFill>
        <p:spPr>
          <a:xfrm>
            <a:off x="487440" y="663480"/>
            <a:ext cx="67165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720" y="1833120"/>
            <a:ext cx="393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еонид  Захаров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rcRect l="0" t="23644" r="0" b="23644"/>
          <a:stretch/>
        </p:blipFill>
        <p:spPr>
          <a:xfrm>
            <a:off x="4965840" y="457200"/>
            <a:ext cx="6858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49560" y="1742760"/>
            <a:ext cx="4883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рина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ахистов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Объект 4" descr=""/>
          <p:cNvPicPr/>
          <p:nvPr/>
        </p:nvPicPr>
        <p:blipFill>
          <a:blip r:embed="rId1"/>
          <a:stretch/>
        </p:blipFill>
        <p:spPr>
          <a:xfrm>
            <a:off x="932040" y="498600"/>
            <a:ext cx="477648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29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лег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ндур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Рисунок 5" descr=""/>
          <p:cNvPicPr/>
          <p:nvPr/>
        </p:nvPicPr>
        <p:blipFill>
          <a:blip r:embed="rId1"/>
          <a:stretch/>
        </p:blipFill>
        <p:spPr>
          <a:xfrm>
            <a:off x="5560920" y="1442880"/>
            <a:ext cx="580860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22920" y="802800"/>
            <a:ext cx="457704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алерий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умили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rcRect l="0" t="18418" r="0" b="18418"/>
          <a:stretch/>
        </p:blipFill>
        <p:spPr>
          <a:xfrm>
            <a:off x="611280" y="700200"/>
            <a:ext cx="563724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9880" y="609480"/>
            <a:ext cx="5048280" cy="30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ргей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мольянинов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1"/>
          <a:srcRect l="16592" t="0" r="14447" b="0"/>
          <a:stretch/>
        </p:blipFill>
        <p:spPr>
          <a:xfrm>
            <a:off x="6122880" y="457200"/>
            <a:ext cx="521028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757560" y="617400"/>
            <a:ext cx="346716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ихаил Яс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349280" y="711360"/>
            <a:ext cx="382752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86280" y="2142720"/>
            <a:ext cx="393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лена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ланг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Рисунок 4" descr=""/>
          <p:cNvPicPr/>
          <p:nvPr/>
        </p:nvPicPr>
        <p:blipFill>
          <a:blip r:embed="rId1"/>
          <a:srcRect l="2511" t="0" r="2511" b="0"/>
          <a:stretch/>
        </p:blipFill>
        <p:spPr>
          <a:xfrm>
            <a:off x="584280" y="973080"/>
            <a:ext cx="6172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9520" y="1942920"/>
            <a:ext cx="393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кола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ихи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Рисунок 4" descr=""/>
          <p:cNvPicPr/>
          <p:nvPr/>
        </p:nvPicPr>
        <p:blipFill>
          <a:blip r:embed="rId1"/>
          <a:srcRect l="0" t="7511" r="0" b="7511"/>
          <a:stretch/>
        </p:blipFill>
        <p:spPr>
          <a:xfrm>
            <a:off x="5310360" y="758880"/>
            <a:ext cx="6172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57880" y="1974600"/>
            <a:ext cx="4050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ячеслав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ейки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Объект 4" descr=""/>
          <p:cNvPicPr/>
          <p:nvPr/>
        </p:nvPicPr>
        <p:blipFill>
          <a:blip r:embed="rId1"/>
          <a:stretch/>
        </p:blipFill>
        <p:spPr>
          <a:xfrm>
            <a:off x="798480" y="331920"/>
            <a:ext cx="5181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6480" y="160128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юдмила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деев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Объект 4" descr=""/>
          <p:cNvPicPr/>
          <p:nvPr/>
        </p:nvPicPr>
        <p:blipFill>
          <a:blip r:embed="rId1"/>
          <a:stretch/>
        </p:blipFill>
        <p:spPr>
          <a:xfrm>
            <a:off x="5735520" y="192240"/>
            <a:ext cx="53848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4800" y="1301760"/>
            <a:ext cx="4937040" cy="207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лег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рдобольск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1"/>
          <a:srcRect l="9569" t="0" r="16403" b="0"/>
          <a:stretch/>
        </p:blipFill>
        <p:spPr>
          <a:xfrm>
            <a:off x="5764320" y="546120"/>
            <a:ext cx="5900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46400" y="1204920"/>
            <a:ext cx="4821480" cy="17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лексе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евченко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Объект 4" descr=""/>
          <p:cNvPicPr/>
          <p:nvPr/>
        </p:nvPicPr>
        <p:blipFill>
          <a:blip r:embed="rId1"/>
          <a:stretch/>
        </p:blipFill>
        <p:spPr>
          <a:xfrm>
            <a:off x="865080" y="488880"/>
            <a:ext cx="519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576080"/>
            <a:ext cx="4022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горь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евчук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Объект 4" descr=""/>
          <p:cNvPicPr/>
          <p:nvPr/>
        </p:nvPicPr>
        <p:blipFill>
          <a:blip r:embed="rId1"/>
          <a:stretch/>
        </p:blipFill>
        <p:spPr>
          <a:xfrm>
            <a:off x="5506920" y="512640"/>
            <a:ext cx="6113520" cy="58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9520" y="457200"/>
            <a:ext cx="3932280" cy="29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леб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орбовск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Объект 4" descr=""/>
          <p:cNvPicPr/>
          <p:nvPr/>
        </p:nvPicPr>
        <p:blipFill>
          <a:blip r:embed="rId1"/>
          <a:stretch/>
        </p:blipFill>
        <p:spPr>
          <a:xfrm>
            <a:off x="5451480" y="457200"/>
            <a:ext cx="524196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8840" y="1517760"/>
            <a:ext cx="540864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аэрт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бровольски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Объект 4" descr=""/>
          <p:cNvPicPr/>
          <p:nvPr/>
        </p:nvPicPr>
        <p:blipFill>
          <a:blip r:embed="rId1"/>
          <a:srcRect l="9700" t="0" r="6853" b="0"/>
          <a:stretch/>
        </p:blipFill>
        <p:spPr>
          <a:xfrm>
            <a:off x="806400" y="404640"/>
            <a:ext cx="455760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06680" y="2077920"/>
            <a:ext cx="540864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9520" y="1397160"/>
            <a:ext cx="3932280" cy="21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кола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чков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rcRect l="0" t="6131" r="0" b="6131"/>
          <a:stretch/>
        </p:blipFill>
        <p:spPr>
          <a:xfrm>
            <a:off x="4978440" y="609480"/>
            <a:ext cx="67309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9600" y="817560"/>
            <a:ext cx="3932280" cy="278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колай Голь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4" descr=""/>
          <p:cNvPicPr/>
          <p:nvPr/>
        </p:nvPicPr>
        <p:blipFill>
          <a:blip r:embed="rId1"/>
          <a:stretch/>
        </p:blipFill>
        <p:spPr>
          <a:xfrm>
            <a:off x="422280" y="380880"/>
            <a:ext cx="521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4240" y="442440"/>
            <a:ext cx="3932280" cy="29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лег Чупров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4" descr=""/>
          <p:cNvPicPr/>
          <p:nvPr/>
        </p:nvPicPr>
        <p:blipFill>
          <a:blip r:embed="rId1"/>
          <a:stretch/>
        </p:blipFill>
        <p:spPr>
          <a:xfrm>
            <a:off x="6478560" y="246240"/>
            <a:ext cx="43909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7680" y="527040"/>
            <a:ext cx="3932280" cy="29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урия Османов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rcRect l="0" t="16524" r="0" b="16524"/>
          <a:stretch/>
        </p:blipFill>
        <p:spPr>
          <a:xfrm>
            <a:off x="538200" y="498600"/>
            <a:ext cx="651348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9000" y="554040"/>
            <a:ext cx="4064040" cy="28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колай Бутенко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rcRect l="0" t="20391" r="0" b="20391"/>
          <a:stretch/>
        </p:blipFill>
        <p:spPr>
          <a:xfrm>
            <a:off x="4772160" y="343080"/>
            <a:ext cx="65833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69240" y="674280"/>
            <a:ext cx="4279680" cy="29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на Чернявска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Рисунок 7" descr=""/>
          <p:cNvPicPr/>
          <p:nvPr/>
        </p:nvPicPr>
        <p:blipFill>
          <a:blip r:embed="rId1"/>
          <a:stretch/>
        </p:blipFill>
        <p:spPr>
          <a:xfrm>
            <a:off x="830160" y="674640"/>
            <a:ext cx="512784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3932280" cy="29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ргей Махоти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5372280" y="317520"/>
            <a:ext cx="56512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1T21:02:49Z</dcterms:created>
  <dc:creator>Beaver</dc:creator>
  <dc:description/>
  <dc:language>en-US</dc:language>
  <cp:lastModifiedBy>User</cp:lastModifiedBy>
  <dcterms:modified xsi:type="dcterms:W3CDTF">2020-04-07T19:46:56Z</dcterms:modified>
  <cp:revision>17</cp:revision>
  <dc:subject/>
  <dc:title>Презентация PowerPoint</dc:title>
</cp:coreProperties>
</file>