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17CB-DD11-471F-9130-34F80B38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7A1-7FAF-4067-8E02-8B17392D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E9E-58DC-46A4-9EE9-7022AA39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B1A-A00F-4962-BA10-68B98D91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5484-7756-4F35-B35E-C8DCB840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1867-0FD8-4106-877E-18F5C742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DA61-E797-4971-93C4-39C78F14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3633-10DD-4217-ADB0-5F6B6524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142A-C155-44A2-8AB3-6780FA23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1C62-33D1-41A2-BDD1-6EF29C84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6D02-98A6-49A7-85B7-29FBF1FD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636-321F-49F2-A235-839A36EB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7036-C31A-459C-AFE2-A0EF21F9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CA7E-4DF3-4A50-A335-7BC57764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D513-F555-46AE-8DEF-7A43EB14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4DDB-C550-4620-8D51-53D5B2C5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B081-AAA1-4601-9CE4-CCDE8962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1836-60B8-4AC5-992A-F0AFFDD6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F798-E26F-4599-AB39-E752F1B1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9BA-0430-4E6E-ADBA-60027D68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A66-A6CA-49E1-A606-14C4D683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4D48-F106-4CE4-89F3-784E30A1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947B-C2F8-47BB-9C0A-4E2A3164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1E4A-C0C4-405D-965C-EE4434D4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ED85-2C6A-4D0B-BB41-F211EC352E9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185A-F229-4260-A4B4-CBFA024F81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Arial"/>
              </a:rPr>
              <a:t>Поэты Кубани</a:t>
            </a:r>
            <a:endParaRPr b="0" lang="en-US" sz="6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09120" y="4952520"/>
            <a:ext cx="70628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ыполнила воспитатель ГКОУ КК коррекцио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школы-интерната ст-цы Шкури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.П. Афанаси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Стройные деревья на опушке леса…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Морские дали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DSC00375"/>
          <p:cNvPicPr/>
          <p:nvPr/>
        </p:nvPicPr>
        <p:blipFill>
          <a:blip r:embed="rId1"/>
          <a:stretch/>
        </p:blipFill>
        <p:spPr>
          <a:xfrm>
            <a:off x="152280" y="152388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ронид Александрович Обойщиков (род.в1920г.)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523520"/>
            <a:ext cx="433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тчий кр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ишнёвые рассве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вух морей и н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ин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ля теб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убанские поэ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охранили лучш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22096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ван Фёдорович Варавва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( 1925г.- 2005г.)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123720" y="1599840"/>
            <a:ext cx="456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тро после дожд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Ах, какое утро на Куба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сле грома, бур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ож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Гнут хрусталь звеня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тюльпа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Льют зарю, к пор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дойдя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2343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5" descr=""/>
          <p:cNvPicPr/>
          <p:nvPr/>
        </p:nvPicPr>
        <p:blipFill>
          <a:blip r:embed="rId1"/>
          <a:stretch/>
        </p:blipFill>
        <p:spPr>
          <a:xfrm>
            <a:off x="0" y="4572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4" descr=""/>
          <p:cNvPicPr/>
          <p:nvPr/>
        </p:nvPicPr>
        <p:blipFill>
          <a:blip r:embed="rId1"/>
          <a:stretch/>
        </p:blipFill>
        <p:spPr>
          <a:xfrm>
            <a:off x="-76320" y="76320"/>
            <a:ext cx="792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2" descr=""/>
          <p:cNvPicPr/>
          <p:nvPr/>
        </p:nvPicPr>
        <p:blipFill>
          <a:blip r:embed="rId1"/>
          <a:stretch/>
        </p:blipFill>
        <p:spPr>
          <a:xfrm>
            <a:off x="-12952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28240" y="2057400"/>
            <a:ext cx="7421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Спасибо за внима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20-04-07T09:29:23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