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media/image12.jpeg" ContentType="image/jpeg"/>
  <Override PartName="/ppt/media/image8.png" ContentType="image/png"/>
  <Override PartName="/ppt/media/image11.jpeg" ContentType="image/jpeg"/>
  <Override PartName="/ppt/media/image9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D2BB1-2BAD-406F-AC44-436AA2E92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3B94B-6D70-4BF7-A6FB-406759347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6473E-3171-486D-BBEE-6536B85D7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3120E-D16C-459D-ACDA-772587B39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AA73D-4F05-4FD5-81DA-2BF5F0484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EE3F0-BF27-4152-852E-055D23B00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B78E5-9320-4E19-89AF-726F762ED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AD35F-45A6-40B5-82DC-D75F9DD7B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6DFD6-C516-4D63-849D-E77E021A0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EE7AA-1157-429D-B9CE-41C23011C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0A43A-92FB-4EFB-8A36-350AE2D5F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268CE-F0B9-48EC-8BAB-E43C7AC34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DD220-4247-4745-83B0-C1269E7F0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306B5-2D53-4705-BFD0-934B47DBC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335C9-EA3C-4D97-894F-38F34CA8E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CBBA5-F7AE-4B2D-8D3E-F1EAD0AE2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7F632-DFC7-47EA-93FE-27F073613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A0217-D0AC-4D3E-825E-74E985DB7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D7D70-CF63-4621-B7B8-EBDC56816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409A3-4C78-47FE-821C-1A11400F2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6FCCA-41DE-487E-AB0D-15CC86350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CC9D9-5A5C-4D26-8E96-E8F24A505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17F29-A5F4-4B3C-A874-561EBCEDB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8075D-F723-43D9-AA76-93A84DB91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d9efe0"/>
                </a:gs>
                <a:gs pos="100000">
                  <a:srgbClr val="15331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15331e"/>
                </a:gs>
                <a:gs pos="100000">
                  <a:srgbClr val="d9efe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8ba89e"/>
                </a:gs>
                <a:gs pos="50000">
                  <a:srgbClr val="a4c6ba"/>
                </a:gs>
                <a:gs pos="100000">
                  <a:srgbClr val="8ba89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7720" y="70560"/>
                    <a:ext cx="4284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8640" y="57960"/>
                    <a:ext cx="64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8120" y="108000"/>
                    <a:ext cx="23760" cy="6192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a08f5e"/>
                </a:gs>
                <a:gs pos="50000">
                  <a:srgbClr val="c1c177"/>
                </a:gs>
                <a:gs pos="100000">
                  <a:srgbClr val="a08f5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27423a"/>
                </a:gs>
                <a:gs pos="50000">
                  <a:srgbClr val="558f7d"/>
                </a:gs>
                <a:gs pos="100000">
                  <a:srgbClr val="2742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9efe0"/>
                </a:gs>
                <a:gs pos="100000">
                  <a:srgbClr val="a08f5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a08f5e"/>
                </a:gs>
                <a:gs pos="50000">
                  <a:srgbClr val="c1c177"/>
                </a:gs>
                <a:gs pos="100000">
                  <a:srgbClr val="a08f5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d9efe0"/>
                </a:gs>
                <a:gs pos="50000">
                  <a:srgbClr val="a08f5e"/>
                </a:gs>
                <a:gs pos="100000">
                  <a:srgbClr val="d9efe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9efe0"/>
                </a:gs>
                <a:gs pos="100000">
                  <a:srgbClr val="15331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0605a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269C8-1F00-4DB5-89C2-A3F99D5A5F86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-360"/>
            <a:ext cx="9159840" cy="6870960"/>
            <a:chOff x="0" y="-360"/>
            <a:chExt cx="9159840" cy="687096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d9efe0"/>
                </a:gs>
                <a:gs pos="100000">
                  <a:srgbClr val="15331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15331e"/>
                </a:gs>
                <a:gs pos="100000">
                  <a:srgbClr val="d9efe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8ba89e"/>
                </a:gs>
                <a:gs pos="50000">
                  <a:srgbClr val="a4c6ba"/>
                </a:gs>
                <a:gs pos="100000">
                  <a:srgbClr val="8ba89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-360"/>
              <a:ext cx="1295280" cy="6310800"/>
              <a:chOff x="7848720" y="-360"/>
              <a:chExt cx="1295280" cy="631080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-360"/>
                <a:ext cx="762120" cy="2271960"/>
                <a:chOff x="8381880" y="-360"/>
                <a:chExt cx="762120" cy="227196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07320" y="-360"/>
                  <a:ext cx="279360" cy="276120"/>
                  <a:chOff x="8707320" y="-360"/>
                  <a:chExt cx="279360" cy="27612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07320" y="-360"/>
                    <a:ext cx="279360" cy="276120"/>
                    <a:chOff x="8707320" y="-360"/>
                    <a:chExt cx="279360" cy="27612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46200" y="-39240"/>
                      <a:ext cx="20160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55560" y="92520"/>
                      <a:ext cx="141120" cy="22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2684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60600" y="70200"/>
                    <a:ext cx="4284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31520" y="57600"/>
                    <a:ext cx="64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901000" y="107640"/>
                    <a:ext cx="23760" cy="6192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26840" y="191160"/>
                    <a:ext cx="6336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75360" y="166320"/>
                    <a:ext cx="3780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a08f5e"/>
                </a:gs>
                <a:gs pos="50000">
                  <a:srgbClr val="c1c177"/>
                </a:gs>
                <a:gs pos="100000">
                  <a:srgbClr val="a08f5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27423a"/>
                </a:gs>
                <a:gs pos="50000">
                  <a:srgbClr val="558f7d"/>
                </a:gs>
                <a:gs pos="100000">
                  <a:srgbClr val="2742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9efe0"/>
                </a:gs>
                <a:gs pos="100000">
                  <a:srgbClr val="a08f5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a08f5e"/>
                </a:gs>
                <a:gs pos="50000">
                  <a:srgbClr val="c1c177"/>
                </a:gs>
                <a:gs pos="100000">
                  <a:srgbClr val="a08f5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d9efe0"/>
                </a:gs>
                <a:gs pos="50000">
                  <a:srgbClr val="a08f5e"/>
                </a:gs>
                <a:gs pos="100000">
                  <a:srgbClr val="d9efe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9efe0"/>
                </a:gs>
                <a:gs pos="100000">
                  <a:srgbClr val="15331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0605a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952BD-2DE1-4148-814B-0D07ECBC70EC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9144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cc"/>
                </a:solidFill>
                <a:latin typeface="Arial"/>
              </a:rPr>
              <a:t>Поэты Кубани</a:t>
            </a:r>
            <a:endParaRPr b="0" lang="en-US" sz="66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609120" y="4952520"/>
            <a:ext cx="706284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Выполнила воспитатель ГКОУ КК коррекционно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школы-интерната ст-цы Шкуринск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С.П. Афанасиад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cc"/>
                </a:solidFill>
                <a:latin typeface="Arial"/>
              </a:rPr>
              <a:t>Стройные деревья на опушке леса…</a:t>
            </a:r>
            <a:endParaRPr b="0" lang="en-US" sz="3600" spc="-1" strike="noStrike">
              <a:solidFill>
                <a:srgbClr val="30605a"/>
              </a:solidFill>
              <a:latin typeface="Arial"/>
            </a:endParaRPr>
          </a:p>
        </p:txBody>
      </p:sp>
      <p:pic>
        <p:nvPicPr>
          <p:cNvPr id="195" name="Picture 4" descr=""/>
          <p:cNvPicPr/>
          <p:nvPr/>
        </p:nvPicPr>
        <p:blipFill>
          <a:blip r:embed="rId1"/>
          <a:stretch/>
        </p:blipFill>
        <p:spPr>
          <a:xfrm>
            <a:off x="228600" y="1371600"/>
            <a:ext cx="75438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7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cc"/>
                </a:solidFill>
                <a:latin typeface="Arial"/>
              </a:rPr>
              <a:t>Морские дали</a:t>
            </a: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4" descr="DSC00375"/>
          <p:cNvPicPr/>
          <p:nvPr/>
        </p:nvPicPr>
        <p:blipFill>
          <a:blip r:embed="rId1"/>
          <a:stretch/>
        </p:blipFill>
        <p:spPr>
          <a:xfrm>
            <a:off x="152280" y="1523880"/>
            <a:ext cx="75438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Кронид Александрович Обойщиков (род.в1920г.)</a:t>
            </a:r>
            <a:endParaRPr b="0" lang="en-US" sz="36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895480" y="1523520"/>
            <a:ext cx="4338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Отчий край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Вишнёвые рассветы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Двух морей и неб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сине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Для теб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кубанские поэ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Сохранили лучш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сло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4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220968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Иван Фёдорович Варавва</a:t>
            </a:r>
            <a:br>
              <a:rPr sz="3600"/>
            </a:b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( 1925г.- 2005г.)</a:t>
            </a:r>
            <a:endParaRPr b="0" lang="en-US" sz="36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123720" y="1599840"/>
            <a:ext cx="45673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       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Утро после дожд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Ах, какое утро на Кубан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После грома, бури 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дожд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Гнут хрусталь звенящ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тюльпаны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Льют зарю, к порог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подойдя…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1523880"/>
            <a:ext cx="234324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Рисунок 5" descr=""/>
          <p:cNvPicPr/>
          <p:nvPr/>
        </p:nvPicPr>
        <p:blipFill>
          <a:blip r:embed="rId1"/>
          <a:stretch/>
        </p:blipFill>
        <p:spPr>
          <a:xfrm>
            <a:off x="0" y="457200"/>
            <a:ext cx="76201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Рисунок 4" descr=""/>
          <p:cNvPicPr/>
          <p:nvPr/>
        </p:nvPicPr>
        <p:blipFill>
          <a:blip r:embed="rId1"/>
          <a:stretch/>
        </p:blipFill>
        <p:spPr>
          <a:xfrm>
            <a:off x="-76320" y="76320"/>
            <a:ext cx="7925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Рисунок 2" descr=""/>
          <p:cNvPicPr/>
          <p:nvPr/>
        </p:nvPicPr>
        <p:blipFill>
          <a:blip r:embed="rId1"/>
          <a:stretch/>
        </p:blipFill>
        <p:spPr>
          <a:xfrm>
            <a:off x="-129528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228240" y="2057400"/>
            <a:ext cx="74214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cc"/>
                </a:solidFill>
                <a:latin typeface="Arial"/>
              </a:rPr>
              <a:t>Спасибо за внимание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novo</cp:lastModifiedBy>
  <dcterms:modified xsi:type="dcterms:W3CDTF">2020-04-07T09:29:23Z</dcterms:modified>
  <cp:revision>5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