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886-97DE-42AA-8B5D-F00E2E41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C9E-7856-43FC-94BA-8465929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D65-33AF-4B78-A7D3-E72EDDDD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F78-AFFE-4C16-9FFA-59315883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6676-7A42-4A68-B586-ABEADA35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FAC4-B6B5-4D76-89D7-0F86C007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6427-DFE8-4167-BF74-53D6C86C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D641-833C-46AB-B23B-9AD7BDF1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457F-BF79-4A2A-85B0-82ABAA56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9EED-1BE9-4A2A-8086-E26663EF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08A-057C-482B-A27B-13AC0936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293-4822-4001-9925-AA55B853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0F05-610F-4FDA-83AF-E3583580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0FEF-D1BA-4B60-B196-F774882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AABC-D273-4D00-82B8-46B1930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35F3-91B5-468E-950F-CFFB79CE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FC02-B4CF-4622-8D13-798F004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C5B94-B2EE-4A8D-AF67-8D18676A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42058-194E-4DF6-9613-DF60D1D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0D79E-538D-436D-B886-B64C526F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55A80-BBBA-4148-BA91-78165BCB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9BEA8-E019-4675-B3D1-4E335DC1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011-868F-4FFC-958E-BFDAC076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67C19-3A6E-47D5-887A-24AC18B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5D8AD-A2AF-4F95-8877-6CC4EA4F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EC452-2714-451E-BA81-9D56D65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4BB93-9472-4883-A167-F54DC1FB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3F141-F5F6-4C66-9200-7C4B6224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13E35-F717-4DE6-87C5-F2F2DCCC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39120-7D6B-4965-8FFB-466D4D33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1D4BE-E585-4FCA-8266-D68F9D62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EA1E-9CD7-4BE9-A986-C7559840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226F-EF1B-4FD8-8EB5-34C3555C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94D-418B-4858-B929-80D7497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1661C-6AE1-4A5E-BC9A-25742AF6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7562-256B-42ED-A358-380E930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2AEB-C1D3-4580-B2FE-DB7D7CF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1312-0FE5-4970-89D1-1A3CF2B3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A1CD-1343-4CD3-9AB5-ED512367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78A5-8822-45BE-984A-CFD4B4A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D0B7-1C0D-4B6C-BBB6-43D9EE44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A0C4B-2F25-461C-BFFE-AE8BE5A7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248B-5623-4BE9-A56C-088D3EC8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BCB81-476D-4DB6-81F9-2822B415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81C-2A4E-46F4-8396-EC3F8E91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49D7E-F0B7-45B1-9535-8AEA83D3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34C19-B9B4-432E-84F0-43C5952A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27020-981F-48D3-8F03-36E6914B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D01D5-D42C-43B5-ACD7-D064216D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C47AD-0036-42F2-9AF7-6E02A64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7D038-DCD4-4429-BC08-CF2EE67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8A49A-738E-4E2E-B12F-3E8C342D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F96CC-7AC6-45D4-A9E6-22CEE79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6846F-9381-43E3-904D-0CF5EA6D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E63D5-92B8-4D1B-BC92-D343C091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6B5-A962-48E2-A37F-D63EDEF6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5791E-8B45-4CD7-B6CF-05D81982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3D8BA-96D6-4973-AD8B-D96B374B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14C76-5396-4FA3-8B8B-B0659751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02753-4EBA-4D30-9801-A41686C6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D7EFE-2C7E-4C14-9EDD-6488E316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DC3F5-328F-4560-995A-E0390B97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3C55E-D6AA-400F-9EC8-B3DC5A0C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5DBB8-CFF6-4F7A-B773-8F839C1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BAB79-37DC-4254-A323-E5222A8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836D4-46DD-4DAB-95A1-32A0B14F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D7B-9FBC-4A52-AFA6-88047EB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8753F-54A5-4BD3-B0B0-10A1222F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BC5C1-A609-42A7-8AD0-7B1E0579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F625E-83DB-4A00-92FC-6ED952F9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FF724-6C1E-456B-802A-0F05418D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68CB9-BBAC-4056-BB84-7FB6881A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CC9DE-DBD1-4083-8BFD-6F549B62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C0D84-04BF-4B8D-9E71-F433EFE7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712A7-F076-415C-AB38-EDD9955E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A2539-BC9E-4A62-BC04-B8A88C0A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CA97C-DC01-4CFC-BEF6-84D3605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448-7739-4A0C-8F13-634A0BF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FBC23-D0D7-4BB7-88F6-975EDE2A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53BB9-DFF1-478B-B389-D6C8BB9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A65F0-40D3-40EB-B905-F1B5407A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1F899-8290-46C5-A6A9-06D20810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58253-4B62-4776-8331-9E11E303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B9E-9BF3-433B-B62B-0398C011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E79E-8BF8-4D94-91C2-FCCF039142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0c2b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1d9d5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1d9d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d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0c2b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d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0c2b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0c2b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63E2-14E6-434F-91E1-731559AB0D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9C80-EBB1-429E-AAA4-32EAB35149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0c2b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1d9d5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1d9d5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d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0c2b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d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0c2b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0c2b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92d05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8E92-8C3A-45FF-8903-0054E2400D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4EB5-C7CA-4E05-AD87-743E299E93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5255-22A1-48DC-81C6-7B21E67049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78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0c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0c2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78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784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7847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3746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0c2b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d4f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86E3-5912-4835-AF5D-70B0CB9407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5" descr=""/>
          <p:cNvPicPr/>
          <p:nvPr/>
        </p:nvPicPr>
        <p:blipFill>
          <a:blip r:embed="rId1"/>
          <a:srcRect l="0" t="0" r="43" b="-44"/>
          <a:stretch/>
        </p:blipFill>
        <p:spPr>
          <a:xfrm>
            <a:off x="1668600" y="1216080"/>
            <a:ext cx="6912000" cy="22129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714920" y="4723920"/>
            <a:ext cx="36734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Выполнила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воспитатель ГКОУ КК  коррекционной школы-интерната ст-цы Шкуринск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фанасиади С.П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10" descr="6a0133f37436c0970b01348971b32c970c-320wi.jpg"/>
          <p:cNvPicPr/>
          <p:nvPr/>
        </p:nvPicPr>
        <p:blipFill>
          <a:blip r:embed="rId2"/>
          <a:stretch/>
        </p:blipFill>
        <p:spPr>
          <a:xfrm>
            <a:off x="8050320" y="285840"/>
            <a:ext cx="1093680" cy="17730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1" descr="400x400.jpg"/>
          <p:cNvPicPr/>
          <p:nvPr/>
        </p:nvPicPr>
        <p:blipFill>
          <a:blip r:embed="rId3"/>
          <a:stretch/>
        </p:blipFill>
        <p:spPr>
          <a:xfrm>
            <a:off x="1857240" y="0"/>
            <a:ext cx="1611360" cy="13208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2" descr="profi.jpg"/>
          <p:cNvPicPr/>
          <p:nvPr/>
        </p:nvPicPr>
        <p:blipFill>
          <a:blip r:embed="rId4"/>
          <a:stretch/>
        </p:blipFill>
        <p:spPr>
          <a:xfrm>
            <a:off x="2714760" y="4286160"/>
            <a:ext cx="19256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Рисунок 4" descr="cb.jpg"/>
          <p:cNvPicPr/>
          <p:nvPr/>
        </p:nvPicPr>
        <p:blipFill>
          <a:blip r:embed="rId1"/>
          <a:stretch/>
        </p:blipFill>
        <p:spPr>
          <a:xfrm>
            <a:off x="642960" y="785880"/>
            <a:ext cx="4286160" cy="5214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364000" y="339408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3"/>
          <p:cNvSpPr/>
          <p:nvPr/>
        </p:nvSpPr>
        <p:spPr>
          <a:xfrm>
            <a:off x="4488480" y="785880"/>
            <a:ext cx="4704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Разные в ми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ывают род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Есть мам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лопроизводи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се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у них на уч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ы та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чно, в почё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4" descr="медсестра.jpg"/>
          <p:cNvPicPr/>
          <p:nvPr/>
        </p:nvPicPr>
        <p:blipFill>
          <a:blip r:embed="rId1"/>
          <a:srcRect l="0" t="0" r="-93" b="-39"/>
          <a:stretch/>
        </p:blipFill>
        <p:spPr>
          <a:xfrm>
            <a:off x="1071720" y="857160"/>
            <a:ext cx="3286080" cy="5214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429160" y="3465360"/>
            <a:ext cx="3429000" cy="36388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3"/>
          <p:cNvSpPr/>
          <p:nvPr/>
        </p:nvSpPr>
        <p:spPr>
          <a:xfrm>
            <a:off x="4945320" y="714240"/>
            <a:ext cx="3884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учший докто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-вр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Если ле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ы не пл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е достав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трашных  м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Шприц из са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обрых  р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4" descr="кассир.jpg"/>
          <p:cNvPicPr/>
          <p:nvPr/>
        </p:nvPicPr>
        <p:blipFill>
          <a:blip r:embed="rId1"/>
          <a:srcRect l="0" t="0" r="-8" b="0"/>
          <a:stretch/>
        </p:blipFill>
        <p:spPr>
          <a:xfrm>
            <a:off x="642960" y="1071720"/>
            <a:ext cx="4214880" cy="4643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364000" y="339264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3"/>
          <p:cNvSpPr/>
          <p:nvPr/>
        </p:nvSpPr>
        <p:spPr>
          <a:xfrm>
            <a:off x="4424400" y="907920"/>
            <a:ext cx="492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кусной колба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остала с витр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 –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давец в магази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illustrationsof.com/royalty-free-parachute-clipart-illustration-33885.jpg"/>
          <p:cNvPicPr/>
          <p:nvPr/>
        </p:nvPicPr>
        <p:blipFill>
          <a:blip r:embed="rId1"/>
          <a:stretch/>
        </p:blipFill>
        <p:spPr>
          <a:xfrm>
            <a:off x="571680" y="1143000"/>
            <a:ext cx="4354200" cy="4410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388120" y="342900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3"/>
          <p:cNvSpPr/>
          <p:nvPr/>
        </p:nvSpPr>
        <p:spPr>
          <a:xfrm>
            <a:off x="5143680" y="1500120"/>
            <a:ext cx="350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з самолё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ыгает с риском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мелая мама-парашюти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5429160" y="477360"/>
            <a:ext cx="3214800" cy="341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Зубки больные без всяких уколов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Arial"/>
              </a:rPr>
              <a:t>Вылечит мама – врач-стоматоло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429160" y="3381480"/>
            <a:ext cx="3429000" cy="3639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I:\CLIPART\Clipart\stddir4\PE02715_.WMF"/>
          <p:cNvPicPr/>
          <p:nvPr/>
        </p:nvPicPr>
        <p:blipFill>
          <a:blip r:embed="rId3"/>
          <a:stretch/>
        </p:blipFill>
        <p:spPr>
          <a:xfrm>
            <a:off x="857160" y="1500120"/>
            <a:ext cx="37861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4" descr="0_d9f61_6b154e05_XXL.png"/>
          <p:cNvPicPr/>
          <p:nvPr/>
        </p:nvPicPr>
        <p:blipFill>
          <a:blip r:embed="rId1"/>
          <a:stretch/>
        </p:blipFill>
        <p:spPr>
          <a:xfrm>
            <a:off x="785880" y="1285920"/>
            <a:ext cx="3929040" cy="429876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"/>
          <p:cNvSpPr/>
          <p:nvPr/>
        </p:nvSpPr>
        <p:spPr>
          <a:xfrm>
            <a:off x="5143680" y="765000"/>
            <a:ext cx="350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- парикмахер 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епременно 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дстриж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ас современно.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286240" y="33926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3" descr="бухгалтер.gif"/>
          <p:cNvPicPr/>
          <p:nvPr/>
        </p:nvPicPr>
        <p:blipFill>
          <a:blip r:embed="rId1"/>
          <a:stretch/>
        </p:blipFill>
        <p:spPr>
          <a:xfrm>
            <a:off x="714240" y="1285920"/>
            <a:ext cx="4143600" cy="435780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1"/>
          <p:cNvSpPr/>
          <p:nvPr/>
        </p:nvSpPr>
        <p:spPr>
          <a:xfrm>
            <a:off x="5143680" y="928800"/>
            <a:ext cx="357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 – бухгалте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от это 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 денежках пол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рядок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сё посчит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помнит, учт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мамочкой о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му-то вез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319720" y="342108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429160" y="3429000"/>
            <a:ext cx="3429000" cy="363996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5214960" y="785880"/>
            <a:ext cx="3643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е сидит -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 дорогам колесит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Если что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де случится –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Журналист с блокнотом мч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TVINTERVIEWWOMAN.jpg"/>
          <p:cNvPicPr/>
          <p:nvPr/>
        </p:nvPicPr>
        <p:blipFill>
          <a:blip r:embed="rId3"/>
          <a:stretch/>
        </p:blipFill>
        <p:spPr>
          <a:xfrm>
            <a:off x="785880" y="1428840"/>
            <a:ext cx="38574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5" descr="royalty-free-pharmacist-clipart-illustration-436206.jpg"/>
          <p:cNvPicPr/>
          <p:nvPr/>
        </p:nvPicPr>
        <p:blipFill>
          <a:blip r:embed="rId1"/>
          <a:srcRect l="0" t="0" r="130" b="-47"/>
          <a:stretch/>
        </p:blipFill>
        <p:spPr>
          <a:xfrm>
            <a:off x="285840" y="714240"/>
            <a:ext cx="4794120" cy="509616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1"/>
          <p:cNvSpPr/>
          <p:nvPr/>
        </p:nvSpPr>
        <p:spPr>
          <a:xfrm>
            <a:off x="5079960" y="836640"/>
            <a:ext cx="3857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ы-фармацев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 аптеках обит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 лекарства м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сё на свете зн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294160" y="326232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3" descr="Image59.jpg"/>
          <p:cNvPicPr/>
          <p:nvPr/>
        </p:nvPicPr>
        <p:blipFill>
          <a:blip r:embed="rId1"/>
          <a:stretch/>
        </p:blipFill>
        <p:spPr>
          <a:xfrm>
            <a:off x="571680" y="1000080"/>
            <a:ext cx="4257360" cy="4753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50004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1"/>
          <p:cNvSpPr/>
          <p:nvPr/>
        </p:nvSpPr>
        <p:spPr>
          <a:xfrm>
            <a:off x="5286240" y="1000080"/>
            <a:ext cx="335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у а мам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ва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 все ру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хоть к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тлет пожар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 блинов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ет ум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овар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286240" y="342900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4" descr="0_orig.jpg"/>
          <p:cNvPicPr/>
          <p:nvPr/>
        </p:nvPicPr>
        <p:blipFill>
          <a:blip r:embed="rId1"/>
          <a:stretch/>
        </p:blipFill>
        <p:spPr>
          <a:xfrm>
            <a:off x="500040" y="1000080"/>
            <a:ext cx="4429080" cy="480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428760" y="428760"/>
            <a:ext cx="4500360" cy="59292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5292720" y="985680"/>
            <a:ext cx="2784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ёплые 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ыстро и ти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шьёт для дети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-портни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383080" y="34466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http://www.grafamania.net/uploads/posts/2010-06/1277183691_29zpifp.jpg"/>
          <p:cNvPicPr/>
          <p:nvPr/>
        </p:nvPicPr>
        <p:blipFill>
          <a:blip r:embed="rId1"/>
          <a:stretch/>
        </p:blipFill>
        <p:spPr>
          <a:xfrm>
            <a:off x="500040" y="1714680"/>
            <a:ext cx="4762440" cy="314316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1"/>
          <p:cNvSpPr/>
          <p:nvPr/>
        </p:nvSpPr>
        <p:spPr>
          <a:xfrm>
            <a:off x="5357880" y="2357280"/>
            <a:ext cx="3786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ама строитель - профессия нужн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Строит до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проектирует у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71500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2"/>
          <p:cNvSpPr/>
          <p:nvPr/>
        </p:nvSpPr>
        <p:spPr>
          <a:xfrm>
            <a:off x="0" y="1428840"/>
            <a:ext cx="8929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амы всякие  нужн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амы всякие важн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D:\Мои документы\Рисунки и анимашки\Уголки\60882215_1277701184_10.png"/>
          <p:cNvPicPr/>
          <p:nvPr/>
        </p:nvPicPr>
        <p:blipFill>
          <a:blip r:embed="rId1"/>
          <a:srcRect l="0" t="0" r="-49" b="0"/>
          <a:stretch/>
        </p:blipFill>
        <p:spPr>
          <a:xfrm>
            <a:off x="5435640" y="335772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D:\Мои документы\Рисунки и анимашки\Рамки\рамки 1\3978976.png"/>
          <p:cNvPicPr/>
          <p:nvPr/>
        </p:nvPicPr>
        <p:blipFill>
          <a:blip r:embed="rId1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4736520" y="1052640"/>
            <a:ext cx="391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ишет в газ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татьи и зап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-п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 журнали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D:\Мои документы\Рисунки и анимашки\Уголки\60882215_1277701184_10.png"/>
          <p:cNvPicPr/>
          <p:nvPr/>
        </p:nvPicPr>
        <p:blipFill>
          <a:blip r:embed="rId2"/>
          <a:srcRect l="0" t="0" r="-49" b="0"/>
          <a:stretch/>
        </p:blipFill>
        <p:spPr>
          <a:xfrm>
            <a:off x="5322960" y="3429000"/>
            <a:ext cx="3429000" cy="3639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I:\CLIPART\Clipart\stddir3\PE01678_.WMF"/>
          <p:cNvPicPr/>
          <p:nvPr/>
        </p:nvPicPr>
        <p:blipFill>
          <a:blip r:embed="rId3"/>
          <a:stretch/>
        </p:blipFill>
        <p:spPr>
          <a:xfrm flipH="1">
            <a:off x="842760" y="1285920"/>
            <a:ext cx="3754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D:\Мои документы\Рисунки и анимашки\Профессии\воспитатель.jpg"/>
          <p:cNvPicPr/>
          <p:nvPr/>
        </p:nvPicPr>
        <p:blipFill>
          <a:blip r:embed="rId1"/>
          <a:stretch/>
        </p:blipFill>
        <p:spPr>
          <a:xfrm>
            <a:off x="576360" y="708120"/>
            <a:ext cx="4424400" cy="5435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76360" y="666720"/>
            <a:ext cx="4500360" cy="59292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2"/>
          <p:cNvSpPr/>
          <p:nvPr/>
        </p:nvSpPr>
        <p:spPr>
          <a:xfrm>
            <a:off x="4475880" y="907920"/>
            <a:ext cx="488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 детском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чень много за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 там ня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 воспит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262480" y="3425760"/>
            <a:ext cx="342900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4" descr="clipart_tuinieren_animaatjes-93.jpg"/>
          <p:cNvPicPr/>
          <p:nvPr/>
        </p:nvPicPr>
        <p:blipFill>
          <a:blip r:embed="rId1"/>
          <a:stretch/>
        </p:blipFill>
        <p:spPr>
          <a:xfrm>
            <a:off x="785880" y="1357200"/>
            <a:ext cx="400032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2"/>
          <p:cNvSpPr/>
          <p:nvPr/>
        </p:nvSpPr>
        <p:spPr>
          <a:xfrm>
            <a:off x="4842720" y="1123920"/>
            <a:ext cx="425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з кореш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растить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Чудо-рас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-бота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364000" y="344340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4" descr="Cucinare_dolci.jpg"/>
          <p:cNvPicPr/>
          <p:nvPr/>
        </p:nvPicPr>
        <p:blipFill>
          <a:blip r:embed="rId1"/>
          <a:stretch/>
        </p:blipFill>
        <p:spPr>
          <a:xfrm>
            <a:off x="571680" y="1000080"/>
            <a:ext cx="4429080" cy="4991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4597200" y="1155600"/>
            <a:ext cx="435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люшки и 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ушать спеш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х испекла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-конди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292720" y="321804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учитель.jpg"/>
          <p:cNvPicPr/>
          <p:nvPr/>
        </p:nvPicPr>
        <p:blipFill>
          <a:blip r:embed="rId1"/>
          <a:srcRect l="0" t="0" r="33" b="-49"/>
          <a:stretch/>
        </p:blipFill>
        <p:spPr>
          <a:xfrm>
            <a:off x="571680" y="714240"/>
            <a:ext cx="4143240" cy="5500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4618440" y="1052640"/>
            <a:ext cx="441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 школе не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нятий. Смотр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тавит 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-уч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364000" y="341316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3" descr="доярка.jpg"/>
          <p:cNvPicPr/>
          <p:nvPr/>
        </p:nvPicPr>
        <p:blipFill>
          <a:blip r:embed="rId1"/>
          <a:srcRect l="0" t="0" r="-16" b="-27"/>
          <a:stretch/>
        </p:blipFill>
        <p:spPr>
          <a:xfrm>
            <a:off x="571680" y="1000080"/>
            <a:ext cx="4357440" cy="5072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"/>
          <p:cNvSpPr/>
          <p:nvPr/>
        </p:nvSpPr>
        <p:spPr>
          <a:xfrm>
            <a:off x="4778280" y="1000080"/>
            <a:ext cx="401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оит кор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 утра спозара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 чистом заг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ма-доя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435640" y="3429000"/>
            <a:ext cx="3429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3" descr="1341919704_cartoon_housewife_allclipart.ru_1.jpg"/>
          <p:cNvPicPr/>
          <p:nvPr/>
        </p:nvPicPr>
        <p:blipFill>
          <a:blip r:embed="rId1"/>
          <a:stretch/>
        </p:blipFill>
        <p:spPr>
          <a:xfrm>
            <a:off x="571680" y="1357200"/>
            <a:ext cx="4286160" cy="3929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Мои документы\Рисунки и анимашки\Рамки\рамки 1\3978976.png"/>
          <p:cNvPicPr/>
          <p:nvPr/>
        </p:nvPicPr>
        <p:blipFill>
          <a:blip r:embed="rId2"/>
          <a:stretch/>
        </p:blipFill>
        <p:spPr>
          <a:xfrm>
            <a:off x="500040" y="428760"/>
            <a:ext cx="4500720" cy="5929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D:\Мои документы\Рисунки и анимашки\Уголки\60882215_1277701184_10.png"/>
          <p:cNvPicPr/>
          <p:nvPr/>
        </p:nvPicPr>
        <p:blipFill>
          <a:blip r:embed="rId3"/>
          <a:srcRect l="0" t="0" r="-49" b="0"/>
          <a:stretch/>
        </p:blipFill>
        <p:spPr>
          <a:xfrm>
            <a:off x="5364000" y="3368520"/>
            <a:ext cx="3429000" cy="36403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4582440" y="836640"/>
            <a:ext cx="482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Я вам о ма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расскажу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А кто она? – Узнай-ка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у, так и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я подскажу: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на – домохозяйка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4:11:23Z</dcterms:created>
  <dc:creator>Прокопьева Л.Н.</dc:creator>
  <dc:description/>
  <dc:language>en-US</dc:language>
  <cp:lastModifiedBy>lenovo</cp:lastModifiedBy>
  <dcterms:modified xsi:type="dcterms:W3CDTF">2020-04-07T06:30:40Z</dcterms:modified>
  <cp:revision>46</cp:revision>
  <dc:subject>Внеклассная работа.</dc:subject>
  <dc:title>Мамины професс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f0000000000010243100207f6000400038000</vt:lpwstr>
  </property>
</Properties>
</file>