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846-4418-483E-80B3-82579A6E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35B-42AE-4524-99BB-994586D2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240-0BDE-4A43-81F3-FC133015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A1D-BC37-47E8-AF0D-B94311BF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C3F-5065-4464-85D7-7313484B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36A-D045-4BA0-A496-6D310D0C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4B8-51A4-4E3A-A77F-A7FC0FDC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7DC-2F72-4680-A543-A917B0BB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95D-3039-4B99-BF8A-061F4056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296-329A-4038-B21A-F6822AB4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3F6-EEE6-4CEC-8A40-241D1444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E3B-6D60-4838-83D2-5530E82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A0A8-D678-4656-AFF1-63376C771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 rot="5400000">
            <a:off x="-3108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 rot="16200000">
            <a:off x="5394240" y="3108240"/>
            <a:ext cx="6858000" cy="64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" descr=""/>
          <p:cNvPicPr/>
          <p:nvPr/>
        </p:nvPicPr>
        <p:blipFill>
          <a:blip r:embed="rId4"/>
          <a:stretch/>
        </p:blipFill>
        <p:spPr>
          <a:xfrm>
            <a:off x="1600200" y="0"/>
            <a:ext cx="5791320" cy="6324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20480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rcRect l="0" t="3484" r="428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лава юным героям Кубани, отдавшим жизнь в борьбе с фаш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9280" y="189000"/>
            <a:ext cx="8856720" cy="6551640"/>
            <a:chOff x="179280" y="189000"/>
            <a:chExt cx="8856720" cy="6551640"/>
          </a:xfrm>
        </p:grpSpPr>
        <p:sp>
          <p:nvSpPr>
            <p:cNvPr id="46" name="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38920" y="40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20000" y="189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1592280"/>
            <a:ext cx="7772400" cy="4741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143000" y="0"/>
            <a:ext cx="6934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ДЕТИ ДЛЯ ПОБЕДЫ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8358" t="0" r="18398" b="0"/>
          <a:stretch/>
        </p:blipFill>
        <p:spPr>
          <a:xfrm>
            <a:off x="0" y="0"/>
            <a:ext cx="4343400" cy="3657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grpSp>
        <p:nvGrpSpPr>
          <p:cNvPr id="54" name=""/>
          <p:cNvGrpSpPr/>
          <p:nvPr/>
        </p:nvGrpSpPr>
        <p:grpSpPr>
          <a:xfrm>
            <a:off x="179280" y="189000"/>
            <a:ext cx="8856720" cy="6551640"/>
            <a:chOff x="179280" y="189000"/>
            <a:chExt cx="8856720" cy="6551640"/>
          </a:xfrm>
        </p:grpSpPr>
        <p:sp>
          <p:nvSpPr>
            <p:cNvPr id="55" name=""/>
            <p:cNvSpPr/>
            <p:nvPr/>
          </p:nvSpPr>
          <p:spPr>
            <a:xfrm>
              <a:off x="395280" y="551664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9640" y="638172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9280" y="652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38920" y="404640"/>
              <a:ext cx="129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20000" y="189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0" y="3809880"/>
            <a:ext cx="4724280" cy="3048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365760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" descr=""/>
          <p:cNvPicPr/>
          <p:nvPr/>
        </p:nvPicPr>
        <p:blipFill>
          <a:blip r:embed="rId3"/>
          <a:stretch/>
        </p:blipFill>
        <p:spPr>
          <a:xfrm>
            <a:off x="0" y="0"/>
            <a:ext cx="5334120" cy="62485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6" name=""/>
          <p:cNvSpPr/>
          <p:nvPr/>
        </p:nvSpPr>
        <p:spPr>
          <a:xfrm>
            <a:off x="5334120" y="0"/>
            <a:ext cx="380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месте с от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942-й год вошел в историю Краснодарского края как трагический год оккупации немецко-фашистскими захватчи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 борьбу с ненавистным врагом поднимали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юные школьники, пионеры и комсомоль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" descr=""/>
          <p:cNvPicPr/>
          <p:nvPr/>
        </p:nvPicPr>
        <p:blipFill>
          <a:blip r:embed="rId3">
            <a:alphaModFix amt="0"/>
          </a:blip>
          <a:srcRect l="16662" t="13319" r="8331" b="20014"/>
          <a:stretch/>
        </p:blipFill>
        <p:spPr>
          <a:xfrm>
            <a:off x="0" y="0"/>
            <a:ext cx="5334120" cy="586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1" name=""/>
          <p:cNvSpPr/>
          <p:nvPr/>
        </p:nvSpPr>
        <p:spPr>
          <a:xfrm>
            <a:off x="5715000" y="1295280"/>
            <a:ext cx="3124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гда началась война, Владик перешёл в 5-й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орвал склад боеприпасов фаши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ас г.Анап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 голода, разминировав склад с зерном. Дошёл с войсками до Будапеш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28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лад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ши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" descr=""/>
          <p:cNvPicPr/>
          <p:nvPr/>
        </p:nvPicPr>
        <p:blipFill>
          <a:blip r:embed="rId3"/>
          <a:srcRect l="20855" t="18906" r="12503" b="18906"/>
          <a:stretch/>
        </p:blipFill>
        <p:spPr>
          <a:xfrm>
            <a:off x="0" y="0"/>
            <a:ext cx="5334120" cy="5943600"/>
          </a:xfrm>
          <a:prstGeom prst="rect">
            <a:avLst/>
          </a:prstGeom>
          <a:ln w="76320">
            <a:solidFill>
              <a:srgbClr val="000000"/>
            </a:solidFill>
            <a:round/>
          </a:ln>
        </p:spPr>
      </p:pic>
      <p:sp>
        <p:nvSpPr>
          <p:cNvPr id="77" name=""/>
          <p:cNvSpPr/>
          <p:nvPr/>
        </p:nvSpPr>
        <p:spPr>
          <a:xfrm>
            <a:off x="5486400" y="2286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Алёх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752480"/>
            <a:ext cx="3505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ыл радистом в партизанском отря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одил в разведку, подрывал железную доро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бою с врагами пал смертью храбрых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" descr=""/>
          <p:cNvPicPr/>
          <p:nvPr/>
        </p:nvPicPr>
        <p:blipFill>
          <a:blip r:embed="rId3"/>
          <a:srcRect l="20833" t="16667" r="14166" b="18889"/>
          <a:stretch/>
        </p:blipFill>
        <p:spPr>
          <a:xfrm>
            <a:off x="0" y="0"/>
            <a:ext cx="5105520" cy="6095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3" name=""/>
          <p:cNvSpPr/>
          <p:nvPr/>
        </p:nvSpPr>
        <p:spPr>
          <a:xfrm>
            <a:off x="5410080" y="22860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Шуль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523880"/>
            <a:ext cx="396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началась война, Коле было 11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ял задания партизан: добывал оружие, повреждал телефонные кабели, лишая фашистов связи. Даже под пытками не выдал местонахождение партиз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" descr=""/>
          <p:cNvPicPr/>
          <p:nvPr/>
        </p:nvPicPr>
        <p:blipFill>
          <a:blip r:embed="rId3"/>
          <a:srcRect l="17500" t="17780" r="14167" b="20001"/>
          <a:stretch/>
        </p:blipFill>
        <p:spPr>
          <a:xfrm>
            <a:off x="0" y="0"/>
            <a:ext cx="5105520" cy="6172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89" name=""/>
          <p:cNvSpPr/>
          <p:nvPr/>
        </p:nvSpPr>
        <p:spPr>
          <a:xfrm>
            <a:off x="5334120" y="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Вен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авл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1447920"/>
            <a:ext cx="3504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месте с подругой Кларой Навальневой спасла лётчиков из подбитого фашистами самолёта. Девочек выследили и выдали врагам. Лётчики успели уйти. Девочек схватили и замучили на допро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" descr=""/>
          <p:cNvPicPr/>
          <p:nvPr/>
        </p:nvPicPr>
        <p:blipFill>
          <a:blip r:embed="rId3"/>
          <a:srcRect l="9168" t="6851" r="6668" b="10277"/>
          <a:stretch/>
        </p:blipFill>
        <p:spPr>
          <a:xfrm>
            <a:off x="0" y="0"/>
            <a:ext cx="4572000" cy="6324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95" name=""/>
          <p:cNvSpPr/>
          <p:nvPr/>
        </p:nvSpPr>
        <p:spPr>
          <a:xfrm>
            <a:off x="4724280" y="228600"/>
            <a:ext cx="426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 зову сердца и Отчиз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тревожное воен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ети не могли прятаться по до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двиги кубанских пионеров – пример необычайного муж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ззаветной любви к Род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я</cp:lastModifiedBy>
  <dcterms:modified xsi:type="dcterms:W3CDTF">2010-02-04T20:08:5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