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jpeg" ContentType="image/jpeg"/>
  <Override PartName="/ppt/media/image17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329C-532F-489F-81AC-8FB531AD0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D239-5074-4CD7-B0AF-C268A91E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8FFC-1A72-4E24-9619-DA8149CF1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8041-BB59-467E-8FD5-DC4E925B2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6199-8C2B-4514-862C-969D31AC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D533-C001-4A7C-A27E-B2F745F1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315E-9948-470C-9D8F-AA5B32C7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B439-788A-4622-AB14-30C6273E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4064-D944-40E8-84BD-F3B5E446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425B-2FAD-4F79-BE8B-27361BA8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D25F-D063-4671-BD02-258AEF24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5891-0984-470E-8B51-750DBB30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3602-6F60-424C-B9BA-A4B600FA0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prir644"/>
          <p:cNvPicPr/>
          <p:nvPr/>
        </p:nvPicPr>
        <p:blipFill>
          <a:blip r:embed="rId1">
            <a:lum contrast="54000"/>
          </a:blip>
          <a:stretch/>
        </p:blipFill>
        <p:spPr>
          <a:xfrm rot="5400000">
            <a:off x="-3108240" y="3108240"/>
            <a:ext cx="6858000" cy="641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2" descr="prir644"/>
          <p:cNvPicPr/>
          <p:nvPr/>
        </p:nvPicPr>
        <p:blipFill>
          <a:blip r:embed="rId2">
            <a:lum contrast="54000"/>
          </a:blip>
          <a:stretch/>
        </p:blipFill>
        <p:spPr>
          <a:xfrm rot="16200000">
            <a:off x="5394240" y="3108240"/>
            <a:ext cx="6858000" cy="641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2" descr="prir644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0" y="6216480"/>
            <a:ext cx="9144000" cy="641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" descr=""/>
          <p:cNvPicPr/>
          <p:nvPr/>
        </p:nvPicPr>
        <p:blipFill>
          <a:blip r:embed="rId4"/>
          <a:stretch/>
        </p:blipFill>
        <p:spPr>
          <a:xfrm>
            <a:off x="1600200" y="0"/>
            <a:ext cx="5791320" cy="63244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71640" cy="20480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rcRect l="0" t="3484" r="428" b="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2280" y="2286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лава юным героям Кубани, отдавшим жизнь в борьбе с фашиз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79280" y="189000"/>
            <a:ext cx="8856720" cy="6551640"/>
            <a:chOff x="179280" y="189000"/>
            <a:chExt cx="8856720" cy="6551640"/>
          </a:xfrm>
        </p:grpSpPr>
        <p:sp>
          <p:nvSpPr>
            <p:cNvPr id="46" name=""/>
            <p:cNvSpPr/>
            <p:nvPr/>
          </p:nvSpPr>
          <p:spPr>
            <a:xfrm>
              <a:off x="395280" y="5516640"/>
              <a:ext cx="0" cy="1224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39640" y="6381720"/>
              <a:ext cx="1368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9280" y="6524640"/>
              <a:ext cx="1297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738920" y="404640"/>
              <a:ext cx="1297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820000" y="189000"/>
              <a:ext cx="0" cy="1224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3520" y="1592280"/>
            <a:ext cx="7772400" cy="4741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143000" y="0"/>
            <a:ext cx="69343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53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ДЕТИ ДЛЯ ПОБЕДЫ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18358" t="0" r="18398" b="0"/>
          <a:stretch/>
        </p:blipFill>
        <p:spPr>
          <a:xfrm>
            <a:off x="0" y="0"/>
            <a:ext cx="4343400" cy="365760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grpSp>
        <p:nvGrpSpPr>
          <p:cNvPr id="54" name=""/>
          <p:cNvGrpSpPr/>
          <p:nvPr/>
        </p:nvGrpSpPr>
        <p:grpSpPr>
          <a:xfrm>
            <a:off x="179280" y="189000"/>
            <a:ext cx="8856720" cy="6551640"/>
            <a:chOff x="179280" y="189000"/>
            <a:chExt cx="8856720" cy="6551640"/>
          </a:xfrm>
        </p:grpSpPr>
        <p:sp>
          <p:nvSpPr>
            <p:cNvPr id="55" name=""/>
            <p:cNvSpPr/>
            <p:nvPr/>
          </p:nvSpPr>
          <p:spPr>
            <a:xfrm>
              <a:off x="395280" y="5516640"/>
              <a:ext cx="0" cy="1224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39640" y="6381720"/>
              <a:ext cx="1368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79280" y="6524640"/>
              <a:ext cx="1297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738920" y="404640"/>
              <a:ext cx="1297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20000" y="189000"/>
              <a:ext cx="0" cy="1224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86000" y="3809880"/>
            <a:ext cx="4724280" cy="3048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495680" y="0"/>
            <a:ext cx="4648320" cy="3657600"/>
          </a:xfrm>
          <a:prstGeom prst="rect">
            <a:avLst/>
          </a:prstGeom>
          <a:ln w="381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" descr=""/>
          <p:cNvPicPr/>
          <p:nvPr/>
        </p:nvPicPr>
        <p:blipFill>
          <a:blip r:embed="rId3"/>
          <a:stretch/>
        </p:blipFill>
        <p:spPr>
          <a:xfrm>
            <a:off x="0" y="0"/>
            <a:ext cx="5334120" cy="62485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66" name=""/>
          <p:cNvSpPr/>
          <p:nvPr/>
        </p:nvSpPr>
        <p:spPr>
          <a:xfrm>
            <a:off x="5334120" y="0"/>
            <a:ext cx="38098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Вместе с от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1942-й год вошел в историю Краснодарского края как трагический год оккупации немецко-фашистскими захватчик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На борьбу с ненавистным врагом поднималис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юные школьники, пионеры и комсомоль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" descr=""/>
          <p:cNvPicPr/>
          <p:nvPr/>
        </p:nvPicPr>
        <p:blipFill>
          <a:blip r:embed="rId3">
            <a:alphaModFix amt="0"/>
          </a:blip>
          <a:srcRect l="16662" t="13319" r="8331" b="20014"/>
          <a:stretch/>
        </p:blipFill>
        <p:spPr>
          <a:xfrm>
            <a:off x="0" y="0"/>
            <a:ext cx="5334120" cy="5867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71" name=""/>
          <p:cNvSpPr/>
          <p:nvPr/>
        </p:nvSpPr>
        <p:spPr>
          <a:xfrm>
            <a:off x="5715000" y="1295280"/>
            <a:ext cx="3124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гда началась война, Владик перешёл в 5-й клас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зорвал склад боеприпасов фашис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пас г.Анап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т голода, разминировав склад с зерном. Дошёл с войсками до Будапеш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228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Влад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Кашир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" descr=""/>
          <p:cNvPicPr/>
          <p:nvPr/>
        </p:nvPicPr>
        <p:blipFill>
          <a:blip r:embed="rId3"/>
          <a:srcRect l="20855" t="18906" r="12503" b="18906"/>
          <a:stretch/>
        </p:blipFill>
        <p:spPr>
          <a:xfrm>
            <a:off x="0" y="0"/>
            <a:ext cx="5334120" cy="5943600"/>
          </a:xfrm>
          <a:prstGeom prst="rect">
            <a:avLst/>
          </a:prstGeom>
          <a:ln w="76320">
            <a:solidFill>
              <a:srgbClr val="000000"/>
            </a:solidFill>
            <a:round/>
          </a:ln>
        </p:spPr>
      </p:pic>
      <p:sp>
        <p:nvSpPr>
          <p:cNvPr id="77" name=""/>
          <p:cNvSpPr/>
          <p:nvPr/>
        </p:nvSpPr>
        <p:spPr>
          <a:xfrm>
            <a:off x="5486400" y="2286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Т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Алёх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1752480"/>
            <a:ext cx="3505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ыл радистом в партизанском отряд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Ходил в разведку, подрывал железную дорог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бою с врагами пал смертью храбрых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-63360"/>
            <a:ext cx="9144000" cy="6921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" descr=""/>
          <p:cNvPicPr/>
          <p:nvPr/>
        </p:nvPicPr>
        <p:blipFill>
          <a:blip r:embed="rId3"/>
          <a:srcRect l="20833" t="16667" r="14166" b="18889"/>
          <a:stretch/>
        </p:blipFill>
        <p:spPr>
          <a:xfrm>
            <a:off x="0" y="0"/>
            <a:ext cx="5105520" cy="60958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83" name=""/>
          <p:cNvSpPr/>
          <p:nvPr/>
        </p:nvSpPr>
        <p:spPr>
          <a:xfrm>
            <a:off x="5410080" y="228600"/>
            <a:ext cx="358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К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Шуль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1523880"/>
            <a:ext cx="3962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гда началась война, Коле было 11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полнял задания партизан: добывал оружие, повреждал телефонные кабели, лишая фашистов связи. Даже под пытками не выдал местонахождение партиз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" descr=""/>
          <p:cNvPicPr/>
          <p:nvPr/>
        </p:nvPicPr>
        <p:blipFill>
          <a:blip r:embed="rId3"/>
          <a:srcRect l="17500" t="17780" r="14167" b="20001"/>
          <a:stretch/>
        </p:blipFill>
        <p:spPr>
          <a:xfrm>
            <a:off x="0" y="0"/>
            <a:ext cx="5105520" cy="61722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89" name=""/>
          <p:cNvSpPr/>
          <p:nvPr/>
        </p:nvSpPr>
        <p:spPr>
          <a:xfrm>
            <a:off x="5334120" y="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Вен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авлен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1447920"/>
            <a:ext cx="3504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месте с подругой Кларой Навальневой спасла лётчиков из подбитого фашистами самолёта. Девочек выследили и выдали врагам. Лётчики успели уйти. Девочек схватили и замучили на допро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" descr=""/>
          <p:cNvPicPr/>
          <p:nvPr/>
        </p:nvPicPr>
        <p:blipFill>
          <a:blip r:embed="rId3"/>
          <a:srcRect l="9168" t="6851" r="6668" b="10277"/>
          <a:stretch/>
        </p:blipFill>
        <p:spPr>
          <a:xfrm>
            <a:off x="0" y="0"/>
            <a:ext cx="4572000" cy="63244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95" name=""/>
          <p:cNvSpPr/>
          <p:nvPr/>
        </p:nvSpPr>
        <p:spPr>
          <a:xfrm>
            <a:off x="4724280" y="228600"/>
            <a:ext cx="4267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 зову сердца и Отчиз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 тревожное военное 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дети не могли прятаться по дом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двиги кубанских пионеров – пример необычайного муже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беззаветной любви к Род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юля</cp:lastModifiedBy>
  <dcterms:modified xsi:type="dcterms:W3CDTF">2010-02-04T20:08:57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