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58D-69A6-4676-949A-618072A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624-EA08-47D7-82C2-3819EBF4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1EB-7013-4035-8BD6-8EA2C534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3FF-370F-4090-84D0-69CCBF42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694-442E-40D6-9112-531A3425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436-5526-4702-97B5-438E333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7C8-33DE-4CA2-B062-485837D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D45-3317-42F1-A7AD-79639A5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994-A409-4262-A5EE-E44BC2A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813-2777-4B1F-AFA8-033822B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772-63CD-4A02-9139-22C3952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9DE-1E86-4221-9ED7-449D765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910-A3D8-4D49-9CAA-6E5F580C5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04920" y="304920"/>
            <a:ext cx="88390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«Основы православной культуры»</a:t>
            </a:r>
            <a:br>
              <a:rPr sz="2600"/>
            </a:b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Монасты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4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Прямая со стрелкой 21"/>
          <p:cNvCxnSpPr/>
          <p:nvPr/>
        </p:nvCxnSpPr>
        <p:spPr>
          <a:xfrm flipH="1">
            <a:off x="2294640" y="2243160"/>
            <a:ext cx="1234440" cy="26517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3" name="Прямая со стрелкой 24"/>
          <p:cNvCxnSpPr/>
          <p:nvPr/>
        </p:nvCxnSpPr>
        <p:spPr>
          <a:xfrm flipH="1">
            <a:off x="4055400" y="2243160"/>
            <a:ext cx="375480" cy="262764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4" name="Прямая со стрелкой 14"/>
          <p:cNvCxnSpPr/>
          <p:nvPr/>
        </p:nvCxnSpPr>
        <p:spPr>
          <a:xfrm>
            <a:off x="4571640" y="2243160"/>
            <a:ext cx="762840" cy="267408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5" name="Прямая со стрелкой 15"/>
          <p:cNvCxnSpPr/>
          <p:nvPr/>
        </p:nvCxnSpPr>
        <p:spPr>
          <a:xfrm>
            <a:off x="5716080" y="2197080"/>
            <a:ext cx="1412280" cy="27201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sp>
        <p:nvSpPr>
          <p:cNvPr id="76" name="Скругленный прямоугольник 2"/>
          <p:cNvSpPr/>
          <p:nvPr/>
        </p:nvSpPr>
        <p:spPr>
          <a:xfrm>
            <a:off x="2727360" y="685800"/>
            <a:ext cx="3406680" cy="132228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оль   монасты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93640" y="2998800"/>
            <a:ext cx="176868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8"/>
          <p:cNvSpPr/>
          <p:nvPr/>
        </p:nvSpPr>
        <p:spPr>
          <a:xfrm>
            <a:off x="2646360" y="3062160"/>
            <a:ext cx="176688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Искус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2"/>
          <p:cNvSpPr/>
          <p:nvPr/>
        </p:nvSpPr>
        <p:spPr>
          <a:xfrm>
            <a:off x="4675320" y="3062160"/>
            <a:ext cx="174780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ни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цен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5"/>
          <p:cNvCxnSpPr/>
          <p:nvPr/>
        </p:nvCxnSpPr>
        <p:spPr>
          <a:xfrm flipH="1">
            <a:off x="2160000" y="2153880"/>
            <a:ext cx="1216440" cy="7419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81" name="Прямая со стрелкой 9"/>
          <p:cNvCxnSpPr/>
          <p:nvPr/>
        </p:nvCxnSpPr>
        <p:spPr>
          <a:xfrm>
            <a:off x="5838480" y="2153880"/>
            <a:ext cx="943560" cy="7419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82" name="Прямая со стрелкой 16"/>
          <p:cNvCxnSpPr/>
          <p:nvPr/>
        </p:nvCxnSpPr>
        <p:spPr>
          <a:xfrm flipH="1">
            <a:off x="3962160" y="2197080"/>
            <a:ext cx="305280" cy="69912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sp>
        <p:nvSpPr>
          <p:cNvPr id="83" name="Скругленный прямоугольник 19"/>
          <p:cNvSpPr/>
          <p:nvPr/>
        </p:nvSpPr>
        <p:spPr>
          <a:xfrm>
            <a:off x="463680" y="5013360"/>
            <a:ext cx="2422440" cy="11016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Архитектура и строитель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0"/>
          <p:cNvSpPr/>
          <p:nvPr/>
        </p:nvSpPr>
        <p:spPr>
          <a:xfrm>
            <a:off x="3103560" y="5048280"/>
            <a:ext cx="190512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емёсла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2"/>
          <p:cNvSpPr/>
          <p:nvPr/>
        </p:nvSpPr>
        <p:spPr>
          <a:xfrm>
            <a:off x="5181480" y="5048280"/>
            <a:ext cx="175284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репость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3"/>
          <p:cNvSpPr/>
          <p:nvPr/>
        </p:nvSpPr>
        <p:spPr>
          <a:xfrm>
            <a:off x="7086600" y="5048280"/>
            <a:ext cx="167652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Торговля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2"/>
          <p:cNvSpPr/>
          <p:nvPr/>
        </p:nvSpPr>
        <p:spPr>
          <a:xfrm>
            <a:off x="6705720" y="3062160"/>
            <a:ext cx="174780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Боль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Ольга\Desktop\для интерактивной доски по ОПК\ispoved.jpg"/>
          <p:cNvPicPr/>
          <p:nvPr/>
        </p:nvPicPr>
        <p:blipFill>
          <a:blip r:embed="rId1"/>
          <a:stretch/>
        </p:blipFill>
        <p:spPr>
          <a:xfrm>
            <a:off x="4935600" y="4189320"/>
            <a:ext cx="2709720" cy="191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Ольга\Desktop\для интерактивной доски по ОПК\Pj9AnVJ3EZY.jpg"/>
          <p:cNvPicPr/>
          <p:nvPr/>
        </p:nvPicPr>
        <p:blipFill>
          <a:blip r:embed="rId2"/>
          <a:stretch/>
        </p:blipFill>
        <p:spPr>
          <a:xfrm>
            <a:off x="642960" y="1219320"/>
            <a:ext cx="2692440" cy="20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Ольга\Desktop\для интерактивной доски по ОПК\Tainstvo_miropomazanija.jpg"/>
          <p:cNvPicPr/>
          <p:nvPr/>
        </p:nvPicPr>
        <p:blipFill>
          <a:blip r:embed="rId3"/>
          <a:stretch/>
        </p:blipFill>
        <p:spPr>
          <a:xfrm>
            <a:off x="1523880" y="4116240"/>
            <a:ext cx="2651400" cy="19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Ольга\Desktop\для интерактивной доски по ОПК\54846529_prichastie1.jpg"/>
          <p:cNvPicPr/>
          <p:nvPr/>
        </p:nvPicPr>
        <p:blipFill>
          <a:blip r:embed="rId4"/>
          <a:stretch/>
        </p:blipFill>
        <p:spPr>
          <a:xfrm>
            <a:off x="3462480" y="1246320"/>
            <a:ext cx="2444760" cy="2017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6"/>
          <p:cNvSpPr/>
          <p:nvPr/>
        </p:nvSpPr>
        <p:spPr>
          <a:xfrm>
            <a:off x="1244520" y="351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Установить  соот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:\Users\Ольга\Desktop\для интерактивной доски по ОПК\причащение.png"/>
          <p:cNvPicPr/>
          <p:nvPr/>
        </p:nvPicPr>
        <p:blipFill>
          <a:blip r:embed="rId5"/>
          <a:stretch/>
        </p:blipFill>
        <p:spPr>
          <a:xfrm>
            <a:off x="3978360" y="3454560"/>
            <a:ext cx="1339920" cy="39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Ольга\Desktop\для интерактивной доски по ОПК\крещение.png"/>
          <p:cNvPicPr/>
          <p:nvPr/>
        </p:nvPicPr>
        <p:blipFill>
          <a:blip r:embed="rId6"/>
          <a:stretch/>
        </p:blipFill>
        <p:spPr>
          <a:xfrm>
            <a:off x="1398600" y="3454560"/>
            <a:ext cx="118116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Users\Ольга\Desktop\для интерактивной доски по ОПК\миропомазание.png"/>
          <p:cNvPicPr/>
          <p:nvPr/>
        </p:nvPicPr>
        <p:blipFill>
          <a:blip r:embed="rId7"/>
          <a:stretch/>
        </p:blipFill>
        <p:spPr>
          <a:xfrm>
            <a:off x="2136600" y="6248520"/>
            <a:ext cx="159084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Ольга\Desktop\для интерактивной доски по ОПК\покаяние.png"/>
          <p:cNvPicPr/>
          <p:nvPr/>
        </p:nvPicPr>
        <p:blipFill>
          <a:blip r:embed="rId8"/>
          <a:stretch/>
        </p:blipFill>
        <p:spPr>
          <a:xfrm>
            <a:off x="5721480" y="6248520"/>
            <a:ext cx="1180800" cy="352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9"/>
          <a:stretch/>
        </p:blipFill>
        <p:spPr>
          <a:xfrm>
            <a:off x="6705720" y="3322800"/>
            <a:ext cx="1962000" cy="67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Olga\Desktop\0018.jpg"/>
          <p:cNvPicPr/>
          <p:nvPr/>
        </p:nvPicPr>
        <p:blipFill>
          <a:blip r:embed="rId10"/>
          <a:stretch/>
        </p:blipFill>
        <p:spPr>
          <a:xfrm>
            <a:off x="6019920" y="1295280"/>
            <a:ext cx="2949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1371600" y="5848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устодиев Борис Миха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Ольга\Desktop\Монастырь\картинки к ОПК\0_75a6d_b7d2f8e8_XL.jpg"/>
          <p:cNvPicPr/>
          <p:nvPr/>
        </p:nvPicPr>
        <p:blipFill>
          <a:blip r:embed="rId1"/>
          <a:stretch/>
        </p:blipFill>
        <p:spPr>
          <a:xfrm>
            <a:off x="838080" y="30780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831960" y="17928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b8"/>
                </a:solidFill>
                <a:latin typeface="Arial"/>
              </a:rPr>
              <a:t>Монасты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52704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Толковый словарь 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1. Религиозная община монахов или монахинь, представляющая собой отдельную церковно-хозяйственную организацию. Мужской м. Женский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2. Территория, храм и все помещения такой об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Современный 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Т.Ф. Ефрем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1) Религиозная община монахов или монахинь, представляющая собою отдельную церковно-хозяйственную организ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2) Церковь, жилые и хозяйственные строения, территория и т.п., принадлежащие такой общ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3) Закрытое учебное заведение при монастыре для дев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957760" y="5718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елья монас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Olga\Desktop\485.jpg"/>
          <p:cNvPicPr/>
          <p:nvPr/>
        </p:nvPicPr>
        <p:blipFill>
          <a:blip r:embed="rId1"/>
          <a:stretch/>
        </p:blipFill>
        <p:spPr>
          <a:xfrm>
            <a:off x="932040" y="633240"/>
            <a:ext cx="7143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Users\Ольга\Desktop\Монастырь\картинки к ОПК\img_4169 бироб. мон..jpg"/>
          <p:cNvPicPr/>
          <p:nvPr/>
        </p:nvPicPr>
        <p:blipFill>
          <a:blip r:embed="rId1"/>
          <a:stretch/>
        </p:blipFill>
        <p:spPr>
          <a:xfrm>
            <a:off x="798480" y="531720"/>
            <a:ext cx="7926480" cy="528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98480" y="347760"/>
            <a:ext cx="7639200" cy="541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Ольга\Desktop\Монастырь\картинки к ОПК\img_4161 Наш женский монастырь.jpg"/>
          <p:cNvPicPr/>
          <p:nvPr/>
        </p:nvPicPr>
        <p:blipFill>
          <a:blip r:embed="rId3"/>
          <a:stretch/>
        </p:blipFill>
        <p:spPr>
          <a:xfrm>
            <a:off x="798480" y="320760"/>
            <a:ext cx="7940880" cy="5460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795240" y="587520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Женский монастырь во имя святителя Иннокентия,  митрополита Московского, с. Раздольное (200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5"/>
          <p:cNvSpPr/>
          <p:nvPr/>
        </p:nvSpPr>
        <p:spPr>
          <a:xfrm>
            <a:off x="1371600" y="5848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устодиев Борис Миха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Ольга\Desktop\Монастырь\картинки к ОПК\0_75a6d_b7d2f8e8_XL.jpg"/>
          <p:cNvPicPr/>
          <p:nvPr/>
        </p:nvPicPr>
        <p:blipFill>
          <a:blip r:embed="rId1"/>
          <a:stretch/>
        </p:blipFill>
        <p:spPr>
          <a:xfrm>
            <a:off x="838080" y="307800"/>
            <a:ext cx="7543800" cy="5519880"/>
          </a:xfrm>
          <a:prstGeom prst="rect">
            <a:avLst/>
          </a:prstGeom>
          <a:ln w="0">
            <a:noFill/>
          </a:ln>
        </p:spPr>
      </p:pic>
      <p:pic>
        <p:nvPicPr>
          <p:cNvPr id="65" name="110_vlk (2) к (mp3cut.net).mp3" descr=""/>
          <p:cNvPicPr/>
          <p:nvPr/>
        </p:nvPicPr>
        <p:blipFill>
          <a:blip r:embed="rId2"/>
          <a:stretch/>
        </p:blipFill>
        <p:spPr>
          <a:xfrm>
            <a:off x="8077320" y="3286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2972160" y="62881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«В монастыре» (1907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07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Ольга\Desktop\Монастырь\картинки к ОПК\0_6c94a_72452fcc_XL.jpg"/>
          <p:cNvPicPr/>
          <p:nvPr/>
        </p:nvPicPr>
        <p:blipFill>
          <a:blip r:embed="rId1"/>
          <a:stretch/>
        </p:blipFill>
        <p:spPr>
          <a:xfrm>
            <a:off x="533520" y="457200"/>
            <a:ext cx="8254800" cy="5499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116800" y="617220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оловецкий монастырь, 1420 – 1430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Ольга\Desktop\Монастырь\картинки к ОПК\12_1_original.jpg"/>
          <p:cNvPicPr/>
          <p:nvPr/>
        </p:nvPicPr>
        <p:blipFill>
          <a:blip r:embed="rId1"/>
          <a:stretch/>
        </p:blipFill>
        <p:spPr>
          <a:xfrm>
            <a:off x="990720" y="457200"/>
            <a:ext cx="7575480" cy="5348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990720" y="5865840"/>
            <a:ext cx="75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вято-Троицкая Сергиева Л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Основана в середине XIV в. Сергиев По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Ольга\Desktop\Монастырь\картинки к ОПК\18991.jpg"/>
          <p:cNvPicPr/>
          <p:nvPr/>
        </p:nvPicPr>
        <p:blipFill>
          <a:blip r:embed="rId2"/>
          <a:stretch/>
        </p:blipFill>
        <p:spPr>
          <a:xfrm>
            <a:off x="1082520" y="560520"/>
            <a:ext cx="7391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sergeant-comp</cp:lastModifiedBy>
  <dcterms:modified xsi:type="dcterms:W3CDTF">2020-04-07T03:09:36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