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170-8243-4F74-970B-04C2B2DA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2CF-56CE-4039-ADDF-7D124329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097-2AF4-437E-ABC8-D6CEC661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0CC-8C2E-4FFD-BBA0-88AFDF2A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E03-827C-487E-A2F8-BB906285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DBF-4F06-4436-AE94-6FC38368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217-8574-4E26-947C-BBB1D42D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EA2-4C7A-4E62-AE0C-07777E20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146-4CD0-4851-B27C-B1229BB7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843-E0B2-4D9B-AD56-A5A7AAC0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755-9C05-4C63-9864-6ED9D799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48A-BBEB-423C-A3D1-A8142DC8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E9B2-7D8F-4811-83D6-82C2CBFA0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304920" y="304920"/>
            <a:ext cx="883908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«Основы православной культуры»</a:t>
            </a:r>
            <a:br>
              <a:rPr sz="2600"/>
            </a:b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Монастыр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4 клас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" name="Прямая со стрелкой 21"/>
          <p:cNvCxnSpPr/>
          <p:nvPr/>
        </p:nvCxnSpPr>
        <p:spPr>
          <a:xfrm flipH="1">
            <a:off x="2294640" y="2243160"/>
            <a:ext cx="1234440" cy="265176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cxnSp>
        <p:nvCxnSpPr>
          <p:cNvPr id="73" name="Прямая со стрелкой 24"/>
          <p:cNvCxnSpPr/>
          <p:nvPr/>
        </p:nvCxnSpPr>
        <p:spPr>
          <a:xfrm flipH="1">
            <a:off x="4055400" y="2243160"/>
            <a:ext cx="375480" cy="262764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cxnSp>
        <p:nvCxnSpPr>
          <p:cNvPr id="74" name="Прямая со стрелкой 14"/>
          <p:cNvCxnSpPr/>
          <p:nvPr/>
        </p:nvCxnSpPr>
        <p:spPr>
          <a:xfrm>
            <a:off x="4571640" y="2243160"/>
            <a:ext cx="762840" cy="267408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cxnSp>
        <p:nvCxnSpPr>
          <p:cNvPr id="75" name="Прямая со стрелкой 15"/>
          <p:cNvCxnSpPr/>
          <p:nvPr/>
        </p:nvCxnSpPr>
        <p:spPr>
          <a:xfrm>
            <a:off x="5716080" y="2197080"/>
            <a:ext cx="1412280" cy="272016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sp>
        <p:nvSpPr>
          <p:cNvPr id="76" name="Скругленный прямоугольник 2"/>
          <p:cNvSpPr/>
          <p:nvPr/>
        </p:nvSpPr>
        <p:spPr>
          <a:xfrm>
            <a:off x="2727360" y="685800"/>
            <a:ext cx="3406680" cy="132228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Роль   монасты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93640" y="2998800"/>
            <a:ext cx="1768680" cy="11160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8"/>
          <p:cNvSpPr/>
          <p:nvPr/>
        </p:nvSpPr>
        <p:spPr>
          <a:xfrm>
            <a:off x="2646360" y="3062160"/>
            <a:ext cx="1766880" cy="11160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Искус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2"/>
          <p:cNvSpPr/>
          <p:nvPr/>
        </p:nvSpPr>
        <p:spPr>
          <a:xfrm>
            <a:off x="4675320" y="3062160"/>
            <a:ext cx="1747800" cy="11160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ни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цен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5"/>
          <p:cNvCxnSpPr/>
          <p:nvPr/>
        </p:nvCxnSpPr>
        <p:spPr>
          <a:xfrm flipH="1">
            <a:off x="2160000" y="2153880"/>
            <a:ext cx="1216440" cy="74196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cxnSp>
        <p:nvCxnSpPr>
          <p:cNvPr id="81" name="Прямая со стрелкой 9"/>
          <p:cNvCxnSpPr/>
          <p:nvPr/>
        </p:nvCxnSpPr>
        <p:spPr>
          <a:xfrm>
            <a:off x="5838480" y="2153880"/>
            <a:ext cx="943560" cy="74196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cxnSp>
        <p:nvCxnSpPr>
          <p:cNvPr id="82" name="Прямая со стрелкой 16"/>
          <p:cNvCxnSpPr/>
          <p:nvPr/>
        </p:nvCxnSpPr>
        <p:spPr>
          <a:xfrm flipH="1">
            <a:off x="3962160" y="2197080"/>
            <a:ext cx="305280" cy="699120"/>
          </a:xfrm>
          <a:prstGeom prst="straightConnector1">
            <a:avLst/>
          </a:prstGeom>
          <a:ln w="9360">
            <a:solidFill>
              <a:srgbClr val="397ae3"/>
            </a:solidFill>
            <a:miter/>
            <a:tailEnd len="med" type="arrow" w="med"/>
          </a:ln>
        </p:spPr>
      </p:cxnSp>
      <p:sp>
        <p:nvSpPr>
          <p:cNvPr id="83" name="Скругленный прямоугольник 19"/>
          <p:cNvSpPr/>
          <p:nvPr/>
        </p:nvSpPr>
        <p:spPr>
          <a:xfrm>
            <a:off x="463680" y="5013360"/>
            <a:ext cx="2422440" cy="11016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Архитектура и строитель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20"/>
          <p:cNvSpPr/>
          <p:nvPr/>
        </p:nvSpPr>
        <p:spPr>
          <a:xfrm>
            <a:off x="3103560" y="5048280"/>
            <a:ext cx="1905120" cy="11034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Ремёсла</a:t>
            </a:r>
            <a:r>
              <a:rPr b="0" lang="ru-RU" sz="2400" spc="-1" strike="noStrike">
                <a:solidFill>
                  <a:srgbClr val="00259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2"/>
          <p:cNvSpPr/>
          <p:nvPr/>
        </p:nvSpPr>
        <p:spPr>
          <a:xfrm>
            <a:off x="5181480" y="5048280"/>
            <a:ext cx="1752840" cy="11034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репость</a:t>
            </a:r>
            <a:r>
              <a:rPr b="0" lang="ru-RU" sz="2400" spc="-1" strike="noStrike">
                <a:solidFill>
                  <a:srgbClr val="00259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3"/>
          <p:cNvSpPr/>
          <p:nvPr/>
        </p:nvSpPr>
        <p:spPr>
          <a:xfrm>
            <a:off x="7086600" y="5048280"/>
            <a:ext cx="1676520" cy="11034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Торговля</a:t>
            </a:r>
            <a:r>
              <a:rPr b="0" lang="ru-RU" sz="2400" spc="-1" strike="noStrike">
                <a:solidFill>
                  <a:srgbClr val="00259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22"/>
          <p:cNvSpPr/>
          <p:nvPr/>
        </p:nvSpPr>
        <p:spPr>
          <a:xfrm>
            <a:off x="6705720" y="3062160"/>
            <a:ext cx="1747800" cy="1116000"/>
          </a:xfrm>
          <a:prstGeom prst="roundRect">
            <a:avLst>
              <a:gd name="adj" fmla="val 16667"/>
            </a:avLst>
          </a:prstGeom>
          <a:solidFill>
            <a:srgbClr val="eef2f7"/>
          </a:solidFill>
          <a:ln w="9360">
            <a:solidFill>
              <a:srgbClr val="bfd0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Боль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Ольга\Desktop\для интерактивной доски по ОПК\ispoved.jpg"/>
          <p:cNvPicPr/>
          <p:nvPr/>
        </p:nvPicPr>
        <p:blipFill>
          <a:blip r:embed="rId1"/>
          <a:stretch/>
        </p:blipFill>
        <p:spPr>
          <a:xfrm>
            <a:off x="4935600" y="4189320"/>
            <a:ext cx="2709720" cy="191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Ольга\Desktop\для интерактивной доски по ОПК\Pj9AnVJ3EZY.jpg"/>
          <p:cNvPicPr/>
          <p:nvPr/>
        </p:nvPicPr>
        <p:blipFill>
          <a:blip r:embed="rId2"/>
          <a:stretch/>
        </p:blipFill>
        <p:spPr>
          <a:xfrm>
            <a:off x="642960" y="1219320"/>
            <a:ext cx="2692440" cy="204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Ольга\Desktop\для интерактивной доски по ОПК\Tainstvo_miropomazanija.jpg"/>
          <p:cNvPicPr/>
          <p:nvPr/>
        </p:nvPicPr>
        <p:blipFill>
          <a:blip r:embed="rId3"/>
          <a:stretch/>
        </p:blipFill>
        <p:spPr>
          <a:xfrm>
            <a:off x="1523880" y="4116240"/>
            <a:ext cx="2651400" cy="199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Ольга\Desktop\для интерактивной доски по ОПК\54846529_prichastie1.jpg"/>
          <p:cNvPicPr/>
          <p:nvPr/>
        </p:nvPicPr>
        <p:blipFill>
          <a:blip r:embed="rId4"/>
          <a:stretch/>
        </p:blipFill>
        <p:spPr>
          <a:xfrm>
            <a:off x="3462480" y="1246320"/>
            <a:ext cx="2444760" cy="2017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6"/>
          <p:cNvSpPr/>
          <p:nvPr/>
        </p:nvSpPr>
        <p:spPr>
          <a:xfrm>
            <a:off x="1244520" y="3510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Установить  соответ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:\Users\Ольга\Desktop\для интерактивной доски по ОПК\причащение.png"/>
          <p:cNvPicPr/>
          <p:nvPr/>
        </p:nvPicPr>
        <p:blipFill>
          <a:blip r:embed="rId5"/>
          <a:stretch/>
        </p:blipFill>
        <p:spPr>
          <a:xfrm>
            <a:off x="3978360" y="3454560"/>
            <a:ext cx="1339920" cy="399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Users\Ольга\Desktop\для интерактивной доски по ОПК\крещение.png"/>
          <p:cNvPicPr/>
          <p:nvPr/>
        </p:nvPicPr>
        <p:blipFill>
          <a:blip r:embed="rId6"/>
          <a:stretch/>
        </p:blipFill>
        <p:spPr>
          <a:xfrm>
            <a:off x="1398600" y="3454560"/>
            <a:ext cx="118116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C:\Users\Ольга\Desktop\для интерактивной доски по ОПК\миропомазание.png"/>
          <p:cNvPicPr/>
          <p:nvPr/>
        </p:nvPicPr>
        <p:blipFill>
          <a:blip r:embed="rId7"/>
          <a:stretch/>
        </p:blipFill>
        <p:spPr>
          <a:xfrm>
            <a:off x="2136600" y="6248520"/>
            <a:ext cx="1590840" cy="40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Users\Ольга\Desktop\для интерактивной доски по ОПК\покаяние.png"/>
          <p:cNvPicPr/>
          <p:nvPr/>
        </p:nvPicPr>
        <p:blipFill>
          <a:blip r:embed="rId8"/>
          <a:stretch/>
        </p:blipFill>
        <p:spPr>
          <a:xfrm>
            <a:off x="5721480" y="6248520"/>
            <a:ext cx="1180800" cy="3524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" descr=""/>
          <p:cNvPicPr/>
          <p:nvPr/>
        </p:nvPicPr>
        <p:blipFill>
          <a:blip r:embed="rId9"/>
          <a:stretch/>
        </p:blipFill>
        <p:spPr>
          <a:xfrm>
            <a:off x="6705720" y="3322800"/>
            <a:ext cx="1962000" cy="67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C:\Users\Olga\Desktop\0018.jpg"/>
          <p:cNvPicPr/>
          <p:nvPr/>
        </p:nvPicPr>
        <p:blipFill>
          <a:blip r:embed="rId10"/>
          <a:stretch/>
        </p:blipFill>
        <p:spPr>
          <a:xfrm>
            <a:off x="6019920" y="1295280"/>
            <a:ext cx="29494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5"/>
          <p:cNvSpPr/>
          <p:nvPr/>
        </p:nvSpPr>
        <p:spPr>
          <a:xfrm>
            <a:off x="1371600" y="5848200"/>
            <a:ext cx="66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устодиев Борис Михайл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Ольга\Desktop\Монастырь\картинки к ОПК\0_75a6d_b7d2f8e8_XL.jpg"/>
          <p:cNvPicPr/>
          <p:nvPr/>
        </p:nvPicPr>
        <p:blipFill>
          <a:blip r:embed="rId1"/>
          <a:stretch/>
        </p:blipFill>
        <p:spPr>
          <a:xfrm>
            <a:off x="838080" y="30780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831960" y="179280"/>
            <a:ext cx="7696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b8"/>
                </a:solidFill>
                <a:latin typeface="Arial"/>
              </a:rPr>
              <a:t>Монасты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527040" y="114300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Толковый словарь С.И. Ожег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1. Религиозная община монахов или монахинь, представляющая собой отдельную церковно-хозяйственную организацию. Мужской м. Женский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2. Территория, храм и все помещения такой общ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Современный толковый словар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Т.Ф. Ефрем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1) Религиозная община монахов или монахинь, представляющая собою отдельную церковно-хозяйственную организ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2) Церковь, жилые и хозяйственные строения, территория и т.п., принадлежащие такой общ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  <a:ea typeface="Times New Roman"/>
              </a:rPr>
              <a:t>3) Закрытое учебное заведение при монастыре для дев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2957760" y="571824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елья монасты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Olga\Desktop\485.jpg"/>
          <p:cNvPicPr/>
          <p:nvPr/>
        </p:nvPicPr>
        <p:blipFill>
          <a:blip r:embed="rId1"/>
          <a:stretch/>
        </p:blipFill>
        <p:spPr>
          <a:xfrm>
            <a:off x="932040" y="633240"/>
            <a:ext cx="71434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Users\Ольга\Desktop\Монастырь\картинки к ОПК\img_4169 бироб. мон..jpg"/>
          <p:cNvPicPr/>
          <p:nvPr/>
        </p:nvPicPr>
        <p:blipFill>
          <a:blip r:embed="rId1"/>
          <a:stretch/>
        </p:blipFill>
        <p:spPr>
          <a:xfrm>
            <a:off x="798480" y="531720"/>
            <a:ext cx="7926480" cy="528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798480" y="347760"/>
            <a:ext cx="7639200" cy="541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Ольга\Desktop\Монастырь\картинки к ОПК\img_4161 Наш женский монастырь.jpg"/>
          <p:cNvPicPr/>
          <p:nvPr/>
        </p:nvPicPr>
        <p:blipFill>
          <a:blip r:embed="rId3"/>
          <a:stretch/>
        </p:blipFill>
        <p:spPr>
          <a:xfrm>
            <a:off x="798480" y="320760"/>
            <a:ext cx="7940880" cy="54608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795240" y="587520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Женский монастырь во имя святителя Иннокентия,  митрополита Московского, с. Раздольное (2007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5"/>
          <p:cNvSpPr/>
          <p:nvPr/>
        </p:nvSpPr>
        <p:spPr>
          <a:xfrm>
            <a:off x="1371600" y="5848200"/>
            <a:ext cx="66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Кустодиев Борис Михайл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Ольга\Desktop\Монастырь\картинки к ОПК\0_75a6d_b7d2f8e8_XL.jpg"/>
          <p:cNvPicPr/>
          <p:nvPr/>
        </p:nvPicPr>
        <p:blipFill>
          <a:blip r:embed="rId1"/>
          <a:stretch/>
        </p:blipFill>
        <p:spPr>
          <a:xfrm>
            <a:off x="838080" y="307800"/>
            <a:ext cx="7543800" cy="5519880"/>
          </a:xfrm>
          <a:prstGeom prst="rect">
            <a:avLst/>
          </a:prstGeom>
          <a:ln w="0">
            <a:noFill/>
          </a:ln>
        </p:spPr>
      </p:pic>
      <p:pic>
        <p:nvPicPr>
          <p:cNvPr id="65" name="110_vlk (2) к (mp3cut.net).mp3" descr=""/>
          <p:cNvPicPr/>
          <p:nvPr/>
        </p:nvPicPr>
        <p:blipFill>
          <a:blip r:embed="rId2"/>
          <a:stretch/>
        </p:blipFill>
        <p:spPr>
          <a:xfrm>
            <a:off x="8077320" y="3286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2972160" y="628812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«В монастыре» (1907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007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Ольга\Desktop\Монастырь\картинки к ОПК\0_6c94a_72452fcc_XL.jpg"/>
          <p:cNvPicPr/>
          <p:nvPr/>
        </p:nvPicPr>
        <p:blipFill>
          <a:blip r:embed="rId1"/>
          <a:stretch/>
        </p:blipFill>
        <p:spPr>
          <a:xfrm>
            <a:off x="533520" y="457200"/>
            <a:ext cx="8254800" cy="5499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2116800" y="6172200"/>
            <a:ext cx="57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Соловецкий монастырь, 1420 – 1430г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Ольга\Desktop\Монастырь\картинки к ОПК\12_1_original.jpg"/>
          <p:cNvPicPr/>
          <p:nvPr/>
        </p:nvPicPr>
        <p:blipFill>
          <a:blip r:embed="rId1"/>
          <a:stretch/>
        </p:blipFill>
        <p:spPr>
          <a:xfrm>
            <a:off x="990720" y="457200"/>
            <a:ext cx="7575480" cy="5348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990720" y="5865840"/>
            <a:ext cx="75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Свято-Троицкая Сергиева Л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Основана в середине XIV в. Сергиев Пос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Ольга\Desktop\Монастырь\картинки к ОПК\18991.jpg"/>
          <p:cNvPicPr/>
          <p:nvPr/>
        </p:nvPicPr>
        <p:blipFill>
          <a:blip r:embed="rId2"/>
          <a:stretch/>
        </p:blipFill>
        <p:spPr>
          <a:xfrm>
            <a:off x="1082520" y="560520"/>
            <a:ext cx="73915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sergeant-comp</cp:lastModifiedBy>
  <dcterms:modified xsi:type="dcterms:W3CDTF">2020-04-07T03:09:36Z</dcterms:modified>
  <cp:revision>2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