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5B2-5BDB-470A-BCBE-2A93FE96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BEA-3984-4177-971C-6398B36D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E2F-965B-4CE2-AFE6-F71F2200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E95-CF05-42D7-A7C3-9A9B5D89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9CF-A12F-4582-8B6D-B189576C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376-E1C4-432F-905A-1DBDB89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105-350B-4865-A11E-F0B44A7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E70-91A3-4A43-A53C-C5AA0E9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899-1990-4CEC-AA1A-F34F645A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0F4-3165-4A19-A57C-3BEBAC3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F17-0FA3-4CAE-8716-701CF9AB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08A-43BF-48E5-80D0-9912A7C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FE2-4A20-456B-A459-83F622F09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строительное чер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Виды: основные, местные и 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16228" t="27257" r="8513" b="5770"/>
          <a:stretch/>
        </p:blipFill>
        <p:spPr>
          <a:xfrm>
            <a:off x="1616040" y="2781360"/>
            <a:ext cx="5502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дополнительного вида, повернутого на 45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4643280" y="1989000"/>
            <a:ext cx="4038840" cy="3488040"/>
          </a:xfrm>
          <a:prstGeom prst="rect">
            <a:avLst/>
          </a:prstGeom>
          <a:ln w="0">
            <a:noFill/>
          </a:ln>
        </p:spPr>
      </p:pic>
      <p:sp>
        <p:nvSpPr>
          <p:cNvPr id="112" name="Line 8"/>
          <p:cNvSpPr/>
          <p:nvPr/>
        </p:nvSpPr>
        <p:spPr>
          <a:xfrm>
            <a:off x="5148360" y="1628640"/>
            <a:ext cx="576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6400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129760" y="42163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OST Type AU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556000" y="4285800"/>
            <a:ext cx="871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556000" y="4437000"/>
            <a:ext cx="158760" cy="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781720" y="427356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OST Type AU"/>
              </a:rPr>
              <a:t>45</a:t>
            </a:r>
            <a:r>
              <a:rPr b="0" i="1" lang="en-US" sz="2800" spc="-1" strike="noStrike">
                <a:solidFill>
                  <a:srgbClr val="000000"/>
                </a:solidFill>
                <a:latin typeface="GOST Type AU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9"/>
          <p:cNvSpPr/>
          <p:nvPr/>
        </p:nvSpPr>
        <p:spPr>
          <a:xfrm>
            <a:off x="2286000" y="5000760"/>
            <a:ext cx="1571760" cy="1285920"/>
          </a:xfrm>
          <a:custGeom>
            <a:avLst/>
            <a:gdLst/>
            <a:ahLst/>
            <a:rect l="l" t="t" r="r" b="b"/>
            <a:pathLst>
              <a:path stroke="0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  <a:lnTo>
                  <a:pt x="785813" y="642938"/>
                </a:lnTo>
                <a:lnTo>
                  <a:pt x="762901" y="273"/>
                </a:lnTo>
                <a:close/>
              </a:path>
              <a:path fill="none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 flipH="1">
            <a:off x="2369880" y="5000760"/>
            <a:ext cx="67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1"/>
          <p:cNvSpPr/>
          <p:nvPr/>
        </p:nvSpPr>
        <p:spPr>
          <a:xfrm flipH="1">
            <a:off x="2357280" y="6286680"/>
            <a:ext cx="8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22"/>
          <p:cNvSpPr/>
          <p:nvPr/>
        </p:nvSpPr>
        <p:spPr>
          <a:xfrm>
            <a:off x="2357280" y="5000760"/>
            <a:ext cx="142920" cy="1285920"/>
          </a:xfrm>
          <a:custGeom>
            <a:avLst/>
            <a:gdLst/>
            <a:ahLst/>
            <a:rect l="l" t="t" r="r" b="b"/>
            <a:pathLst>
              <a:path w="287866" h="1632857">
                <a:moveTo>
                  <a:pt x="26609" y="0"/>
                </a:moveTo>
                <a:cubicBezTo>
                  <a:pt x="114904" y="160866"/>
                  <a:pt x="203199" y="321733"/>
                  <a:pt x="200780" y="464457"/>
                </a:cubicBezTo>
                <a:cubicBezTo>
                  <a:pt x="198361" y="607181"/>
                  <a:pt x="0" y="723295"/>
                  <a:pt x="12095" y="856343"/>
                </a:cubicBezTo>
                <a:cubicBezTo>
                  <a:pt x="24190" y="989391"/>
                  <a:pt x="258838" y="1141791"/>
                  <a:pt x="273352" y="1262743"/>
                </a:cubicBezTo>
                <a:cubicBezTo>
                  <a:pt x="287866" y="1383695"/>
                  <a:pt x="128209" y="1531257"/>
                  <a:pt x="99180" y="1582057"/>
                </a:cubicBezTo>
                <a:cubicBezTo>
                  <a:pt x="70151" y="1632857"/>
                  <a:pt x="99180" y="1567543"/>
                  <a:pt x="99180" y="1567543"/>
                </a:cubicBezTo>
                <a:cubicBezTo>
                  <a:pt x="101599" y="1567543"/>
                  <a:pt x="111276" y="1565124"/>
                  <a:pt x="113695" y="1567543"/>
                </a:cubicBezTo>
                <a:cubicBezTo>
                  <a:pt x="116114" y="1569962"/>
                  <a:pt x="116114" y="1579638"/>
                  <a:pt x="113695" y="1582057"/>
                </a:cubicBezTo>
                <a:cubicBezTo>
                  <a:pt x="111276" y="1584476"/>
                  <a:pt x="99180" y="1582057"/>
                  <a:pt x="99180" y="1582057"/>
                </a:cubicBezTo>
                <a:cubicBezTo>
                  <a:pt x="101599" y="1582057"/>
                  <a:pt x="125790" y="1584476"/>
                  <a:pt x="128209" y="1582057"/>
                </a:cubicBezTo>
                <a:lnTo>
                  <a:pt x="113695" y="156754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3"/>
          <p:cNvSpPr/>
          <p:nvPr/>
        </p:nvSpPr>
        <p:spPr>
          <a:xfrm>
            <a:off x="3000240" y="5500800"/>
            <a:ext cx="285840" cy="28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4"/>
          <p:cNvSpPr/>
          <p:nvPr/>
        </p:nvSpPr>
        <p:spPr>
          <a:xfrm>
            <a:off x="1785960" y="5643720"/>
            <a:ext cx="23572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5"/>
          <p:cNvSpPr/>
          <p:nvPr/>
        </p:nvSpPr>
        <p:spPr>
          <a:xfrm flipV="1">
            <a:off x="3143160" y="4785840"/>
            <a:ext cx="0" cy="17859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5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ли выполнено видов для данной дет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линии необходимо добавить на черте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 flipH="1">
            <a:off x="1834920" y="4500720"/>
            <a:ext cx="21960" cy="12333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786120" y="135720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1785960" y="2643120"/>
            <a:ext cx="0" cy="928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невидимого контура выполняют штриховой ли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1834920" y="4643280"/>
            <a:ext cx="2196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320364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7"/>
          <p:cNvSpPr/>
          <p:nvPr/>
        </p:nvSpPr>
        <p:spPr>
          <a:xfrm flipV="1">
            <a:off x="435600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8"/>
          <p:cNvSpPr/>
          <p:nvPr/>
        </p:nvSpPr>
        <p:spPr>
          <a:xfrm flipV="1">
            <a:off x="212400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9"/>
          <p:cNvSpPr/>
          <p:nvPr/>
        </p:nvSpPr>
        <p:spPr>
          <a:xfrm flipV="1">
            <a:off x="154764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785960" y="2643120"/>
            <a:ext cx="2232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786120" y="1428840"/>
            <a:ext cx="0" cy="20714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20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профессиональных компетенций в области определения основных видов и других изображений на чертеже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оение обучающимися понятия основной вид, расположения на чертежах детали, выбор количества основных видов и других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знаний студентов в самостоятельном выборе количества видов, их рас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учный круго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внимание, повышать интерес к изучаемым предметам;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вать коммуникативными ум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s://cf.ppt-online.org/files/slide/b/bPrVXWUOa9Bmonc7HvudJDsIheS2Fj0z3T5tZN/slide-27.jpg"/>
          <p:cNvPicPr/>
          <p:nvPr/>
        </p:nvPicPr>
        <p:blipFill>
          <a:blip r:embed="rId1"/>
          <a:srcRect l="23950" t="10694" r="0" b="0"/>
          <a:stretch/>
        </p:blipFill>
        <p:spPr>
          <a:xfrm>
            <a:off x="4429080" y="1773360"/>
            <a:ext cx="4753080" cy="417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– это изображение видимой част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ЛОЖЕНИЕ ОСНОВНЫХ ВИ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видов шесть, но для изображения детали, их количество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и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ид наиболее полно отражающий конструкцию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вид"/>
          <p:cNvPicPr/>
          <p:nvPr/>
        </p:nvPicPr>
        <p:blipFill>
          <a:blip r:embed="rId1"/>
          <a:srcRect l="0" t="0" r="49671" b="39087"/>
          <a:stretch/>
        </p:blipFill>
        <p:spPr>
          <a:xfrm>
            <a:off x="0" y="1557360"/>
            <a:ext cx="5867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6720" y="1268280"/>
            <a:ext cx="3610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располагают в строго проекционн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а связь нарушается, то вид подписывается буквой русского алфавита, расположенной над стрелкой, указывающей направление взгл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1"/>
          <p:cNvPicPr/>
          <p:nvPr/>
        </p:nvPicPr>
        <p:blipFill>
          <a:blip r:embed="rId1"/>
          <a:srcRect l="34701" t="4743" r="7483" b="46021"/>
          <a:stretch/>
        </p:blipFill>
        <p:spPr>
          <a:xfrm>
            <a:off x="0" y="1557360"/>
            <a:ext cx="5076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количество видов дет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на рисунке под буквой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Б начерчен правильно в одном виде, так как зна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ят о том, что деталь имеет цилиндрическ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rcRect l="17360" t="21500" r="22901" b="59004"/>
          <a:stretch/>
        </p:blipFill>
        <p:spPr>
          <a:xfrm>
            <a:off x="395280" y="1628640"/>
            <a:ext cx="33847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"/>
          <p:cNvPicPr/>
          <p:nvPr/>
        </p:nvPicPr>
        <p:blipFill>
          <a:blip r:embed="rId2"/>
          <a:srcRect l="17360" t="21500" r="44612" b="59004"/>
          <a:stretch/>
        </p:blipFill>
        <p:spPr>
          <a:xfrm>
            <a:off x="900000" y="3357720"/>
            <a:ext cx="2233800" cy="132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40449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998160" y="3716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15135" t="1442" r="15500" b="50883"/>
          <a:stretch/>
        </p:blipFill>
        <p:spPr>
          <a:xfrm>
            <a:off x="2273400" y="1359000"/>
            <a:ext cx="5303880" cy="547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75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 какое количество видов необходимо для изображения данной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764640"/>
            <a:ext cx="840096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 вид – это изображение ограниченной части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 виды выполняют с целью экономии места на формате и экономии времени на изготовление чертежа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местный вид детали по стрелке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15573" t="0" r="17265" b="50883"/>
          <a:stretch/>
        </p:blipFill>
        <p:spPr>
          <a:xfrm>
            <a:off x="5705640" y="2214720"/>
            <a:ext cx="3438360" cy="377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rcRect l="30683" t="51831" r="6624" b="0"/>
          <a:stretch/>
        </p:blipFill>
        <p:spPr>
          <a:xfrm>
            <a:off x="1763640" y="2214720"/>
            <a:ext cx="3942000" cy="43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rcRect l="18483" t="51045" r="71752" b="44216"/>
          <a:stretch/>
        </p:blipFill>
        <p:spPr>
          <a:xfrm>
            <a:off x="714240" y="2786040"/>
            <a:ext cx="642960" cy="4287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6"/>
          <p:cNvSpPr/>
          <p:nvPr/>
        </p:nvSpPr>
        <p:spPr>
          <a:xfrm>
            <a:off x="1071720" y="3429000"/>
            <a:ext cx="4680" cy="1368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"/>
          <p:cNvSpPr/>
          <p:nvPr/>
        </p:nvSpPr>
        <p:spPr>
          <a:xfrm flipV="1">
            <a:off x="285840" y="4138200"/>
            <a:ext cx="1477800" cy="46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>
            <a:off x="785880" y="364320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785880" y="464328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V="1">
            <a:off x="57168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V="1">
            <a:off x="157176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2"/>
          <p:cNvSpPr/>
          <p:nvPr/>
        </p:nvSpPr>
        <p:spPr>
          <a:xfrm flipV="1">
            <a:off x="893880" y="4500720"/>
            <a:ext cx="3664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3"/>
          <p:cNvSpPr/>
          <p:nvPr/>
        </p:nvSpPr>
        <p:spPr>
          <a:xfrm>
            <a:off x="892080" y="378612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4"/>
          <p:cNvSpPr/>
          <p:nvPr/>
        </p:nvSpPr>
        <p:spPr>
          <a:xfrm flipV="1">
            <a:off x="1428840" y="3965400"/>
            <a:ext cx="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5"/>
          <p:cNvSpPr/>
          <p:nvPr/>
        </p:nvSpPr>
        <p:spPr>
          <a:xfrm flipH="1" flipV="1">
            <a:off x="713880" y="3965400"/>
            <a:ext cx="972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6"/>
          <p:cNvSpPr/>
          <p:nvPr/>
        </p:nvSpPr>
        <p:spPr>
          <a:xfrm>
            <a:off x="1143000" y="3643200"/>
            <a:ext cx="42876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7"/>
          <p:cNvSpPr/>
          <p:nvPr/>
        </p:nvSpPr>
        <p:spPr>
          <a:xfrm>
            <a:off x="1071720" y="3786120"/>
            <a:ext cx="357120" cy="357120"/>
          </a:xfrm>
          <a:custGeom>
            <a:avLst/>
            <a:gdLst/>
            <a:ahLst/>
            <a:rect l="l" t="t" r="r" b="b"/>
            <a:pathLst>
              <a:path stroke="0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8"/>
          <p:cNvSpPr/>
          <p:nvPr/>
        </p:nvSpPr>
        <p:spPr>
          <a:xfrm rot="16200000">
            <a:off x="571320" y="3642840"/>
            <a:ext cx="42876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9"/>
          <p:cNvSpPr/>
          <p:nvPr/>
        </p:nvSpPr>
        <p:spPr>
          <a:xfrm rot="5400000">
            <a:off x="1142640" y="4214520"/>
            <a:ext cx="42840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уга 20"/>
          <p:cNvSpPr/>
          <p:nvPr/>
        </p:nvSpPr>
        <p:spPr>
          <a:xfrm rot="10800000">
            <a:off x="571680" y="4214880"/>
            <a:ext cx="42840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21"/>
          <p:cNvSpPr/>
          <p:nvPr/>
        </p:nvSpPr>
        <p:spPr>
          <a:xfrm rot="10980600">
            <a:off x="723600" y="4152600"/>
            <a:ext cx="35712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уга 22"/>
          <p:cNvSpPr/>
          <p:nvPr/>
        </p:nvSpPr>
        <p:spPr>
          <a:xfrm rot="5219400">
            <a:off x="1072800" y="4143240"/>
            <a:ext cx="35748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23"/>
          <p:cNvSpPr/>
          <p:nvPr/>
        </p:nvSpPr>
        <p:spPr>
          <a:xfrm rot="16200000">
            <a:off x="714240" y="3785760"/>
            <a:ext cx="357120" cy="357480"/>
          </a:xfrm>
          <a:custGeom>
            <a:avLst/>
            <a:gdLst/>
            <a:ahLst/>
            <a:rect l="l" t="t" r="r" b="b"/>
            <a:pathLst>
              <a:path stroke="0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"/>
          <p:cNvSpPr/>
          <p:nvPr/>
        </p:nvSpPr>
        <p:spPr>
          <a:xfrm>
            <a:off x="723960" y="43228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8"/>
          <p:cNvSpPr/>
          <p:nvPr/>
        </p:nvSpPr>
        <p:spPr>
          <a:xfrm>
            <a:off x="1428840" y="4313160"/>
            <a:ext cx="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7168"/>
          <p:cNvCxnSpPr/>
          <p:nvPr/>
        </p:nvCxnSpPr>
        <p:spPr>
          <a:xfrm>
            <a:off x="723960" y="5000400"/>
            <a:ext cx="705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88" name="Прямая соединительная линия 7174"/>
          <p:cNvSpPr/>
          <p:nvPr/>
        </p:nvSpPr>
        <p:spPr>
          <a:xfrm>
            <a:off x="571680" y="442908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176"/>
          <p:cNvSpPr/>
          <p:nvPr/>
        </p:nvSpPr>
        <p:spPr>
          <a:xfrm>
            <a:off x="1571760" y="442908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7178"/>
          <p:cNvCxnSpPr/>
          <p:nvPr/>
        </p:nvCxnSpPr>
        <p:spPr>
          <a:xfrm>
            <a:off x="571680" y="5229000"/>
            <a:ext cx="1000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91" name="TextBox 7179"/>
          <p:cNvSpPr/>
          <p:nvPr/>
        </p:nvSpPr>
        <p:spPr>
          <a:xfrm>
            <a:off x="780840" y="491652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180"/>
          <p:cNvSpPr/>
          <p:nvPr/>
        </p:nvSpPr>
        <p:spPr>
          <a:xfrm>
            <a:off x="785160" y="467676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633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вид – это изображение части детали на наклонную  плоск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5435640" y="3017880"/>
            <a:ext cx="3581280" cy="30924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7"/>
          <p:cNvSpPr/>
          <p:nvPr/>
        </p:nvSpPr>
        <p:spPr>
          <a:xfrm flipV="1">
            <a:off x="341964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араллелограмм 8"/>
          <p:cNvSpPr/>
          <p:nvPr/>
        </p:nvSpPr>
        <p:spPr>
          <a:xfrm>
            <a:off x="2687760" y="5686560"/>
            <a:ext cx="1893600" cy="576000"/>
          </a:xfrm>
          <a:prstGeom prst="parallelogram">
            <a:avLst>
              <a:gd name="adj" fmla="val 124727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2687760" y="6262560"/>
            <a:ext cx="1233360" cy="19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4"/>
          <p:cNvSpPr/>
          <p:nvPr/>
        </p:nvSpPr>
        <p:spPr>
          <a:xfrm>
            <a:off x="4844880" y="4476600"/>
            <a:ext cx="14400" cy="12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6"/>
          <p:cNvSpPr/>
          <p:nvPr/>
        </p:nvSpPr>
        <p:spPr>
          <a:xfrm flipH="1">
            <a:off x="3924000" y="5680080"/>
            <a:ext cx="934920" cy="7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 flipV="1">
            <a:off x="457200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3419640" y="4095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1"/>
          <p:cNvSpPr/>
          <p:nvPr/>
        </p:nvSpPr>
        <p:spPr>
          <a:xfrm>
            <a:off x="4941720" y="3381480"/>
            <a:ext cx="22320" cy="84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4"/>
          <p:cNvSpPr/>
          <p:nvPr/>
        </p:nvSpPr>
        <p:spPr>
          <a:xfrm flipH="1">
            <a:off x="4844520" y="4224240"/>
            <a:ext cx="11916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уга 9215"/>
          <p:cNvSpPr/>
          <p:nvPr/>
        </p:nvSpPr>
        <p:spPr>
          <a:xfrm>
            <a:off x="3938760" y="3611520"/>
            <a:ext cx="468000" cy="182520"/>
          </a:xfrm>
          <a:custGeom>
            <a:avLst/>
            <a:gdLst/>
            <a:ahLst/>
            <a:rect l="l" t="t" r="r" b="b"/>
            <a:pathLst>
              <a:path stroke="0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  <a:lnTo>
                  <a:pt x="234156" y="91281"/>
                </a:lnTo>
                <a:lnTo>
                  <a:pt x="463630" y="109443"/>
                </a:lnTo>
                <a:close/>
              </a:path>
              <a:path fill="none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5"/>
          <p:cNvSpPr/>
          <p:nvPr/>
        </p:nvSpPr>
        <p:spPr>
          <a:xfrm flipH="1">
            <a:off x="4581360" y="3403440"/>
            <a:ext cx="33840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2"/>
          <a:stretch/>
        </p:blipFill>
        <p:spPr>
          <a:xfrm>
            <a:off x="3419640" y="3551400"/>
            <a:ext cx="309240" cy="556920"/>
          </a:xfrm>
          <a:prstGeom prst="rect">
            <a:avLst/>
          </a:prstGeom>
          <a:ln w="0">
            <a:noFill/>
          </a:ln>
        </p:spPr>
      </p:pic>
      <p:sp>
        <p:nvSpPr>
          <p:cNvPr id="108" name="Дуга 5"/>
          <p:cNvSpPr/>
          <p:nvPr/>
        </p:nvSpPr>
        <p:spPr>
          <a:xfrm>
            <a:off x="3728880" y="3284640"/>
            <a:ext cx="1355760" cy="689040"/>
          </a:xfrm>
          <a:custGeom>
            <a:avLst/>
            <a:gdLst/>
            <a:ahLst/>
            <a:rect l="l" t="t" r="r" b="b"/>
            <a:pathLst>
              <a:path stroke="0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  <a:lnTo>
                  <a:pt x="677863" y="344488"/>
                </a:lnTo>
                <a:lnTo>
                  <a:pt x="21314" y="258783"/>
                </a:lnTo>
                <a:close/>
              </a:path>
              <a:path fill="none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4:37:26Z</dcterms:created>
  <dc:creator>User</dc:creator>
  <dc:description/>
  <dc:language>en-US</dc:language>
  <cp:lastModifiedBy>SPK</cp:lastModifiedBy>
  <dcterms:modified xsi:type="dcterms:W3CDTF">2019-03-19T09:49:17Z</dcterms:modified>
  <cp:revision>49</cp:revision>
  <dc:subject/>
  <dc:title>Основные виды</dc:title>
</cp:coreProperties>
</file>