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FBE2-1BCD-4D8D-8D7D-543776111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A99F-27FF-45D2-86A3-C013BDA3B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1FF2-52F2-47AB-B6A1-BAC6918CA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057A-033E-40B0-B134-114B8F7A7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6CEC-8546-49D9-A755-E28B63393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FFD4-4A9D-44DF-BAF2-81A334DE4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0CE9-DC58-4327-ABFE-53CDCE1B8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8E59-7E6F-47E9-8D7A-6CE8F33A3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9DF6-43B8-451A-B8A0-60AF3ED8A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F7A5-E2D8-4626-A587-B38B661AB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3EE1-F84B-46E8-A222-BC74C3C2D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5544-126D-4C08-B833-4A0FF5FC8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E8CE5-87AF-4BDC-80AE-0751B10241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иностроительное чер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39640" y="1413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урока: Виды: основные, местные и дополните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rcRect l="16228" t="27257" r="8513" b="5770"/>
          <a:stretch/>
        </p:blipFill>
        <p:spPr>
          <a:xfrm>
            <a:off x="1616040" y="2781360"/>
            <a:ext cx="550224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1.3 Дополнительные ви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жение дополнительного вида, повернутого на 45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7"/>
          <p:cNvPicPr/>
          <p:nvPr/>
        </p:nvPicPr>
        <p:blipFill>
          <a:blip r:embed="rId1"/>
          <a:srcRect l="21211" t="17862" r="22044" b="31141"/>
          <a:stretch/>
        </p:blipFill>
        <p:spPr>
          <a:xfrm>
            <a:off x="4643280" y="1989000"/>
            <a:ext cx="4038840" cy="3488040"/>
          </a:xfrm>
          <a:prstGeom prst="rect">
            <a:avLst/>
          </a:prstGeom>
          <a:ln w="0">
            <a:noFill/>
          </a:ln>
        </p:spPr>
      </p:pic>
      <p:sp>
        <p:nvSpPr>
          <p:cNvPr id="112" name="Line 8"/>
          <p:cNvSpPr/>
          <p:nvPr/>
        </p:nvSpPr>
        <p:spPr>
          <a:xfrm>
            <a:off x="5148360" y="1628640"/>
            <a:ext cx="576000" cy="576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5364000" y="1557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2129760" y="4216320"/>
            <a:ext cx="81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OST Type AU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1"/>
          <p:cNvSpPr/>
          <p:nvPr/>
        </p:nvSpPr>
        <p:spPr>
          <a:xfrm flipV="1">
            <a:off x="2556000" y="4285800"/>
            <a:ext cx="87120" cy="15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2"/>
          <p:cNvSpPr/>
          <p:nvPr/>
        </p:nvSpPr>
        <p:spPr>
          <a:xfrm>
            <a:off x="2556000" y="4437000"/>
            <a:ext cx="158760" cy="63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2781720" y="4273560"/>
            <a:ext cx="72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OST Type AU"/>
              </a:rPr>
              <a:t>45</a:t>
            </a:r>
            <a:r>
              <a:rPr b="0" i="1" lang="en-US" sz="2800" spc="-1" strike="noStrike">
                <a:solidFill>
                  <a:srgbClr val="000000"/>
                </a:solidFill>
                <a:latin typeface="GOST Type AU"/>
                <a:ea typeface="Arial"/>
              </a:rPr>
              <a:t>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Дуга 19"/>
          <p:cNvSpPr/>
          <p:nvPr/>
        </p:nvSpPr>
        <p:spPr>
          <a:xfrm>
            <a:off x="2286000" y="5000760"/>
            <a:ext cx="1571760" cy="1285920"/>
          </a:xfrm>
          <a:custGeom>
            <a:avLst/>
            <a:gdLst/>
            <a:ahLst/>
            <a:rect l="l" t="t" r="r" b="b"/>
            <a:pathLst>
              <a:path stroke="0" w="1571625" h="1285875">
                <a:moveTo>
                  <a:pt x="762901" y="273"/>
                </a:moveTo>
                <a:cubicBezTo>
                  <a:pt x="1185570" y="-9814"/>
                  <a:pt x="1542212" y="255561"/>
                  <a:pt x="1569935" y="600784"/>
                </a:cubicBezTo>
                <a:cubicBezTo>
                  <a:pt x="1598527" y="956822"/>
                  <a:pt x="1267305" y="1263812"/>
                  <a:pt x="831961" y="1284766"/>
                </a:cubicBezTo>
                <a:lnTo>
                  <a:pt x="785813" y="642938"/>
                </a:lnTo>
                <a:lnTo>
                  <a:pt x="762901" y="273"/>
                </a:lnTo>
                <a:close/>
              </a:path>
              <a:path fill="none" w="1571625" h="1285875">
                <a:moveTo>
                  <a:pt x="762901" y="273"/>
                </a:moveTo>
                <a:cubicBezTo>
                  <a:pt x="1185570" y="-9814"/>
                  <a:pt x="1542212" y="255561"/>
                  <a:pt x="1569935" y="600784"/>
                </a:cubicBezTo>
                <a:cubicBezTo>
                  <a:pt x="1598527" y="956822"/>
                  <a:pt x="1267305" y="1263812"/>
                  <a:pt x="831961" y="1284766"/>
                </a:cubicBezTo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ая соединительная линия 20"/>
          <p:cNvSpPr/>
          <p:nvPr/>
        </p:nvSpPr>
        <p:spPr>
          <a:xfrm flipH="1">
            <a:off x="2369880" y="5000760"/>
            <a:ext cx="67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ая соединительная линия 21"/>
          <p:cNvSpPr/>
          <p:nvPr/>
        </p:nvSpPr>
        <p:spPr>
          <a:xfrm flipH="1">
            <a:off x="2357280" y="6286680"/>
            <a:ext cx="857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олилиния 22"/>
          <p:cNvSpPr/>
          <p:nvPr/>
        </p:nvSpPr>
        <p:spPr>
          <a:xfrm>
            <a:off x="2357280" y="5000760"/>
            <a:ext cx="142920" cy="1285920"/>
          </a:xfrm>
          <a:custGeom>
            <a:avLst/>
            <a:gdLst/>
            <a:ahLst/>
            <a:rect l="l" t="t" r="r" b="b"/>
            <a:pathLst>
              <a:path w="287866" h="1632857">
                <a:moveTo>
                  <a:pt x="26609" y="0"/>
                </a:moveTo>
                <a:cubicBezTo>
                  <a:pt x="114904" y="160866"/>
                  <a:pt x="203199" y="321733"/>
                  <a:pt x="200780" y="464457"/>
                </a:cubicBezTo>
                <a:cubicBezTo>
                  <a:pt x="198361" y="607181"/>
                  <a:pt x="0" y="723295"/>
                  <a:pt x="12095" y="856343"/>
                </a:cubicBezTo>
                <a:cubicBezTo>
                  <a:pt x="24190" y="989391"/>
                  <a:pt x="258838" y="1141791"/>
                  <a:pt x="273352" y="1262743"/>
                </a:cubicBezTo>
                <a:cubicBezTo>
                  <a:pt x="287866" y="1383695"/>
                  <a:pt x="128209" y="1531257"/>
                  <a:pt x="99180" y="1582057"/>
                </a:cubicBezTo>
                <a:cubicBezTo>
                  <a:pt x="70151" y="1632857"/>
                  <a:pt x="99180" y="1567543"/>
                  <a:pt x="99180" y="1567543"/>
                </a:cubicBezTo>
                <a:cubicBezTo>
                  <a:pt x="101599" y="1567543"/>
                  <a:pt x="111276" y="1565124"/>
                  <a:pt x="113695" y="1567543"/>
                </a:cubicBezTo>
                <a:cubicBezTo>
                  <a:pt x="116114" y="1569962"/>
                  <a:pt x="116114" y="1579638"/>
                  <a:pt x="113695" y="1582057"/>
                </a:cubicBezTo>
                <a:cubicBezTo>
                  <a:pt x="111276" y="1584476"/>
                  <a:pt x="99180" y="1582057"/>
                  <a:pt x="99180" y="1582057"/>
                </a:cubicBezTo>
                <a:cubicBezTo>
                  <a:pt x="101599" y="1582057"/>
                  <a:pt x="125790" y="1584476"/>
                  <a:pt x="128209" y="1582057"/>
                </a:cubicBezTo>
                <a:lnTo>
                  <a:pt x="113695" y="1567543"/>
                </a:lnTo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Овал 23"/>
          <p:cNvSpPr/>
          <p:nvPr/>
        </p:nvSpPr>
        <p:spPr>
          <a:xfrm>
            <a:off x="3000240" y="5500800"/>
            <a:ext cx="285840" cy="285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ая соединительная линия 24"/>
          <p:cNvSpPr/>
          <p:nvPr/>
        </p:nvSpPr>
        <p:spPr>
          <a:xfrm>
            <a:off x="1785960" y="5643720"/>
            <a:ext cx="2357280" cy="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899000" sp="201000"/>
              <a:ds d="1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ая соединительная линия 25"/>
          <p:cNvSpPr/>
          <p:nvPr/>
        </p:nvSpPr>
        <p:spPr>
          <a:xfrm flipV="1">
            <a:off x="3143160" y="4785840"/>
            <a:ext cx="0" cy="178596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899000" sp="201000"/>
              <a:ds d="1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2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Oval 15"/>
          <p:cNvSpPr/>
          <p:nvPr/>
        </p:nvSpPr>
        <p:spPr>
          <a:xfrm>
            <a:off x="2843280" y="4292640"/>
            <a:ext cx="1873080" cy="172872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12"/>
          <p:cNvSpPr/>
          <p:nvPr/>
        </p:nvSpPr>
        <p:spPr>
          <a:xfrm>
            <a:off x="3203640" y="4653000"/>
            <a:ext cx="1152360" cy="10080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ви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796000" y="1600200"/>
            <a:ext cx="289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аточно ли выполнено видов для данной детал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линии необходимо добавить на чертеж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5"/>
          <p:cNvSpPr/>
          <p:nvPr/>
        </p:nvSpPr>
        <p:spPr>
          <a:xfrm flipH="1">
            <a:off x="3779640" y="3929040"/>
            <a:ext cx="6120" cy="245268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6"/>
          <p:cNvSpPr/>
          <p:nvPr/>
        </p:nvSpPr>
        <p:spPr>
          <a:xfrm>
            <a:off x="1042920" y="4149720"/>
            <a:ext cx="3960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7"/>
          <p:cNvSpPr/>
          <p:nvPr/>
        </p:nvSpPr>
        <p:spPr>
          <a:xfrm>
            <a:off x="1042920" y="3357720"/>
            <a:ext cx="3960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8"/>
          <p:cNvSpPr/>
          <p:nvPr/>
        </p:nvSpPr>
        <p:spPr>
          <a:xfrm>
            <a:off x="1042920" y="6165720"/>
            <a:ext cx="3960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9"/>
          <p:cNvSpPr/>
          <p:nvPr/>
        </p:nvSpPr>
        <p:spPr>
          <a:xfrm>
            <a:off x="826920" y="5157720"/>
            <a:ext cx="4465800" cy="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0"/>
          <p:cNvSpPr/>
          <p:nvPr/>
        </p:nvSpPr>
        <p:spPr>
          <a:xfrm>
            <a:off x="1042920" y="4149720"/>
            <a:ext cx="0" cy="20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1"/>
          <p:cNvSpPr/>
          <p:nvPr/>
        </p:nvSpPr>
        <p:spPr>
          <a:xfrm>
            <a:off x="5003640" y="4149720"/>
            <a:ext cx="0" cy="20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6"/>
          <p:cNvSpPr/>
          <p:nvPr/>
        </p:nvSpPr>
        <p:spPr>
          <a:xfrm>
            <a:off x="2843280" y="1628640"/>
            <a:ext cx="1871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7"/>
          <p:cNvSpPr/>
          <p:nvPr/>
        </p:nvSpPr>
        <p:spPr>
          <a:xfrm flipV="1">
            <a:off x="2843280" y="1628280"/>
            <a:ext cx="0" cy="1295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8"/>
          <p:cNvSpPr/>
          <p:nvPr/>
        </p:nvSpPr>
        <p:spPr>
          <a:xfrm flipV="1">
            <a:off x="4716360" y="1628280"/>
            <a:ext cx="0" cy="1295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9"/>
          <p:cNvSpPr/>
          <p:nvPr/>
        </p:nvSpPr>
        <p:spPr>
          <a:xfrm>
            <a:off x="1042920" y="2924280"/>
            <a:ext cx="3960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0"/>
          <p:cNvSpPr/>
          <p:nvPr/>
        </p:nvSpPr>
        <p:spPr>
          <a:xfrm>
            <a:off x="1042920" y="2924280"/>
            <a:ext cx="0" cy="433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1"/>
          <p:cNvSpPr/>
          <p:nvPr/>
        </p:nvSpPr>
        <p:spPr>
          <a:xfrm>
            <a:off x="5003640" y="2924280"/>
            <a:ext cx="0" cy="433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2"/>
          <p:cNvSpPr/>
          <p:nvPr/>
        </p:nvSpPr>
        <p:spPr>
          <a:xfrm>
            <a:off x="1547640" y="4869000"/>
            <a:ext cx="57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3"/>
          <p:cNvSpPr/>
          <p:nvPr/>
        </p:nvSpPr>
        <p:spPr>
          <a:xfrm>
            <a:off x="1547640" y="5445000"/>
            <a:ext cx="57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4"/>
          <p:cNvSpPr/>
          <p:nvPr/>
        </p:nvSpPr>
        <p:spPr>
          <a:xfrm>
            <a:off x="1547640" y="4869000"/>
            <a:ext cx="0" cy="57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5"/>
          <p:cNvSpPr/>
          <p:nvPr/>
        </p:nvSpPr>
        <p:spPr>
          <a:xfrm>
            <a:off x="2124000" y="4869000"/>
            <a:ext cx="0" cy="57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6"/>
          <p:cNvSpPr/>
          <p:nvPr/>
        </p:nvSpPr>
        <p:spPr>
          <a:xfrm flipH="1">
            <a:off x="1834920" y="4500720"/>
            <a:ext cx="21960" cy="123336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5"/>
          <p:cNvSpPr/>
          <p:nvPr/>
        </p:nvSpPr>
        <p:spPr>
          <a:xfrm>
            <a:off x="3786120" y="1357200"/>
            <a:ext cx="0" cy="214308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6"/>
          <p:cNvSpPr/>
          <p:nvPr/>
        </p:nvSpPr>
        <p:spPr>
          <a:xfrm>
            <a:off x="1785960" y="2643120"/>
            <a:ext cx="0" cy="92880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ви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64000" y="1600200"/>
            <a:ext cx="332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нии невидимого контура выполняют штриховой лини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4"/>
          <p:cNvSpPr/>
          <p:nvPr/>
        </p:nvSpPr>
        <p:spPr>
          <a:xfrm>
            <a:off x="2843280" y="4292640"/>
            <a:ext cx="1873080" cy="172872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5"/>
          <p:cNvSpPr/>
          <p:nvPr/>
        </p:nvSpPr>
        <p:spPr>
          <a:xfrm>
            <a:off x="3203640" y="4653000"/>
            <a:ext cx="1152360" cy="10080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6"/>
          <p:cNvSpPr/>
          <p:nvPr/>
        </p:nvSpPr>
        <p:spPr>
          <a:xfrm flipH="1">
            <a:off x="3779640" y="3929040"/>
            <a:ext cx="6120" cy="245268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7"/>
          <p:cNvSpPr/>
          <p:nvPr/>
        </p:nvSpPr>
        <p:spPr>
          <a:xfrm>
            <a:off x="1042920" y="4149720"/>
            <a:ext cx="3960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8"/>
          <p:cNvSpPr/>
          <p:nvPr/>
        </p:nvSpPr>
        <p:spPr>
          <a:xfrm>
            <a:off x="1042920" y="3357720"/>
            <a:ext cx="3960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9"/>
          <p:cNvSpPr/>
          <p:nvPr/>
        </p:nvSpPr>
        <p:spPr>
          <a:xfrm>
            <a:off x="1042920" y="6165720"/>
            <a:ext cx="3960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0"/>
          <p:cNvSpPr/>
          <p:nvPr/>
        </p:nvSpPr>
        <p:spPr>
          <a:xfrm>
            <a:off x="826920" y="5157720"/>
            <a:ext cx="4465800" cy="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1"/>
          <p:cNvSpPr/>
          <p:nvPr/>
        </p:nvSpPr>
        <p:spPr>
          <a:xfrm>
            <a:off x="1042920" y="4149720"/>
            <a:ext cx="0" cy="20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2"/>
          <p:cNvSpPr/>
          <p:nvPr/>
        </p:nvSpPr>
        <p:spPr>
          <a:xfrm>
            <a:off x="5003640" y="4149720"/>
            <a:ext cx="0" cy="20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3"/>
          <p:cNvSpPr/>
          <p:nvPr/>
        </p:nvSpPr>
        <p:spPr>
          <a:xfrm>
            <a:off x="2843280" y="1628640"/>
            <a:ext cx="1871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4"/>
          <p:cNvSpPr/>
          <p:nvPr/>
        </p:nvSpPr>
        <p:spPr>
          <a:xfrm flipV="1">
            <a:off x="2843280" y="1628280"/>
            <a:ext cx="0" cy="1295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5"/>
          <p:cNvSpPr/>
          <p:nvPr/>
        </p:nvSpPr>
        <p:spPr>
          <a:xfrm flipV="1">
            <a:off x="4716360" y="1628280"/>
            <a:ext cx="0" cy="1295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6"/>
          <p:cNvSpPr/>
          <p:nvPr/>
        </p:nvSpPr>
        <p:spPr>
          <a:xfrm>
            <a:off x="1042920" y="2924280"/>
            <a:ext cx="3960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7"/>
          <p:cNvSpPr/>
          <p:nvPr/>
        </p:nvSpPr>
        <p:spPr>
          <a:xfrm>
            <a:off x="1042920" y="2924280"/>
            <a:ext cx="0" cy="433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8"/>
          <p:cNvSpPr/>
          <p:nvPr/>
        </p:nvSpPr>
        <p:spPr>
          <a:xfrm>
            <a:off x="5003640" y="2924280"/>
            <a:ext cx="0" cy="433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9"/>
          <p:cNvSpPr/>
          <p:nvPr/>
        </p:nvSpPr>
        <p:spPr>
          <a:xfrm>
            <a:off x="1547640" y="4869000"/>
            <a:ext cx="57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0"/>
          <p:cNvSpPr/>
          <p:nvPr/>
        </p:nvSpPr>
        <p:spPr>
          <a:xfrm>
            <a:off x="1547640" y="5445000"/>
            <a:ext cx="57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1"/>
          <p:cNvSpPr/>
          <p:nvPr/>
        </p:nvSpPr>
        <p:spPr>
          <a:xfrm>
            <a:off x="1547640" y="4869000"/>
            <a:ext cx="0" cy="57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2"/>
          <p:cNvSpPr/>
          <p:nvPr/>
        </p:nvSpPr>
        <p:spPr>
          <a:xfrm>
            <a:off x="2124000" y="4869000"/>
            <a:ext cx="0" cy="57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3"/>
          <p:cNvSpPr/>
          <p:nvPr/>
        </p:nvSpPr>
        <p:spPr>
          <a:xfrm flipH="1">
            <a:off x="1834920" y="4643280"/>
            <a:ext cx="21960" cy="109080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6"/>
          <p:cNvSpPr/>
          <p:nvPr/>
        </p:nvSpPr>
        <p:spPr>
          <a:xfrm flipV="1">
            <a:off x="3203640" y="1628280"/>
            <a:ext cx="0" cy="172908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7"/>
          <p:cNvSpPr/>
          <p:nvPr/>
        </p:nvSpPr>
        <p:spPr>
          <a:xfrm flipV="1">
            <a:off x="4356000" y="1628280"/>
            <a:ext cx="0" cy="172908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8"/>
          <p:cNvSpPr/>
          <p:nvPr/>
        </p:nvSpPr>
        <p:spPr>
          <a:xfrm flipV="1">
            <a:off x="2124000" y="2924280"/>
            <a:ext cx="0" cy="43344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9"/>
          <p:cNvSpPr/>
          <p:nvPr/>
        </p:nvSpPr>
        <p:spPr>
          <a:xfrm flipV="1">
            <a:off x="1547640" y="2924280"/>
            <a:ext cx="0" cy="43344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3"/>
          <p:cNvSpPr/>
          <p:nvPr/>
        </p:nvSpPr>
        <p:spPr>
          <a:xfrm flipH="1">
            <a:off x="1785960" y="2643120"/>
            <a:ext cx="22320" cy="109080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6"/>
          <p:cNvSpPr/>
          <p:nvPr/>
        </p:nvSpPr>
        <p:spPr>
          <a:xfrm>
            <a:off x="3786120" y="1428840"/>
            <a:ext cx="0" cy="207144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и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95280" y="620280"/>
            <a:ext cx="84247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Формирование профессиональных компетенций в области определения основных видов и других изображений на чертеже дета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ы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своение обучающимися понятия основной вид, расположения на чертежах детали, выбор количества основных видов и других изображ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ющ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ормирование знаний студентов в самостоятельном выборе количества видов, их располож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вивать логическое мышл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вивать научный кругоз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ны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спитывать внимание, повышать интерес к изучаемым предметам;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владевать коммуникативными умен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6" descr="https://cf.ppt-online.org/files/slide/b/bPrVXWUOa9Bmonc7HvudJDsIheS2Fj0z3T5tZN/slide-27.jpg"/>
          <p:cNvPicPr/>
          <p:nvPr/>
        </p:nvPicPr>
        <p:blipFill>
          <a:blip r:embed="rId1"/>
          <a:srcRect l="23950" t="10694" r="0" b="0"/>
          <a:stretch/>
        </p:blipFill>
        <p:spPr>
          <a:xfrm>
            <a:off x="4429080" y="1773360"/>
            <a:ext cx="4753080" cy="41796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68000" y="333000"/>
            <a:ext cx="8218440" cy="29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Изобра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 Ви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 – это изображение видимой части предм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.1 Основные ви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.2 Местные ви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.3 Дополнительные ви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ПОЛОЖЕНИЕ ОСНОВНЫХ ВИД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651280" y="1600200"/>
            <a:ext cx="331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х видов шесть, но для изображения детали, их количество должно быть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маль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й вид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вид наиболее полно отражающий конструкцию дета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вид"/>
          <p:cNvPicPr/>
          <p:nvPr/>
        </p:nvPicPr>
        <p:blipFill>
          <a:blip r:embed="rId1"/>
          <a:srcRect l="0" t="0" r="49671" b="39087"/>
          <a:stretch/>
        </p:blipFill>
        <p:spPr>
          <a:xfrm>
            <a:off x="0" y="1557360"/>
            <a:ext cx="586728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1.1 Основные ви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76720" y="1268280"/>
            <a:ext cx="36100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виды располагают в строго проекционной связ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эта связь нарушается, то вид подписывается буквой русского алфавита, расположенной над стрелкой, указывающей направление взгля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11"/>
          <p:cNvPicPr/>
          <p:nvPr/>
        </p:nvPicPr>
        <p:blipFill>
          <a:blip r:embed="rId1"/>
          <a:srcRect l="34701" t="4743" r="7483" b="46021"/>
          <a:stretch/>
        </p:blipFill>
        <p:spPr>
          <a:xfrm>
            <a:off x="0" y="1557360"/>
            <a:ext cx="507672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ое количество видов детал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о на рисунке под буквой 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76720" y="1600200"/>
            <a:ext cx="361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ок Б начерчен правильно в одном виде, так как знак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ворят о том, что деталь имеет цилиндрическую фор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6"/>
          <p:cNvPicPr/>
          <p:nvPr/>
        </p:nvPicPr>
        <p:blipFill>
          <a:blip r:embed="rId1"/>
          <a:srcRect l="17360" t="21500" r="22901" b="59004"/>
          <a:stretch/>
        </p:blipFill>
        <p:spPr>
          <a:xfrm>
            <a:off x="395280" y="1628640"/>
            <a:ext cx="3384720" cy="1079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6"/>
          <p:cNvPicPr/>
          <p:nvPr/>
        </p:nvPicPr>
        <p:blipFill>
          <a:blip r:embed="rId2"/>
          <a:srcRect l="17360" t="21500" r="44612" b="59004"/>
          <a:stretch/>
        </p:blipFill>
        <p:spPr>
          <a:xfrm>
            <a:off x="900000" y="3357720"/>
            <a:ext cx="2233800" cy="13237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2"/>
          <p:cNvSpPr/>
          <p:nvPr/>
        </p:nvSpPr>
        <p:spPr>
          <a:xfrm>
            <a:off x="4044960" y="2081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3998160" y="371628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"/>
          <p:cNvPicPr/>
          <p:nvPr/>
        </p:nvPicPr>
        <p:blipFill>
          <a:blip r:embed="rId1"/>
          <a:srcRect l="15135" t="1442" r="15500" b="50883"/>
          <a:stretch/>
        </p:blipFill>
        <p:spPr>
          <a:xfrm>
            <a:off x="2273400" y="1359000"/>
            <a:ext cx="5303880" cy="54766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07552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  какое количество видов необходимо для изображения данной дета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1.2 Местные ви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5840" y="764640"/>
            <a:ext cx="8400960" cy="142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ный  вид – это изображение ограниченной части дета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ные виды выполняют с целью экономии места на формате и экономии времени на изготовление чертежа дета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ить местный вид детали по стрелке 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rcRect l="15573" t="0" r="17265" b="50883"/>
          <a:stretch/>
        </p:blipFill>
        <p:spPr>
          <a:xfrm>
            <a:off x="5705640" y="2214720"/>
            <a:ext cx="3438360" cy="3778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2"/>
          <a:srcRect l="30683" t="51831" r="6624" b="0"/>
          <a:stretch/>
        </p:blipFill>
        <p:spPr>
          <a:xfrm>
            <a:off x="1763640" y="2214720"/>
            <a:ext cx="3942000" cy="4348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"/>
          <p:cNvPicPr/>
          <p:nvPr/>
        </p:nvPicPr>
        <p:blipFill>
          <a:blip r:embed="rId3"/>
          <a:srcRect l="18483" t="51045" r="71752" b="44216"/>
          <a:stretch/>
        </p:blipFill>
        <p:spPr>
          <a:xfrm>
            <a:off x="714240" y="2786040"/>
            <a:ext cx="642960" cy="428760"/>
          </a:xfrm>
          <a:prstGeom prst="rect">
            <a:avLst/>
          </a:prstGeom>
          <a:ln w="0">
            <a:noFill/>
          </a:ln>
        </p:spPr>
      </p:pic>
      <p:sp>
        <p:nvSpPr>
          <p:cNvPr id="67" name="Прямая соединительная линия 6"/>
          <p:cNvSpPr/>
          <p:nvPr/>
        </p:nvSpPr>
        <p:spPr>
          <a:xfrm>
            <a:off x="1071720" y="3429000"/>
            <a:ext cx="4680" cy="1368360"/>
          </a:xfrm>
          <a:prstGeom prst="line">
            <a:avLst/>
          </a:prstGeom>
          <a:ln cap="rnd" w="22320">
            <a:solidFill>
              <a:srgbClr val="000000"/>
            </a:solidFill>
            <a:custDash>
              <a:ds d="899000" sp="201000"/>
              <a:ds d="1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ая соединительная линия 7"/>
          <p:cNvSpPr/>
          <p:nvPr/>
        </p:nvSpPr>
        <p:spPr>
          <a:xfrm flipV="1">
            <a:off x="285840" y="4138200"/>
            <a:ext cx="1477800" cy="4680"/>
          </a:xfrm>
          <a:prstGeom prst="line">
            <a:avLst/>
          </a:prstGeom>
          <a:ln cap="rnd" w="22320">
            <a:solidFill>
              <a:srgbClr val="000000"/>
            </a:solidFill>
            <a:custDash>
              <a:ds d="899000" sp="201000"/>
              <a:ds d="1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ая соединительная линия 8"/>
          <p:cNvSpPr/>
          <p:nvPr/>
        </p:nvSpPr>
        <p:spPr>
          <a:xfrm>
            <a:off x="785880" y="3643200"/>
            <a:ext cx="571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ая соединительная линия 9"/>
          <p:cNvSpPr/>
          <p:nvPr/>
        </p:nvSpPr>
        <p:spPr>
          <a:xfrm>
            <a:off x="785880" y="4643280"/>
            <a:ext cx="571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ая соединительная линия 10"/>
          <p:cNvSpPr/>
          <p:nvPr/>
        </p:nvSpPr>
        <p:spPr>
          <a:xfrm flipV="1">
            <a:off x="571680" y="3857400"/>
            <a:ext cx="0" cy="571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ая соединительная линия 11"/>
          <p:cNvSpPr/>
          <p:nvPr/>
        </p:nvSpPr>
        <p:spPr>
          <a:xfrm flipV="1">
            <a:off x="1571760" y="3857400"/>
            <a:ext cx="0" cy="571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ая соединительная линия 12"/>
          <p:cNvSpPr/>
          <p:nvPr/>
        </p:nvSpPr>
        <p:spPr>
          <a:xfrm flipV="1">
            <a:off x="893880" y="4500720"/>
            <a:ext cx="366480" cy="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ая соединительная линия 13"/>
          <p:cNvSpPr/>
          <p:nvPr/>
        </p:nvSpPr>
        <p:spPr>
          <a:xfrm>
            <a:off x="892080" y="3786120"/>
            <a:ext cx="357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ая соединительная линия 14"/>
          <p:cNvSpPr/>
          <p:nvPr/>
        </p:nvSpPr>
        <p:spPr>
          <a:xfrm flipV="1">
            <a:off x="1428840" y="3965400"/>
            <a:ext cx="0" cy="347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ая соединительная линия 15"/>
          <p:cNvSpPr/>
          <p:nvPr/>
        </p:nvSpPr>
        <p:spPr>
          <a:xfrm flipH="1" flipV="1">
            <a:off x="713880" y="3965400"/>
            <a:ext cx="9720" cy="355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Дуга 16"/>
          <p:cNvSpPr/>
          <p:nvPr/>
        </p:nvSpPr>
        <p:spPr>
          <a:xfrm>
            <a:off x="1143000" y="3643200"/>
            <a:ext cx="428760" cy="428760"/>
          </a:xfrm>
          <a:custGeom>
            <a:avLst/>
            <a:gdLst/>
            <a:ahLst/>
            <a:rect l="l" t="t" r="r" b="b"/>
            <a:pathLst>
              <a:path stroke="0" w="428625" h="428625">
                <a:moveTo>
                  <a:pt x="214312" y="0"/>
                </a:moveTo>
                <a:cubicBezTo>
                  <a:pt x="332674" y="0"/>
                  <a:pt x="428625" y="95951"/>
                  <a:pt x="428625" y="214313"/>
                </a:cubicBezTo>
                <a:lnTo>
                  <a:pt x="214313" y="214313"/>
                </a:lnTo>
                <a:cubicBezTo>
                  <a:pt x="214313" y="142875"/>
                  <a:pt x="214312" y="71438"/>
                  <a:pt x="214312" y="0"/>
                </a:cubicBezTo>
                <a:close/>
              </a:path>
              <a:path fill="none" w="428625" h="428625">
                <a:moveTo>
                  <a:pt x="214312" y="0"/>
                </a:moveTo>
                <a:cubicBezTo>
                  <a:pt x="332674" y="0"/>
                  <a:pt x="428625" y="95951"/>
                  <a:pt x="428625" y="214313"/>
                </a:cubicBezTo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Дуга 17"/>
          <p:cNvSpPr/>
          <p:nvPr/>
        </p:nvSpPr>
        <p:spPr>
          <a:xfrm>
            <a:off x="1071720" y="3786120"/>
            <a:ext cx="357120" cy="357120"/>
          </a:xfrm>
          <a:custGeom>
            <a:avLst/>
            <a:gdLst/>
            <a:ahLst/>
            <a:rect l="l" t="t" r="r" b="b"/>
            <a:pathLst>
              <a:path stroke="0" w="357187" h="357187">
                <a:moveTo>
                  <a:pt x="178593" y="0"/>
                </a:moveTo>
                <a:cubicBezTo>
                  <a:pt x="277228" y="0"/>
                  <a:pt x="357187" y="79959"/>
                  <a:pt x="357187" y="178594"/>
                </a:cubicBezTo>
                <a:lnTo>
                  <a:pt x="178594" y="178594"/>
                </a:lnTo>
                <a:cubicBezTo>
                  <a:pt x="178594" y="119063"/>
                  <a:pt x="178593" y="59531"/>
                  <a:pt x="178593" y="0"/>
                </a:cubicBezTo>
                <a:close/>
              </a:path>
              <a:path fill="none" w="357187" h="357187">
                <a:moveTo>
                  <a:pt x="178593" y="0"/>
                </a:moveTo>
                <a:cubicBezTo>
                  <a:pt x="277228" y="0"/>
                  <a:pt x="357187" y="79959"/>
                  <a:pt x="357187" y="178594"/>
                </a:cubicBezTo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Дуга 18"/>
          <p:cNvSpPr/>
          <p:nvPr/>
        </p:nvSpPr>
        <p:spPr>
          <a:xfrm rot="16200000">
            <a:off x="571320" y="3642840"/>
            <a:ext cx="428760" cy="428400"/>
          </a:xfrm>
          <a:custGeom>
            <a:avLst/>
            <a:gdLst/>
            <a:ahLst/>
            <a:rect l="l" t="t" r="r" b="b"/>
            <a:pathLst>
              <a:path stroke="0" w="428625" h="428625">
                <a:moveTo>
                  <a:pt x="214312" y="0"/>
                </a:moveTo>
                <a:cubicBezTo>
                  <a:pt x="332674" y="0"/>
                  <a:pt x="428625" y="95951"/>
                  <a:pt x="428625" y="214313"/>
                </a:cubicBezTo>
                <a:lnTo>
                  <a:pt x="214313" y="214313"/>
                </a:lnTo>
                <a:cubicBezTo>
                  <a:pt x="214313" y="142875"/>
                  <a:pt x="214312" y="71438"/>
                  <a:pt x="214312" y="0"/>
                </a:cubicBezTo>
                <a:close/>
              </a:path>
              <a:path fill="none" w="428625" h="428625">
                <a:moveTo>
                  <a:pt x="214312" y="0"/>
                </a:moveTo>
                <a:cubicBezTo>
                  <a:pt x="332674" y="0"/>
                  <a:pt x="428625" y="95951"/>
                  <a:pt x="428625" y="214313"/>
                </a:cubicBezTo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Дуга 19"/>
          <p:cNvSpPr/>
          <p:nvPr/>
        </p:nvSpPr>
        <p:spPr>
          <a:xfrm rot="5400000">
            <a:off x="1142640" y="4214520"/>
            <a:ext cx="428400" cy="428760"/>
          </a:xfrm>
          <a:custGeom>
            <a:avLst/>
            <a:gdLst/>
            <a:ahLst/>
            <a:rect l="l" t="t" r="r" b="b"/>
            <a:pathLst>
              <a:path stroke="0" w="428625" h="428625">
                <a:moveTo>
                  <a:pt x="214312" y="0"/>
                </a:moveTo>
                <a:cubicBezTo>
                  <a:pt x="332674" y="0"/>
                  <a:pt x="428625" y="95951"/>
                  <a:pt x="428625" y="214313"/>
                </a:cubicBezTo>
                <a:lnTo>
                  <a:pt x="214313" y="214313"/>
                </a:lnTo>
                <a:cubicBezTo>
                  <a:pt x="214313" y="142875"/>
                  <a:pt x="214312" y="71438"/>
                  <a:pt x="214312" y="0"/>
                </a:cubicBezTo>
                <a:close/>
              </a:path>
              <a:path fill="none" w="428625" h="428625">
                <a:moveTo>
                  <a:pt x="214312" y="0"/>
                </a:moveTo>
                <a:cubicBezTo>
                  <a:pt x="332674" y="0"/>
                  <a:pt x="428625" y="95951"/>
                  <a:pt x="428625" y="214313"/>
                </a:cubicBezTo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Дуга 20"/>
          <p:cNvSpPr/>
          <p:nvPr/>
        </p:nvSpPr>
        <p:spPr>
          <a:xfrm rot="10800000">
            <a:off x="571680" y="4214880"/>
            <a:ext cx="428400" cy="428400"/>
          </a:xfrm>
          <a:custGeom>
            <a:avLst/>
            <a:gdLst/>
            <a:ahLst/>
            <a:rect l="l" t="t" r="r" b="b"/>
            <a:pathLst>
              <a:path stroke="0" w="428625" h="428625">
                <a:moveTo>
                  <a:pt x="214312" y="0"/>
                </a:moveTo>
                <a:cubicBezTo>
                  <a:pt x="332674" y="0"/>
                  <a:pt x="428625" y="95951"/>
                  <a:pt x="428625" y="214313"/>
                </a:cubicBezTo>
                <a:lnTo>
                  <a:pt x="214313" y="214313"/>
                </a:lnTo>
                <a:cubicBezTo>
                  <a:pt x="214313" y="142875"/>
                  <a:pt x="214312" y="71438"/>
                  <a:pt x="214312" y="0"/>
                </a:cubicBezTo>
                <a:close/>
              </a:path>
              <a:path fill="none" w="428625" h="428625">
                <a:moveTo>
                  <a:pt x="214312" y="0"/>
                </a:moveTo>
                <a:cubicBezTo>
                  <a:pt x="332674" y="0"/>
                  <a:pt x="428625" y="95951"/>
                  <a:pt x="428625" y="214313"/>
                </a:cubicBezTo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Дуга 21"/>
          <p:cNvSpPr/>
          <p:nvPr/>
        </p:nvSpPr>
        <p:spPr>
          <a:xfrm rot="10980600">
            <a:off x="723600" y="4152600"/>
            <a:ext cx="357120" cy="357120"/>
          </a:xfrm>
          <a:custGeom>
            <a:avLst/>
            <a:gdLst/>
            <a:ahLst/>
            <a:rect l="l" t="t" r="r" b="b"/>
            <a:pathLst>
              <a:path stroke="0" w="357188" h="357188">
                <a:moveTo>
                  <a:pt x="178594" y="0"/>
                </a:moveTo>
                <a:cubicBezTo>
                  <a:pt x="277229" y="0"/>
                  <a:pt x="357188" y="79959"/>
                  <a:pt x="357188" y="178594"/>
                </a:cubicBezTo>
                <a:lnTo>
                  <a:pt x="178594" y="178594"/>
                </a:lnTo>
                <a:lnTo>
                  <a:pt x="178594" y="0"/>
                </a:lnTo>
                <a:close/>
              </a:path>
              <a:path fill="none" w="357188" h="357188">
                <a:moveTo>
                  <a:pt x="178594" y="0"/>
                </a:moveTo>
                <a:cubicBezTo>
                  <a:pt x="277229" y="0"/>
                  <a:pt x="357188" y="79959"/>
                  <a:pt x="357188" y="178594"/>
                </a:cubicBezTo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Дуга 22"/>
          <p:cNvSpPr/>
          <p:nvPr/>
        </p:nvSpPr>
        <p:spPr>
          <a:xfrm rot="5219400">
            <a:off x="1072800" y="4143240"/>
            <a:ext cx="357480" cy="357120"/>
          </a:xfrm>
          <a:custGeom>
            <a:avLst/>
            <a:gdLst/>
            <a:ahLst/>
            <a:rect l="l" t="t" r="r" b="b"/>
            <a:pathLst>
              <a:path stroke="0" w="357188" h="357188">
                <a:moveTo>
                  <a:pt x="178594" y="0"/>
                </a:moveTo>
                <a:cubicBezTo>
                  <a:pt x="277229" y="0"/>
                  <a:pt x="357188" y="79959"/>
                  <a:pt x="357188" y="178594"/>
                </a:cubicBezTo>
                <a:lnTo>
                  <a:pt x="178594" y="178594"/>
                </a:lnTo>
                <a:lnTo>
                  <a:pt x="178594" y="0"/>
                </a:lnTo>
                <a:close/>
              </a:path>
              <a:path fill="none" w="357188" h="357188">
                <a:moveTo>
                  <a:pt x="178594" y="0"/>
                </a:moveTo>
                <a:cubicBezTo>
                  <a:pt x="277229" y="0"/>
                  <a:pt x="357188" y="79959"/>
                  <a:pt x="357188" y="178594"/>
                </a:cubicBezTo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Дуга 23"/>
          <p:cNvSpPr/>
          <p:nvPr/>
        </p:nvSpPr>
        <p:spPr>
          <a:xfrm rot="16200000">
            <a:off x="714240" y="3785760"/>
            <a:ext cx="357120" cy="357480"/>
          </a:xfrm>
          <a:custGeom>
            <a:avLst/>
            <a:gdLst/>
            <a:ahLst/>
            <a:rect l="l" t="t" r="r" b="b"/>
            <a:pathLst>
              <a:path stroke="0" w="357187" h="357188">
                <a:moveTo>
                  <a:pt x="178593" y="0"/>
                </a:moveTo>
                <a:cubicBezTo>
                  <a:pt x="277228" y="0"/>
                  <a:pt x="357187" y="79959"/>
                  <a:pt x="357187" y="178594"/>
                </a:cubicBezTo>
                <a:lnTo>
                  <a:pt x="178594" y="178594"/>
                </a:lnTo>
                <a:cubicBezTo>
                  <a:pt x="178594" y="119063"/>
                  <a:pt x="178593" y="59531"/>
                  <a:pt x="178593" y="0"/>
                </a:cubicBezTo>
                <a:close/>
              </a:path>
              <a:path fill="none" w="357187" h="357188">
                <a:moveTo>
                  <a:pt x="178593" y="0"/>
                </a:moveTo>
                <a:cubicBezTo>
                  <a:pt x="277228" y="0"/>
                  <a:pt x="357187" y="79959"/>
                  <a:pt x="357187" y="178594"/>
                </a:cubicBezTo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ая соединительная линия 2"/>
          <p:cNvSpPr/>
          <p:nvPr/>
        </p:nvSpPr>
        <p:spPr>
          <a:xfrm>
            <a:off x="723960" y="4322880"/>
            <a:ext cx="0" cy="67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ая соединительная линия 28"/>
          <p:cNvSpPr/>
          <p:nvPr/>
        </p:nvSpPr>
        <p:spPr>
          <a:xfrm>
            <a:off x="1428840" y="4313160"/>
            <a:ext cx="0" cy="68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Прямая со стрелкой 7168"/>
          <p:cNvCxnSpPr/>
          <p:nvPr/>
        </p:nvCxnSpPr>
        <p:spPr>
          <a:xfrm>
            <a:off x="723960" y="5000400"/>
            <a:ext cx="70524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</p:cxnSp>
      <p:sp>
        <p:nvSpPr>
          <p:cNvPr id="88" name="Прямая соединительная линия 7174"/>
          <p:cNvSpPr/>
          <p:nvPr/>
        </p:nvSpPr>
        <p:spPr>
          <a:xfrm>
            <a:off x="571680" y="4429080"/>
            <a:ext cx="0" cy="87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ая соединительная линия 7176"/>
          <p:cNvSpPr/>
          <p:nvPr/>
        </p:nvSpPr>
        <p:spPr>
          <a:xfrm>
            <a:off x="1571760" y="4429080"/>
            <a:ext cx="0" cy="89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Прямая со стрелкой 7178"/>
          <p:cNvCxnSpPr/>
          <p:nvPr/>
        </p:nvCxnSpPr>
        <p:spPr>
          <a:xfrm>
            <a:off x="571680" y="5229000"/>
            <a:ext cx="100080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</p:cxnSp>
      <p:sp>
        <p:nvSpPr>
          <p:cNvPr id="91" name="TextBox 7179"/>
          <p:cNvSpPr/>
          <p:nvPr/>
        </p:nvSpPr>
        <p:spPr>
          <a:xfrm>
            <a:off x="780840" y="4916520"/>
            <a:ext cx="5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□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7180"/>
          <p:cNvSpPr/>
          <p:nvPr/>
        </p:nvSpPr>
        <p:spPr>
          <a:xfrm>
            <a:off x="785160" y="4676760"/>
            <a:ext cx="55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□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1.3 Дополнительные ви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980640"/>
            <a:ext cx="633744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ый вид – это изображение части детали на наклонную  плоскос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7"/>
          <p:cNvPicPr/>
          <p:nvPr/>
        </p:nvPicPr>
        <p:blipFill>
          <a:blip r:embed="rId1"/>
          <a:srcRect l="21211" t="17862" r="22044" b="31141"/>
          <a:stretch/>
        </p:blipFill>
        <p:spPr>
          <a:xfrm>
            <a:off x="5435640" y="3017880"/>
            <a:ext cx="3581280" cy="3092400"/>
          </a:xfrm>
          <a:prstGeom prst="rect">
            <a:avLst/>
          </a:prstGeom>
          <a:ln w="0">
            <a:noFill/>
          </a:ln>
        </p:spPr>
      </p:pic>
      <p:sp>
        <p:nvSpPr>
          <p:cNvPr id="96" name="Прямая соединительная линия 7"/>
          <p:cNvSpPr/>
          <p:nvPr/>
        </p:nvSpPr>
        <p:spPr>
          <a:xfrm flipV="1">
            <a:off x="3419640" y="4095360"/>
            <a:ext cx="0" cy="158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араллелограмм 8"/>
          <p:cNvSpPr/>
          <p:nvPr/>
        </p:nvSpPr>
        <p:spPr>
          <a:xfrm>
            <a:off x="2687760" y="5686560"/>
            <a:ext cx="1893600" cy="576000"/>
          </a:xfrm>
          <a:prstGeom prst="parallelogram">
            <a:avLst>
              <a:gd name="adj" fmla="val 124727"/>
            </a:avLst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11"/>
          <p:cNvSpPr/>
          <p:nvPr/>
        </p:nvSpPr>
        <p:spPr>
          <a:xfrm>
            <a:off x="2687760" y="6262560"/>
            <a:ext cx="1233360" cy="196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ая соединительная линия 14"/>
          <p:cNvSpPr/>
          <p:nvPr/>
        </p:nvSpPr>
        <p:spPr>
          <a:xfrm>
            <a:off x="4844880" y="4476600"/>
            <a:ext cx="14400" cy="1203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ая соединительная линия 16"/>
          <p:cNvSpPr/>
          <p:nvPr/>
        </p:nvSpPr>
        <p:spPr>
          <a:xfrm flipH="1">
            <a:off x="3924000" y="5680080"/>
            <a:ext cx="934920" cy="779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ая соединительная линия 20"/>
          <p:cNvSpPr/>
          <p:nvPr/>
        </p:nvSpPr>
        <p:spPr>
          <a:xfrm flipV="1">
            <a:off x="4572000" y="4095360"/>
            <a:ext cx="0" cy="158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ая соединительная линия 18"/>
          <p:cNvSpPr/>
          <p:nvPr/>
        </p:nvSpPr>
        <p:spPr>
          <a:xfrm>
            <a:off x="3419640" y="4095720"/>
            <a:ext cx="115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21"/>
          <p:cNvSpPr/>
          <p:nvPr/>
        </p:nvSpPr>
        <p:spPr>
          <a:xfrm>
            <a:off x="4941720" y="3381480"/>
            <a:ext cx="22320" cy="842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ая соединительная линия 24"/>
          <p:cNvSpPr/>
          <p:nvPr/>
        </p:nvSpPr>
        <p:spPr>
          <a:xfrm flipH="1">
            <a:off x="4844520" y="4224240"/>
            <a:ext cx="119160" cy="25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Дуга 9215"/>
          <p:cNvSpPr/>
          <p:nvPr/>
        </p:nvSpPr>
        <p:spPr>
          <a:xfrm>
            <a:off x="3938760" y="3611520"/>
            <a:ext cx="468000" cy="182520"/>
          </a:xfrm>
          <a:custGeom>
            <a:avLst/>
            <a:gdLst/>
            <a:ahLst/>
            <a:rect l="l" t="t" r="r" b="b"/>
            <a:pathLst>
              <a:path stroke="0" w="468312" h="182562">
                <a:moveTo>
                  <a:pt x="463630" y="109443"/>
                </a:moveTo>
                <a:cubicBezTo>
                  <a:pt x="441067" y="152766"/>
                  <a:pt x="342113" y="183559"/>
                  <a:pt x="228744" y="182537"/>
                </a:cubicBezTo>
                <a:cubicBezTo>
                  <a:pt x="92278" y="181307"/>
                  <a:pt x="-12571" y="135017"/>
                  <a:pt x="1194" y="82076"/>
                </a:cubicBezTo>
                <a:cubicBezTo>
                  <a:pt x="13382" y="35198"/>
                  <a:pt x="115095" y="-360"/>
                  <a:pt x="235959" y="3"/>
                </a:cubicBezTo>
                <a:cubicBezTo>
                  <a:pt x="364573" y="389"/>
                  <a:pt x="468312" y="41142"/>
                  <a:pt x="468312" y="91281"/>
                </a:cubicBezTo>
                <a:lnTo>
                  <a:pt x="234156" y="91281"/>
                </a:lnTo>
                <a:lnTo>
                  <a:pt x="463630" y="109443"/>
                </a:lnTo>
                <a:close/>
              </a:path>
              <a:path fill="none" w="468312" h="182562">
                <a:moveTo>
                  <a:pt x="463630" y="109443"/>
                </a:moveTo>
                <a:cubicBezTo>
                  <a:pt x="441067" y="152766"/>
                  <a:pt x="342113" y="183559"/>
                  <a:pt x="228744" y="182537"/>
                </a:cubicBezTo>
                <a:cubicBezTo>
                  <a:pt x="92278" y="181307"/>
                  <a:pt x="-12571" y="135017"/>
                  <a:pt x="1194" y="82076"/>
                </a:cubicBezTo>
                <a:cubicBezTo>
                  <a:pt x="13382" y="35198"/>
                  <a:pt x="115095" y="-360"/>
                  <a:pt x="235959" y="3"/>
                </a:cubicBezTo>
                <a:cubicBezTo>
                  <a:pt x="364573" y="389"/>
                  <a:pt x="468312" y="41142"/>
                  <a:pt x="468312" y="91281"/>
                </a:cubicBezTo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35"/>
          <p:cNvSpPr/>
          <p:nvPr/>
        </p:nvSpPr>
        <p:spPr>
          <a:xfrm flipH="1">
            <a:off x="4581360" y="3403440"/>
            <a:ext cx="338400" cy="704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6" descr=""/>
          <p:cNvPicPr/>
          <p:nvPr/>
        </p:nvPicPr>
        <p:blipFill>
          <a:blip r:embed="rId2"/>
          <a:stretch/>
        </p:blipFill>
        <p:spPr>
          <a:xfrm>
            <a:off x="3419640" y="3551400"/>
            <a:ext cx="309240" cy="556920"/>
          </a:xfrm>
          <a:prstGeom prst="rect">
            <a:avLst/>
          </a:prstGeom>
          <a:ln w="0">
            <a:noFill/>
          </a:ln>
        </p:spPr>
      </p:pic>
      <p:sp>
        <p:nvSpPr>
          <p:cNvPr id="108" name="Дуга 5"/>
          <p:cNvSpPr/>
          <p:nvPr/>
        </p:nvSpPr>
        <p:spPr>
          <a:xfrm>
            <a:off x="3728880" y="3284640"/>
            <a:ext cx="1355760" cy="689040"/>
          </a:xfrm>
          <a:custGeom>
            <a:avLst/>
            <a:gdLst/>
            <a:ahLst/>
            <a:rect l="l" t="t" r="r" b="b"/>
            <a:pathLst>
              <a:path stroke="0" w="1355725" h="688975">
                <a:moveTo>
                  <a:pt x="21314" y="258783"/>
                </a:moveTo>
                <a:cubicBezTo>
                  <a:pt x="93773" y="115427"/>
                  <a:pt x="338323" y="11615"/>
                  <a:pt x="628805" y="903"/>
                </a:cubicBezTo>
                <a:cubicBezTo>
                  <a:pt x="842500" y="-6977"/>
                  <a:pt x="1050946" y="36949"/>
                  <a:pt x="1190961" y="119367"/>
                </a:cubicBezTo>
                <a:lnTo>
                  <a:pt x="677863" y="344488"/>
                </a:lnTo>
                <a:lnTo>
                  <a:pt x="21314" y="258783"/>
                </a:lnTo>
                <a:close/>
              </a:path>
              <a:path fill="none" w="1355725" h="688975">
                <a:moveTo>
                  <a:pt x="21314" y="258783"/>
                </a:moveTo>
                <a:cubicBezTo>
                  <a:pt x="93773" y="115427"/>
                  <a:pt x="338323" y="11615"/>
                  <a:pt x="628805" y="903"/>
                </a:cubicBezTo>
                <a:cubicBezTo>
                  <a:pt x="842500" y="-6977"/>
                  <a:pt x="1050946" y="36949"/>
                  <a:pt x="1190961" y="119367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5T04:37:26Z</dcterms:created>
  <dc:creator>User</dc:creator>
  <dc:description/>
  <dc:language>en-US</dc:language>
  <cp:lastModifiedBy>SPK</cp:lastModifiedBy>
  <dcterms:modified xsi:type="dcterms:W3CDTF">2019-03-19T09:49:17Z</dcterms:modified>
  <cp:revision>49</cp:revision>
  <dc:subject/>
  <dc:title>Основные виды</dc:title>
</cp:coreProperties>
</file>