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17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6.jpeg" ContentType="image/jpeg"/>
  <Override PartName="/ppt/media/image27.png" ContentType="image/png"/>
  <Override PartName="/ppt/media/image30.wmf" ContentType="image/x-wmf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29.wmf" ContentType="image/x-wmf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2113" cy="9010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BB7-FF58-4DA6-B2D3-EEABF31E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A15-1C5F-43AE-B0F5-1F460E35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6AB-25C5-4C99-8C4A-76A673C2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CE4-12A0-4946-A066-E961C80D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99E8-5F41-4CC7-8ADC-93771AE1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560C-69F1-42E0-9B75-AF5528F6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8EE8-F6CD-4E90-88A8-7E4D7376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A5C0-9773-4F0E-85F6-2A8F8A93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D239-A692-4513-A8CA-E58D0D21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871E-95A7-4F7C-870A-92679E71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30EB-4E8F-42EB-8D7B-17178B46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A3B-DEFB-4302-9049-E2C4698A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A675-FE85-418E-91DC-41ED5F2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6D79-D873-4149-B1F2-A5E65A08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5729-F0BF-4470-9440-B6DBE744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A1CF-E68A-44C8-BC2F-FAF13216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3D30-B18A-4F7A-8A0C-CAE12EE6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3B6-68BD-4C5A-AB5F-B4AEABD9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10C-8ACB-42A3-BBFC-31055C18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B49-7A70-43D1-BCB8-52D8280A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BAB-642C-4736-A645-F30E3D09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4B2-C95D-450F-AA22-FB3C4B0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A45-A774-4F15-B993-C08D962D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494-094B-4941-B0A3-8419CFB4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2AA2-84AE-4E1A-8009-402427DC5A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3086-7C14-445C-BC62-0581CFCE01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4"/>
          <p:cNvSpPr txBox="1"/>
          <p:nvPr/>
        </p:nvSpPr>
        <p:spPr>
          <a:xfrm>
            <a:off x="533520" y="914400"/>
            <a:ext cx="8259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айна снежинок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304920" y="44956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0" y="419112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Исследователь: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огачёва Полина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учащаяся 1 «Б» класса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уководитель: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Литвинова Татьяна Александровна                        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23" descr="Снежинки: История снежного кристалла10"/>
          <p:cNvPicPr/>
          <p:nvPr/>
        </p:nvPicPr>
        <p:blipFill>
          <a:blip r:embed="rId1"/>
          <a:stretch/>
        </p:blipFill>
        <p:spPr>
          <a:xfrm>
            <a:off x="5362560" y="3319560"/>
            <a:ext cx="2695680" cy="2395440"/>
          </a:xfrm>
          <a:prstGeom prst="rect">
            <a:avLst/>
          </a:prstGeom>
          <a:ln w="0">
            <a:noFill/>
          </a:ln>
        </p:spPr>
      </p:pic>
      <p:sp>
        <p:nvSpPr>
          <p:cNvPr id="86" name="WordArt 25"/>
          <p:cNvSpPr txBox="1"/>
          <p:nvPr/>
        </p:nvSpPr>
        <p:spPr>
          <a:xfrm>
            <a:off x="2057400" y="2362320"/>
            <a:ext cx="5715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ема исследования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7" name="WordArt 27"/>
          <p:cNvSpPr txBox="1"/>
          <p:nvPr/>
        </p:nvSpPr>
        <p:spPr>
          <a:xfrm>
            <a:off x="2133720" y="304920"/>
            <a:ext cx="5715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У "Гимназия №1"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5722920"/>
            <a:ext cx="9144000" cy="113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22"/>
          <p:cNvGraphicFramePr/>
          <p:nvPr/>
        </p:nvGraphicFramePr>
        <p:xfrm>
          <a:off x="1523880" y="1752480"/>
          <a:ext cx="6529680" cy="313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752480"/>
                    <a:ext cx="6529680" cy="31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Результаты опроса одноклассников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57200" y="1066680"/>
          <a:ext cx="8229600" cy="4897440"/>
        </p:xfrm>
        <a:graphic>
          <a:graphicData uri="http://schemas.openxmlformats.org/drawingml/2006/table">
            <a:tbl>
              <a:tblPr/>
              <a:tblGrid>
                <a:gridCol w="1219320"/>
                <a:gridCol w="2427120"/>
                <a:gridCol w="2187720"/>
                <a:gridCol w="2395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 и</a:t>
                      </a:r>
                      <a:endParaRPr b="1" i="1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i="1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 декабр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декабр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январ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i="1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ток</a:t>
                      </a:r>
                      <a:endParaRPr b="1" i="1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</a:t>
                      </a:r>
                      <a:endParaRPr b="1" i="1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ушинки и звезды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голочки и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енькие столбики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ушинки и звезды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нь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</a:t>
                      </a:r>
                      <a:endParaRPr b="1" i="1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ушинки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голочки и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енькие столбики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ушинки и звезды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чер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</a:t>
                      </a:r>
                      <a:endParaRPr b="1" i="1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ушинки и звезды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голочки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</a:t>
                      </a:r>
                      <a:endParaRPr b="1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31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Результаты наблюдений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2" descr=""/>
          <p:cNvPicPr/>
          <p:nvPr/>
        </p:nvPicPr>
        <p:blipFill>
          <a:blip r:embed="rId1"/>
          <a:stretch/>
        </p:blipFill>
        <p:spPr>
          <a:xfrm>
            <a:off x="380880" y="5935680"/>
            <a:ext cx="8305920" cy="92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Вывод по гипотезе №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Форма снежинок  никак  не связана с временем суток  и днем недели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152424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Погодные услов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Температура возд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ила и направление вет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Влажность воздуха – содержание в воздухе водяного па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167"/>
          <p:cNvSpPr/>
          <p:nvPr/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Страничка дневника</a:t>
            </a:r>
            <a:endParaRPr b="1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762120"/>
          <a:ext cx="7924680" cy="5364000"/>
        </p:xfrm>
        <a:graphic>
          <a:graphicData uri="http://schemas.openxmlformats.org/drawingml/2006/table">
            <a:tbl>
              <a:tblPr/>
              <a:tblGrid>
                <a:gridCol w="925560"/>
                <a:gridCol w="2604960"/>
                <a:gridCol w="43941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года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а снежинок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4.01.2010</a:t>
                      </a:r>
                      <a:endParaRPr b="1" i="1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тер    2м/с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ература     -15</a:t>
                      </a:r>
                      <a:r>
                        <a:rPr b="1" lang="ru-RU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жность        88%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Webdings"/>
                          <a:ea typeface="Webdings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лкие пластинки и столбики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7.01.2010</a:t>
                      </a:r>
                      <a:endParaRPr b="1" i="1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тер    8м/с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ература     -4</a:t>
                      </a:r>
                      <a:r>
                        <a:rPr b="1" lang="ru-RU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жность        88%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Webdings"/>
                          <a:ea typeface="Webdings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лкие столбики и крупинки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01.2010</a:t>
                      </a:r>
                      <a:endParaRPr b="1" i="1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тер    6м/с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ература     -4</a:t>
                      </a:r>
                      <a:r>
                        <a:rPr b="1" lang="ru-RU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жность        95%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Webdings"/>
                          <a:ea typeface="Webdings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лкие пушинки и звезды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01.2010</a:t>
                      </a:r>
                      <a:endParaRPr b="1" i="1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тер    4м/с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ература     -4</a:t>
                      </a:r>
                      <a:r>
                        <a:rPr b="1" lang="ru-RU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жность        97%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Webdings"/>
                          <a:ea typeface="Webdings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виде иголочек и столбиков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01.2010</a:t>
                      </a:r>
                      <a:endParaRPr b="1" i="1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тер    6м/с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ература     -9</a:t>
                      </a:r>
                      <a:r>
                        <a:rPr b="1" lang="ru-RU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жность        96%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Webdings"/>
                          <a:ea typeface="Webdings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ушинки и звезды</a:t>
                      </a:r>
                      <a:endParaRPr b="1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2286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Вывод по гипотезе №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На форму снежинок  оказывают влияние погодные условия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152424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5"/>
          <p:cNvSpPr txBox="1"/>
          <p:nvPr/>
        </p:nvSpPr>
        <p:spPr>
          <a:xfrm>
            <a:off x="1905120" y="2362320"/>
            <a:ext cx="5638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 внимание!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48" name="Object 11"/>
          <p:cNvGraphicFramePr/>
          <p:nvPr/>
        </p:nvGraphicFramePr>
        <p:xfrm>
          <a:off x="0" y="304920"/>
          <a:ext cx="911376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920"/>
                    <a:ext cx="91137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5"/>
          <p:cNvGraphicFramePr/>
          <p:nvPr/>
        </p:nvGraphicFramePr>
        <p:xfrm>
          <a:off x="533520" y="4419720"/>
          <a:ext cx="8229600" cy="21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419720"/>
                    <a:ext cx="82296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Georgia"/>
              </a:rPr>
              <a:t>Цели и задачи исследова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Цель исследования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ыяснить, почему снежинки такие разные и отчего зависит их фор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Задачи исследования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ти и собрать сведения о том, как и из чего образуются снежин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знать из разных источников о видах снежин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форму снежин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снить факторы, влияющие на форму снежин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Гипотезы</a:t>
            </a: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исслед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редположим, что в природе существуют одинаковые по форме снежин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Быть может, форма снежинок зависит от времени суток и дней нед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Возможно, на форму снежинок оказывают влияние погодные услов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762120" y="5791320"/>
            <a:ext cx="7772400" cy="896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Гипотеза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Picture 6" descr="100_40801"/>
          <p:cNvPicPr/>
          <p:nvPr/>
        </p:nvPicPr>
        <p:blipFill>
          <a:blip r:embed="rId1"/>
          <a:stretch/>
        </p:blipFill>
        <p:spPr>
          <a:xfrm>
            <a:off x="5102280" y="2209680"/>
            <a:ext cx="312264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100_40812"/>
          <p:cNvPicPr/>
          <p:nvPr/>
        </p:nvPicPr>
        <p:blipFill>
          <a:blip r:embed="rId2"/>
          <a:stretch/>
        </p:blipFill>
        <p:spPr>
          <a:xfrm>
            <a:off x="988920" y="1828800"/>
            <a:ext cx="25005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рисунок002"/>
          <p:cNvPicPr/>
          <p:nvPr/>
        </p:nvPicPr>
        <p:blipFill>
          <a:blip r:embed="rId1"/>
          <a:stretch/>
        </p:blipFill>
        <p:spPr>
          <a:xfrm>
            <a:off x="762120" y="4572000"/>
            <a:ext cx="179676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рисунок003"/>
          <p:cNvPicPr/>
          <p:nvPr/>
        </p:nvPicPr>
        <p:blipFill>
          <a:blip r:embed="rId2"/>
          <a:stretch/>
        </p:blipFill>
        <p:spPr>
          <a:xfrm>
            <a:off x="6705720" y="4191120"/>
            <a:ext cx="1763640" cy="189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рисунок004"/>
          <p:cNvPicPr/>
          <p:nvPr/>
        </p:nvPicPr>
        <p:blipFill>
          <a:blip r:embed="rId3"/>
          <a:stretch/>
        </p:blipFill>
        <p:spPr>
          <a:xfrm>
            <a:off x="806400" y="990720"/>
            <a:ext cx="1805040" cy="193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рисунок005"/>
          <p:cNvPicPr/>
          <p:nvPr/>
        </p:nvPicPr>
        <p:blipFill>
          <a:blip r:embed="rId4"/>
          <a:stretch/>
        </p:blipFill>
        <p:spPr>
          <a:xfrm>
            <a:off x="6553080" y="914400"/>
            <a:ext cx="2057400" cy="1936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рисунок007"/>
          <p:cNvPicPr/>
          <p:nvPr/>
        </p:nvPicPr>
        <p:blipFill>
          <a:blip r:embed="rId5"/>
          <a:stretch/>
        </p:blipFill>
        <p:spPr>
          <a:xfrm>
            <a:off x="3429000" y="2217600"/>
            <a:ext cx="2209680" cy="1973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Мои рисун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Снежинки: История снежного кристалла9"/>
          <p:cNvPicPr/>
          <p:nvPr/>
        </p:nvPicPr>
        <p:blipFill>
          <a:blip r:embed="rId1"/>
          <a:stretch/>
        </p:blipFill>
        <p:spPr>
          <a:xfrm>
            <a:off x="1038240" y="2039760"/>
            <a:ext cx="2847960" cy="253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3222360" cy="2324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Музей снега в Хоккайд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Вывод по гипотез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На свете не существует 2-х одинаковых  снежинок, каждая из них  уникальн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152424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abo4ki1"/>
          <p:cNvPicPr/>
          <p:nvPr/>
        </p:nvPicPr>
        <p:blipFill>
          <a:blip r:embed="rId1"/>
          <a:stretch/>
        </p:blipFill>
        <p:spPr>
          <a:xfrm>
            <a:off x="914400" y="1905120"/>
            <a:ext cx="2514600" cy="17031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Снежинки складываются из льдинок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Picture 6" descr="babo4ki2"/>
          <p:cNvPicPr/>
          <p:nvPr/>
        </p:nvPicPr>
        <p:blipFill>
          <a:blip r:embed="rId2"/>
          <a:stretch/>
        </p:blipFill>
        <p:spPr>
          <a:xfrm>
            <a:off x="5857920" y="1905120"/>
            <a:ext cx="2597040" cy="1752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457200" y="384480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            </a:t>
            </a: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Снежинки образуются из                            водяного пара</a:t>
            </a:r>
            <a:endParaRPr b="1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Классификация снежино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Picture 4" descr="014"/>
          <p:cNvPicPr/>
          <p:nvPr/>
        </p:nvPicPr>
        <p:blipFill>
          <a:blip r:embed="rId1"/>
          <a:stretch/>
        </p:blipFill>
        <p:spPr>
          <a:xfrm>
            <a:off x="228600" y="1523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011"/>
          <p:cNvPicPr/>
          <p:nvPr/>
        </p:nvPicPr>
        <p:blipFill>
          <a:blip r:embed="rId2"/>
          <a:stretch/>
        </p:blipFill>
        <p:spPr>
          <a:xfrm>
            <a:off x="6858000" y="1523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003"/>
          <p:cNvPicPr/>
          <p:nvPr/>
        </p:nvPicPr>
        <p:blipFill>
          <a:blip r:embed="rId3"/>
          <a:stretch/>
        </p:blipFill>
        <p:spPr>
          <a:xfrm>
            <a:off x="4724280" y="1523880"/>
            <a:ext cx="175284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66688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везда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72428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стинка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34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понка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1" descr="009"/>
          <p:cNvPicPr/>
          <p:nvPr/>
        </p:nvPicPr>
        <p:blipFill>
          <a:blip r:embed="rId4"/>
          <a:stretch/>
        </p:blipFill>
        <p:spPr>
          <a:xfrm>
            <a:off x="2438280" y="1523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2"/>
          <p:cNvSpPr/>
          <p:nvPr/>
        </p:nvSpPr>
        <p:spPr>
          <a:xfrm>
            <a:off x="693432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ушинка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13" descr="Снежинки: История снежного кристалла5"/>
          <p:cNvPicPr/>
          <p:nvPr/>
        </p:nvPicPr>
        <p:blipFill>
          <a:blip r:embed="rId5"/>
          <a:stretch/>
        </p:blipFill>
        <p:spPr>
          <a:xfrm>
            <a:off x="304920" y="4114800"/>
            <a:ext cx="1752480" cy="1558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228600" y="5867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ежинка оледенелая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5" descr="Снежинки: История снежного кристалла2"/>
          <p:cNvPicPr/>
          <p:nvPr/>
        </p:nvPicPr>
        <p:blipFill>
          <a:blip r:embed="rId6"/>
          <a:stretch/>
        </p:blipFill>
        <p:spPr>
          <a:xfrm>
            <a:off x="2514600" y="4114800"/>
            <a:ext cx="1752480" cy="1555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6"/>
          <p:cNvSpPr/>
          <p:nvPr/>
        </p:nvSpPr>
        <p:spPr>
          <a:xfrm>
            <a:off x="2590920" y="5943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олбик и игла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952880" y="6019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Ёж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7010280" y="5867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ежинка круповидная</a:t>
            </a:r>
            <a:endParaRPr b="1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0" descr="018"/>
          <p:cNvPicPr/>
          <p:nvPr/>
        </p:nvPicPr>
        <p:blipFill>
          <a:blip r:embed="rId7"/>
          <a:stretch/>
        </p:blipFill>
        <p:spPr>
          <a:xfrm>
            <a:off x="4724280" y="4038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*Бесформенные кристаллы"/>
          <p:cNvPicPr/>
          <p:nvPr/>
        </p:nvPicPr>
        <p:blipFill>
          <a:blip r:embed="rId8"/>
          <a:stretch/>
        </p:blipFill>
        <p:spPr>
          <a:xfrm>
            <a:off x="7010280" y="4419720"/>
            <a:ext cx="14288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4-07T12:10:17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