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220D-EDB8-4EAD-B612-6CEDA5E3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B6C-3527-477F-83E0-95B95DBA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B1DB-CC92-4BDC-A5C3-1D0874A5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2C56-DE96-4E9E-81AC-FC96C430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F2C-2E09-47DD-ACB5-FFDAD4C0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0BF7-F5F7-4349-8C30-F1AA8D65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063D-DC5B-467F-B427-954E0431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4450-8088-4F7B-B872-02BA37F2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F45-8373-4086-872B-D1624E2A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5954-D416-4973-9D18-C790C8E9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0265-EA66-4142-A5E3-A795A730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11C-F5FE-4478-B773-D95E835D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AA52-D863-4D65-8A08-815CC292D9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500040"/>
            <a:ext cx="87156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387026"/>
                </a:solidFill>
                <a:latin typeface="Arial Black"/>
              </a:rPr>
              <a:t>Природа и челове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74484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Выполнила воспитатель ГКОУ КК коррекционной школы-интерната ст-цы Шкуринс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Афанасиади С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87026"/>
                </a:solidFill>
                <a:latin typeface="Calibri"/>
              </a:rPr>
              <a:t>В степях пасутся стада коров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http://Cleversite.narod.ru/anim/006.jpg"/>
          <p:cNvPicPr/>
          <p:nvPr/>
        </p:nvPicPr>
        <p:blipFill>
          <a:blip r:embed="rId1"/>
          <a:stretch/>
        </p:blipFill>
        <p:spPr>
          <a:xfrm>
            <a:off x="684360" y="1417680"/>
            <a:ext cx="784836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87026"/>
                </a:solidFill>
                <a:latin typeface="Calibri"/>
              </a:rPr>
              <a:t>овец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 Западный Казахстан. Полуостров Мангышлак"/>
          <p:cNvPicPr/>
          <p:nvPr/>
        </p:nvPicPr>
        <p:blipFill>
          <a:blip r:embed="rId1"/>
          <a:stretch/>
        </p:blipFill>
        <p:spPr>
          <a:xfrm>
            <a:off x="714240" y="1357200"/>
            <a:ext cx="796140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7026"/>
                </a:solidFill>
                <a:latin typeface="Calibri"/>
              </a:rPr>
              <a:t>Растения и продукты, полученные из молока и мяса животных, мы употребляем в пищ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C:\Documents and Settings\Administrator\Рабочий стол\продукт\98c17e9edd69.jpg"/>
          <p:cNvPicPr/>
          <p:nvPr/>
        </p:nvPicPr>
        <p:blipFill>
          <a:blip r:embed="rId1"/>
          <a:stretch/>
        </p:blipFill>
        <p:spPr>
          <a:xfrm>
            <a:off x="6786720" y="1500120"/>
            <a:ext cx="2000160" cy="2994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Administrator\Рабочий стол\продукт\428.jpg"/>
          <p:cNvPicPr/>
          <p:nvPr/>
        </p:nvPicPr>
        <p:blipFill>
          <a:blip r:embed="rId2"/>
          <a:stretch/>
        </p:blipFill>
        <p:spPr>
          <a:xfrm>
            <a:off x="500040" y="1571760"/>
            <a:ext cx="3571920" cy="2381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Documents and Settings\Administrator\Рабочий стол\продукт\1233768968_18.jpg"/>
          <p:cNvPicPr/>
          <p:nvPr/>
        </p:nvPicPr>
        <p:blipFill>
          <a:blip r:embed="rId3"/>
          <a:stretch/>
        </p:blipFill>
        <p:spPr>
          <a:xfrm>
            <a:off x="642960" y="3857760"/>
            <a:ext cx="3238560" cy="2655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Documents and Settings\Administrator\Рабочий стол\продукт\1269139939_image006.jpg"/>
          <p:cNvPicPr/>
          <p:nvPr/>
        </p:nvPicPr>
        <p:blipFill>
          <a:blip r:embed="rId4"/>
          <a:stretch/>
        </p:blipFill>
        <p:spPr>
          <a:xfrm>
            <a:off x="4214880" y="1500120"/>
            <a:ext cx="2381040" cy="2857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Documents and Settings\Administrator\Рабочий стол\продукт\62593679.jpg"/>
          <p:cNvPicPr/>
          <p:nvPr/>
        </p:nvPicPr>
        <p:blipFill>
          <a:blip r:embed="rId5"/>
          <a:stretch/>
        </p:blipFill>
        <p:spPr>
          <a:xfrm>
            <a:off x="4071960" y="442908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Documents and Settings\Administrator\Рабочий стол\продукт\img0297_1.jpg"/>
          <p:cNvPicPr/>
          <p:nvPr/>
        </p:nvPicPr>
        <p:blipFill>
          <a:blip r:embed="rId6"/>
          <a:stretch/>
        </p:blipFill>
        <p:spPr>
          <a:xfrm>
            <a:off x="6993000" y="4714920"/>
            <a:ext cx="2151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87026"/>
                </a:solidFill>
                <a:latin typeface="Calibri"/>
              </a:rPr>
              <a:t>Множество других полезных вещей, изготовленных из растений, необходимых нам в жи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Это мебель, бумага. ткани, строительные материал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C:\Documents and Settings\Administrator\Рабочий стол\продукт\%20whaxhemxbeygpx.jpg"/>
          <p:cNvPicPr/>
          <p:nvPr/>
        </p:nvPicPr>
        <p:blipFill>
          <a:blip r:embed="rId1"/>
          <a:stretch/>
        </p:blipFill>
        <p:spPr>
          <a:xfrm>
            <a:off x="4214880" y="3214800"/>
            <a:ext cx="4313160" cy="3235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Administrator\Рабочий стол\продукт\4XNGVCAZ2D9B3CAXBVEKVCA7X5LHYCAGQWUDNCAH2QOB5CAGF0NYGCAZ505NACAODE81SCA1WU0VWCAERPUYICAEA9S4HCAFBZD5KCATRBD15CAQ63SSOCAYD3KYBCAVJKBKZCA0KI3B3CA07XSGM.jpg"/>
          <p:cNvPicPr/>
          <p:nvPr/>
        </p:nvPicPr>
        <p:blipFill>
          <a:blip r:embed="rId2"/>
          <a:stretch/>
        </p:blipFill>
        <p:spPr>
          <a:xfrm>
            <a:off x="395280" y="1571760"/>
            <a:ext cx="2992320" cy="2214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Documents and Settings\Administrator\Рабочий стол\продукт\8LLRDCA1K0XFDCA14L2MMCA0PRSW9CA1VBQGYCA7WT1K3CABFMFD8CA3K26ZZCA3B3W54CARBHPGBCAZ47PSECAHGW08YCALELJ3KCALILHROCADPVUHQCA18N4X9CAHZ54ECCANWO3IPCAG7N583.jpg"/>
          <p:cNvPicPr/>
          <p:nvPr/>
        </p:nvPicPr>
        <p:blipFill>
          <a:blip r:embed="rId3"/>
          <a:stretch/>
        </p:blipFill>
        <p:spPr>
          <a:xfrm>
            <a:off x="428760" y="4143240"/>
            <a:ext cx="32223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7026"/>
                </a:solidFill>
                <a:latin typeface="Calibri"/>
              </a:rPr>
              <a:t>Лес  - хранитель влаги. Он оберегает родники, ручьи,  реки от обмеления. Охраняет почвы от образования оврагов и вет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i-main-pic" descr="Картинка 4 из 2444"/>
          <p:cNvPicPr/>
          <p:nvPr/>
        </p:nvPicPr>
        <p:blipFill>
          <a:blip r:embed="rId1"/>
          <a:stretch/>
        </p:blipFill>
        <p:spPr>
          <a:xfrm>
            <a:off x="785880" y="1714680"/>
            <a:ext cx="742932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87026"/>
                </a:solidFill>
                <a:latin typeface="Calibri"/>
              </a:rPr>
              <a:t>Люди научились пользоваться богатствами природы </a:t>
            </a:r>
            <a:r>
              <a:rPr b="0" i="1" lang="ru-RU" sz="2800" spc="-1" strike="noStrike">
                <a:solidFill>
                  <a:srgbClr val="387026"/>
                </a:solidFill>
                <a:latin typeface="Calibri"/>
              </a:rPr>
              <a:t>.</a:t>
            </a:r>
            <a:r>
              <a:rPr b="0" i="1" lang="ru-RU" sz="2400" spc="-1" strike="noStrike">
                <a:solidFill>
                  <a:srgbClr val="387026"/>
                </a:solidFill>
                <a:latin typeface="Calibri"/>
              </a:rPr>
              <a:t>Но вместе с тем человечество сумело загрязнить прир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http://pijamasurf.com/_wp/wp-content/uploads/2010/06/Oiled_Bird_-_Black_Sea_Oil_Spill_111207.jpg"/>
          <p:cNvPicPr/>
          <p:nvPr/>
        </p:nvPicPr>
        <p:blipFill>
          <a:blip r:embed="rId1"/>
          <a:stretch/>
        </p:blipFill>
        <p:spPr>
          <a:xfrm>
            <a:off x="684360" y="1600200"/>
            <a:ext cx="77040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http://photo.starnet.ru/Thematic_Wallpapers/Chetyre_stihii/Zemlia_i_planety/Vtoraja_priroda2/images/POWERN1.jpg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50990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Загрязняется возду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грязняются ре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http://upload.wikimedia.org/wikipedia/commons/thumb/8/8c/River_Starka_%285%29.jpg/800px-River_Starka_%285%29.jpg"/>
          <p:cNvPicPr/>
          <p:nvPr/>
        </p:nvPicPr>
        <p:blipFill>
          <a:blip r:embed="rId1"/>
          <a:stretch/>
        </p:blipFill>
        <p:spPr>
          <a:xfrm>
            <a:off x="1071720" y="1600200"/>
            <a:ext cx="68580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87026"/>
                </a:solidFill>
                <a:latin typeface="Calibri"/>
              </a:rPr>
              <a:t>Весной смастери домики для птиц. Охраняй птичьи гнезд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5" descr="http://www.tonnel.ru/dnevnik/500254328_dnevniktonnel.gif"/>
          <p:cNvPicPr/>
          <p:nvPr/>
        </p:nvPicPr>
        <p:blipFill>
          <a:blip r:embed="rId1"/>
          <a:stretch/>
        </p:blipFill>
        <p:spPr>
          <a:xfrm>
            <a:off x="1666800" y="1628640"/>
            <a:ext cx="58104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Ты можешь посадить деревья возле</a:t>
            </a:r>
            <a:br>
              <a:rPr sz="3200"/>
            </a:b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 дома и шко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http://www.e-crimea.info/pictures/h_cN7e5YJSt64kg8quLHasFXbDidAM2UBz_.jpg"/>
          <p:cNvPicPr/>
          <p:nvPr/>
        </p:nvPicPr>
        <p:blipFill>
          <a:blip r:embed="rId1"/>
          <a:stretch/>
        </p:blipFill>
        <p:spPr>
          <a:xfrm>
            <a:off x="684360" y="1728720"/>
            <a:ext cx="76327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87026"/>
                </a:solidFill>
                <a:latin typeface="Calibri"/>
              </a:rPr>
              <a:t>Родимые кр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8760" y="1356840"/>
            <a:ext cx="45720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ирокие, привольные, родимые края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резка белоствольная, любимица мо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оит, как свечка, бела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ядит она вокруг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й рожь кивает спела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й кланяется лу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угом так славно, солнечно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да ни поглядиш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д озером тихонечк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ышется камыш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ывут протокой узко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ята черед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юби природу русску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ани, читатель мой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http://club.foto.ru/gallery/images/photo/2005/07/19/442999.jpg"/>
          <p:cNvPicPr/>
          <p:nvPr/>
        </p:nvPicPr>
        <p:blipFill>
          <a:blip r:embed="rId1"/>
          <a:stretch/>
        </p:blipFill>
        <p:spPr>
          <a:xfrm>
            <a:off x="5286240" y="2205000"/>
            <a:ext cx="3429000" cy="37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7026"/>
                </a:solidFill>
                <a:latin typeface="Calibri"/>
              </a:rPr>
              <a:t>Природа – это все то, что существовало и существует независимо от человека,все то, что не было создано человеком. Чтобы человек стал добрым хозяином, он должен знать природу и беречь е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http://img-fotki.yandex.ru/get/34/parametr666.108/0_12525_6a9be59e_XL"/>
          <p:cNvPicPr/>
          <p:nvPr/>
        </p:nvPicPr>
        <p:blipFill>
          <a:blip r:embed="rId1"/>
          <a:stretch/>
        </p:blipFill>
        <p:spPr>
          <a:xfrm>
            <a:off x="1000080" y="2214720"/>
            <a:ext cx="7243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87026"/>
                </a:solidFill>
                <a:latin typeface="Calibri"/>
              </a:rPr>
              <a:t>Степ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 Западный Казахстан. Полуостров Мангышлак"/>
          <p:cNvPicPr/>
          <p:nvPr/>
        </p:nvPicPr>
        <p:blipFill>
          <a:blip r:embed="rId1"/>
          <a:stretch/>
        </p:blipFill>
        <p:spPr>
          <a:xfrm>
            <a:off x="539640" y="1417680"/>
            <a:ext cx="77914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87026"/>
                </a:solidFill>
                <a:latin typeface="Calibri"/>
              </a:rPr>
              <a:t>Гор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4" descr="http://www.blacktomato.co.uk/wp-content/uploads/2009/02/kazakhstan_content_resized.jpg"/>
          <p:cNvPicPr/>
          <p:nvPr/>
        </p:nvPicPr>
        <p:blipFill>
          <a:blip r:embed="rId1"/>
          <a:stretch/>
        </p:blipFill>
        <p:spPr>
          <a:xfrm>
            <a:off x="755640" y="1428840"/>
            <a:ext cx="784872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http://infoantalya.typepad.com/.a/6a01310fc31aa4970c01310fc6db72970c-800wi"/>
          <p:cNvPicPr/>
          <p:nvPr/>
        </p:nvPicPr>
        <p:blipFill>
          <a:blip r:embed="rId1"/>
          <a:stretch/>
        </p:blipFill>
        <p:spPr>
          <a:xfrm>
            <a:off x="928800" y="1214280"/>
            <a:ext cx="7758000" cy="5000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87026"/>
                </a:solidFill>
                <a:latin typeface="Calibri"/>
              </a:rPr>
              <a:t>Ле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87026"/>
                </a:solidFill>
                <a:latin typeface="Calibri"/>
              </a:rPr>
              <a:t>Ре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http://img-2007-11.photosight.ru/02/2390465.jpg"/>
          <p:cNvPicPr/>
          <p:nvPr/>
        </p:nvPicPr>
        <p:blipFill>
          <a:blip r:embed="rId1"/>
          <a:stretch/>
        </p:blipFill>
        <p:spPr>
          <a:xfrm>
            <a:off x="611280" y="1600200"/>
            <a:ext cx="79930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87026"/>
                </a:solidFill>
                <a:latin typeface="Calibri"/>
              </a:rPr>
              <a:t>Оз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http://taldykorgan.net/uploads/photos/Priroda_almatiskoy_oblasti/7.jpg"/>
          <p:cNvPicPr/>
          <p:nvPr/>
        </p:nvPicPr>
        <p:blipFill>
          <a:blip r:embed="rId1"/>
          <a:stretch/>
        </p:blipFill>
        <p:spPr>
          <a:xfrm>
            <a:off x="1214280" y="1600200"/>
            <a:ext cx="671544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87026"/>
                </a:solidFill>
                <a:latin typeface="Calibri"/>
              </a:rPr>
              <a:t>На бескрайних полях выращивают зер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i-main-pic" descr="Картинка 2 из 4687"/>
          <p:cNvPicPr/>
          <p:nvPr/>
        </p:nvPicPr>
        <p:blipFill>
          <a:blip r:embed="rId1"/>
          <a:stretch/>
        </p:blipFill>
        <p:spPr>
          <a:xfrm>
            <a:off x="539640" y="1417680"/>
            <a:ext cx="799308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87026"/>
                </a:solidFill>
                <a:latin typeface="Calibri"/>
              </a:rPr>
              <a:t>На полях и огородах выращивают ов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-main-pic" descr="Картинка 118 из 290"/>
          <p:cNvPicPr/>
          <p:nvPr/>
        </p:nvPicPr>
        <p:blipFill>
          <a:blip r:embed="rId1"/>
          <a:stretch/>
        </p:blipFill>
        <p:spPr>
          <a:xfrm>
            <a:off x="755640" y="1600200"/>
            <a:ext cx="7488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4T10:42:27Z</dcterms:created>
  <dc:creator>Administrator</dc:creator>
  <dc:description/>
  <dc:language>en-US</dc:language>
  <cp:lastModifiedBy>lenovo</cp:lastModifiedBy>
  <dcterms:modified xsi:type="dcterms:W3CDTF">2020-04-07T05:52:23Z</dcterms:modified>
  <cp:revision>56</cp:revision>
  <dc:subject/>
  <dc:title>Природа и человек</dc:title>
</cp:coreProperties>
</file>