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AAD5-3ECA-467B-83C1-3AAE6ADA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E80-FEF1-4716-966A-EA2137FA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0D3D67-FE8A-45DE-AE08-865C9D3D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3606D-DABA-4F71-ADDC-A1DFCD15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B3A9E-7C8C-4DBE-B53C-3AABDD33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C13D1-E8F2-490F-80F1-6D0FD5A5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867D0-6AED-4921-A79A-7745EAA6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00E249-7987-442C-8502-6608270D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4B3DE-1F0E-439C-8F56-5F384C9C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66E2D-22C2-46D6-8612-CDCDCA1B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80F85-7BD5-4731-AA86-969777E0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5DD148-5B58-49B1-8EF6-8B4E5356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9E2-3B52-44F4-A7DA-3B8565A8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6D184-D873-40EA-958B-D86FB5B4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875DA-0127-4EE3-83CF-7208BAE5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3F2D63-CDE1-4F4C-ABCB-FBD84626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3E2FF-BB00-4B55-AE7D-540DDA89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1503B-7F57-4449-98B6-F04BF11D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ED84D-5FCE-440B-9001-F978724F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FA9135-DE85-46F6-B6BE-7B09732D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04994F-539B-403E-8C86-BC945A63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05E988-12D4-4487-8653-B1264C72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E6214-7AD6-4EDE-9629-8AB1FD05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F1F-16EF-40D5-9ECE-ADE642CC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599976-4620-4817-AE5D-84D73FD9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6D27D-A1C5-4E0C-8805-AF9C2AFB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9C5E6-0C62-4E0A-BE08-D467F266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71834-F8C2-47B0-B7C2-0A85C7D0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91FF1-6E5C-4592-8E0E-17779327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7D86E-3467-4695-8F7C-8CBD7338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F9824-5CE0-4F07-B19C-05004FDD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F3A4D-6B0A-40AF-80C1-928053BC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27092-5D8E-4A88-BE54-95C2838B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ADA80-CAA4-4D38-A0EB-C88E583D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CA39-B0A9-40B9-BAD3-51B22409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033C3-6388-4648-AB12-4F98C026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8ABD5-568A-49BA-B9C4-5C27D460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CACEB-7D77-4312-A2B5-C26A611E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148B9-0D82-4892-852A-9D5243E5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E075D4-5E3C-4739-9176-1B05DD02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5941A5-1FE3-469D-B2A7-6084D71D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08063A-E525-452A-96AC-B72D42ED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6C394D-5B30-4D21-A767-4C723E2B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27DA0-720C-4945-9BED-F2C373C8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06F87-2D19-4F1F-BD8A-3ADAE730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EC7B-DF85-4774-BDE2-E52A5CB0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4C92D-D31E-457F-A37B-E3FF833A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B0326-08B0-4524-A0E7-B5A14059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8C02F-5CDC-42BA-9039-ED7503EA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FD007-F779-447B-B0A7-634AEE12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4D682-C44A-4E33-AB8C-F515FCD1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4522-1DE7-43D4-9249-8481A0D2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7088-919E-41F1-8E62-5CE5F6BF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47BC-7A32-455D-853A-CC2194DF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C44A-912C-4059-84B7-573B5B9A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2707-3F7F-4C18-87CD-5062E33F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898-F4D1-4E7A-A43A-A59D3640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401A-B01F-4DF2-957A-200771E4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D413-B61D-4F8E-ACB6-1134AD54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B655-B071-4748-9871-34D5EEDB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5A7E-23F9-48FA-B1A1-044F77BE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DA47-6D23-4857-B6C9-98CF7C40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2FF06-0307-4227-B4EC-8751DD79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16820-7F20-4DF9-B60F-79694168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8EE0C-CBD8-4864-9AE9-E32C0F11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302BE-CBEE-48C6-81F4-7345243E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E836B-FCF7-4FB1-810D-F8E29401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0129-17AD-496E-8537-F84C80E3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0F2C5-74EA-4CBA-AF35-6054C570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20A81-533E-439D-AE34-A7AA81C0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25CFC-4F30-4878-9E07-9E4FF0B1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F159C-AAF4-4664-9327-9A5CFB68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7905F-77A8-4519-BBDE-76D518CD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F16F9-D947-4B01-909F-8AC15C83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EE94A-651A-4E83-A690-F142290C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C0CC6-9083-4CB4-8D6A-8CD57B41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C07D0-C2E0-4F6A-8873-7CF6EF01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156DD-C6EA-4453-977D-C421757C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A06-5B18-4EDA-841B-7A8F541D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B9342-54FA-49CF-9008-B3D0C4E8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D9BED-366E-4C83-A42E-0206B601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451C6-A2AC-42E0-B109-3F98CA92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EB743-34DB-4307-97AB-C55FBAA4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58E50-2DCE-4903-B5CC-4E70FE62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A6E14-5D78-483D-8181-72A43699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DEB31-28BE-4AE2-920B-A059DA9E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E7D47-82C1-4C9C-8A9E-C5673489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6E907-263A-4D90-A87A-E185463B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BDAFD-971D-4CE3-A1EB-604CACD7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75F-3C6A-4AB2-B4F9-C773C751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8AD61-50D3-4F73-B82F-FD77E770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DD66C-F9E5-4274-80C5-B00D8CDC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4B208-81FF-49CE-A438-B1812012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D3684-D59A-4522-B8FB-4AC7DF00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845BC-94E5-493C-935B-748FF244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1C849-A732-408D-B034-C30F67E8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39F5B-2288-479C-922B-69865A6A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9F02C-2613-495F-AD09-9E0D2754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DEA38-0C24-421D-81A5-FB71F09F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4F4EC-C679-4087-BDA1-C90849AD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F288-AF86-4C0C-A35C-C6E67164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4242F-7486-4925-8A01-BF531F14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742AF-908D-447A-B1A4-572DB0BF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BD0F4-72CB-4BBB-BBC8-BD9F99A9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9C9E9-47F4-4141-90F7-77889F28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8AB14-828D-4AA6-B5DE-98A3981C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FB581-EF7C-4221-92BB-A9B1F4AB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3BB31-F991-4CB3-8DDB-9BEC9201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5215F-4E91-4772-A884-AB8EED1A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FA9E5-D5AE-46FE-A6CA-A89879C7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73DCF-ED76-4DEB-9843-D5D50AE8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2476-21CD-47BF-840E-753F1B29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28F0E-54C5-4FA3-B152-D4A9340C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EE9EE-B317-4656-B2EC-14A0CA21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AEF65-6980-4B4D-AFB0-31DE0FD6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056A2-A678-4864-8139-38BFD81D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B99B1-0105-4358-8AD9-608FA778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5FE65-7DC6-409F-8058-8D16FA6F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E67ED-0DE9-4E90-8F53-C83E1B83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1759D-3580-4AA5-B196-142C6BCD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13929-1B39-4794-BF53-25CE9073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A14AF-14C0-4EF8-B61B-17F5015A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BF11-BBCC-4A9E-9B66-786D648F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2E85C-6B08-4B8A-9218-7ACD8D94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C4279-B0A8-49BB-97EF-22250192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6FEC7-2EB2-45EB-AA4F-4C8241C5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E580C-739C-4C2F-81C6-3FD647DC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9067E-08A6-4844-9990-6C372027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59200-1182-4B13-960D-FE2BCE57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BA4FA-6252-4215-92E9-83AE72EE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E7A3F-2D78-4B52-9869-1C7753C0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4221E-4B7C-4982-98C6-FC7A3853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2090C-EBE8-48E7-B274-CD9958DA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E5CF-3795-4B05-A4CB-E7A55EFB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746BA-C02E-4F8F-A7BD-FB75DAD2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F62C4-1193-4A6C-97F7-3F08450E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860B9-953A-4196-83AB-3D5A6282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CDCAB-3A52-4138-958C-5F7D2386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106C7-F840-4AA4-9362-4353C963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53B72-9AD0-4E1E-9919-10E48A3C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76C55-BD87-4112-9A30-5EC64A0E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F4104-36AC-4348-AC82-EA358C85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EB9D7B-0166-40B0-A399-54F4B2B5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AEE6C9-B316-439F-9598-74C2E77E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0ACA-752C-4440-9A22-E4C1D83E9B6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26B0-5CAB-4606-8148-D518591D2AE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EFB8-F7DB-425F-83E8-203812F2425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3409-C336-47DA-B0B9-CEBBF777ED3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FF8C-13C6-4FC1-B04A-378B9E6C6BA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5313-2C67-4E80-BE22-9F9EFD81561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8D80-B698-4BA9-B446-E2DB38958AA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5867-D145-4EDB-97E2-12467E35A1F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3563-2708-4141-B2C8-F3B921D6433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F6B7-34F9-4AA4-8DA0-FA3B0962F93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C846-0CE3-4257-951F-5863E8D7B28B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C50E-8994-48EC-B555-0140416B8A9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Georgia"/>
              </a:rPr>
              <a:t>ПРОЕКТ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Georgia"/>
              </a:rPr>
              <a:t>ЛЭПБУК «СЛОВАРИ»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УНИЦИПАЛЬНОЕ БЮДЖЕТНОЕ ОБЩЕОБРАЗОВАТЕЛЬНОЕ УЧРЕЖД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СЕВЕРО-ЕНИСЕЙСКАЯ СРЕДНЯЯ ШКОЛА № 2»</a:t>
            </a:r>
            <a:br>
              <a:rPr sz="2000"/>
            </a:b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Прямоугольник 3"/>
          <p:cNvSpPr/>
          <p:nvPr/>
        </p:nvSpPr>
        <p:spPr>
          <a:xfrm>
            <a:off x="4143240" y="4643280"/>
            <a:ext cx="478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MS Mincho"/>
              </a:rPr>
              <a:t>Проект подготовила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MS Mincho"/>
              </a:rPr>
              <a:t>Гашникова Виктор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MS Mincho"/>
              </a:rPr>
              <a:t>ученица 5Б класс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S Mincho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MS Mincho"/>
              </a:rPr>
              <a:t>Руководитель проек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S Mincho"/>
              </a:rPr>
              <a:t>:  Лошакова Н. 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3" name="Picture 2" descr="C:\Documents and Settings\Admin\Рабочий стол\img10.jpg"/>
          <p:cNvPicPr/>
          <p:nvPr/>
        </p:nvPicPr>
        <p:blipFill>
          <a:blip r:embed="rId1"/>
          <a:srcRect l="22173" t="16598" r="23921" b="0"/>
          <a:stretch/>
        </p:blipFill>
        <p:spPr>
          <a:xfrm>
            <a:off x="5000760" y="2214720"/>
            <a:ext cx="3286080" cy="3813120"/>
          </a:xfrm>
          <a:prstGeom prst="rect">
            <a:avLst/>
          </a:prstGeom>
          <a:ln w="0">
            <a:noFill/>
          </a:ln>
        </p:spPr>
      </p:pic>
      <p:sp>
        <p:nvSpPr>
          <p:cNvPr id="634" name="Прямоугольник 4"/>
          <p:cNvSpPr/>
          <p:nvPr/>
        </p:nvSpPr>
        <p:spPr>
          <a:xfrm>
            <a:off x="712440" y="1714680"/>
            <a:ext cx="38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. Фигурные конвер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4" descr="C:\Documents and Settings\Admin\Рабочий стол\img11.jpg"/>
          <p:cNvPicPr/>
          <p:nvPr/>
        </p:nvPicPr>
        <p:blipFill>
          <a:blip r:embed="rId2"/>
          <a:srcRect l="7811" t="23958" r="60157" b="21874"/>
          <a:stretch/>
        </p:blipFill>
        <p:spPr>
          <a:xfrm>
            <a:off x="1285920" y="2286000"/>
            <a:ext cx="2928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7" name="Picture 2" descr="C:\Documents and Settings\Admin\Рабочий стол\фото-007.jpg"/>
          <p:cNvPicPr/>
          <p:nvPr/>
        </p:nvPicPr>
        <p:blipFill>
          <a:blip r:embed="rId1"/>
          <a:srcRect l="0" t="43163" r="0" b="0"/>
          <a:stretch/>
        </p:blipFill>
        <p:spPr>
          <a:xfrm>
            <a:off x="4000680" y="2143080"/>
            <a:ext cx="4406760" cy="3757680"/>
          </a:xfrm>
          <a:prstGeom prst="rect">
            <a:avLst/>
          </a:prstGeom>
          <a:ln w="0">
            <a:noFill/>
          </a:ln>
        </p:spPr>
      </p:pic>
      <p:sp>
        <p:nvSpPr>
          <p:cNvPr id="638" name="TextBox 5"/>
          <p:cNvSpPr/>
          <p:nvPr/>
        </p:nvSpPr>
        <p:spPr>
          <a:xfrm>
            <a:off x="566280" y="150012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4. Книжки - гарм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eorgia"/>
              </a:rPr>
              <a:t>Как пользоваться материалом ЛЭПБУКА  «Словари»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При подготовке к ГИА очень часто используются различные словари. Поэтому я составила </a:t>
            </a:r>
            <a:r>
              <a:rPr b="1" i="1" lang="ru-RU" sz="2700" spc="-1" strike="noStrike">
                <a:solidFill>
                  <a:srgbClr val="c00000"/>
                </a:solidFill>
                <a:latin typeface="Georgia"/>
              </a:rPr>
              <a:t>лэпбук «Словари» 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и покажу, как им пользоваться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Вывод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Пользоваться лэпбуком очень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просто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. Польза лэпбука для организации учебного материала с </a:t>
            </a: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целью повторения и устранения учебных проблем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очевидна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c00000"/>
                </a:solidFill>
                <a:uFillTx/>
                <a:latin typeface="Georgia"/>
              </a:rPr>
              <a:t>Реклама: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Составь лэпбук и пользуйся! Чуть – чуть – и ты «отличник»!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Продолжение проек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Планирую сделать </a:t>
            </a:r>
            <a:r>
              <a:rPr b="1" i="1" lang="ru-RU" sz="6600" spc="-1" strike="noStrike">
                <a:solidFill>
                  <a:srgbClr val="000000"/>
                </a:solidFill>
                <a:latin typeface="Georgia"/>
              </a:rPr>
              <a:t>лэпбуки    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по всем частям речи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,     т.к. считаю </a:t>
            </a: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морфологию самым трудным разделом науки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642600"/>
            <a:ext cx="8534520" cy="34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Использованные ресурсы</a:t>
            </a:r>
            <a:br>
              <a:rPr sz="28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виток  -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://img1.liveinternet.ru/images/attach/c/3/77/98/77098541_1fb99.pn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айны русского языка -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://www.liveinternet.ru/users/4796534/post278766046/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ведения по истории словарей -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://nwapa.spb.ru/sajt_ibo/vistavki/slovari/istoriya.htm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ртрет Гоголя Н.В. -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://korolenko.kharkov.com/kray1/images/g12.gif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ложка «Ребусы от ребуса» -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://img.labirint.ru/images/comments_pic/1205/01labgi0l1328156933.jpg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агадки для детей -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://i.ytimg.com/vi/egrlCutDjXo/hqdefault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Bookman Old Style"/>
              </a:rPr>
              <a:t>Спасибо  за внимание!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Выбор и обоснование темы проек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357200"/>
            <a:ext cx="85042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Чтобы быть успешным в жизни, надо много знат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Чтобы много знать, надо хорошо учитьс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Чтобы хорошо учиться, надо понимать изучаемый материал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Чтобы понимать изучаемый материал, надо его структурировать, т.е. организовать.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Georgia"/>
              </a:rPr>
              <a:t>Как это сделать? Какие приемы существуют?</a:t>
            </a: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            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Georgia"/>
              </a:rPr>
              <a:t>ЛЭПБУК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Справка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Лэпбук… Что это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Rectangle 2"/>
          <p:cNvSpPr/>
          <p:nvPr/>
        </p:nvSpPr>
        <p:spPr>
          <a:xfrm>
            <a:off x="214200" y="2127960"/>
            <a:ext cx="85010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 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сравнительно новое средство обучения из Америки. Он представляет собой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апк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другую прочную картонную основу, на которую накле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ленькие кармашки (миникнижки — простые и фигурные и т.д.), в которых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рганизов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записан изучаемый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ит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лэпбук – форма организации учебного материал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34160" cy="77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Цели и задачи</a:t>
            </a: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181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 проекта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готовление и использование ЛЭПБУКА для организации учебного материала  и повышения успеваемости по школьным предметам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181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181080" algn="just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учебную проблему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181080" algn="just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тему 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181080" algn="just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и изучить информацию по данной теме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181080" algn="just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брать подходящий материал 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181080" algn="just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количество необходимого материала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181080" algn="just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мать структуру лэпбука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181080" algn="just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ить изделие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181080" algn="just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ить проект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1810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1810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Проблем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85480" y="15717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При выполнении контрольных работ по русскому языку выявляются  общие  для всех пятиклассников проблемы. Одна из них связана с неумением использовать различные словари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Можно ли использовать  </a:t>
            </a: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eorgia"/>
              </a:rPr>
              <a:t>лэпбук</a:t>
            </a: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 не только для организации учебного материала,  но и для устранения пробелов в знаниях по предмету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853416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Georgia"/>
              </a:rPr>
              <a:t>«Звездочка обдумывания»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Схема 2" descr=""/>
          <p:cNvPicPr/>
          <p:nvPr/>
        </p:nvPicPr>
        <p:blipFill>
          <a:blip r:embed="rId1"/>
          <a:stretch/>
        </p:blipFill>
        <p:spPr>
          <a:xfrm>
            <a:off x="274680" y="993600"/>
            <a:ext cx="8704080" cy="55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eorgia"/>
              </a:rPr>
              <a:t>Анализ идей, эскизы лэпбука «Словари»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1" name="Picture 1" descr="C:\Documents and Settings\Admin\Рабочий стол\проект лэпбук\лэп словари\28787636.jpg"/>
          <p:cNvPicPr/>
          <p:nvPr/>
        </p:nvPicPr>
        <p:blipFill>
          <a:blip r:embed="rId1"/>
          <a:stretch/>
        </p:blipFill>
        <p:spPr>
          <a:xfrm>
            <a:off x="4857840" y="1357200"/>
            <a:ext cx="4108320" cy="28893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" descr="C:\Documents and Settings\Admin\Рабочий стол\проект лэпбук\orig_e2fe6b063c6dbe93871bbf197422e87e.jpg"/>
          <p:cNvPicPr/>
          <p:nvPr/>
        </p:nvPicPr>
        <p:blipFill>
          <a:blip r:embed="rId2"/>
          <a:stretch/>
        </p:blipFill>
        <p:spPr>
          <a:xfrm>
            <a:off x="357120" y="1571760"/>
            <a:ext cx="4032360" cy="22669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C:\Documents and Settings\Admin\Рабочий стол\14409ttt50252.jpg"/>
          <p:cNvPicPr/>
          <p:nvPr/>
        </p:nvPicPr>
        <p:blipFill>
          <a:blip r:embed="rId3"/>
          <a:stretch/>
        </p:blipFill>
        <p:spPr>
          <a:xfrm>
            <a:off x="285840" y="3929040"/>
            <a:ext cx="3514680" cy="26337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7" descr="C:\Documents and Settings\Admin\Рабочий стол\slide-1.jpg"/>
          <p:cNvPicPr/>
          <p:nvPr/>
        </p:nvPicPr>
        <p:blipFill>
          <a:blip r:embed="rId4"/>
          <a:srcRect l="5369" t="48491" r="11090" b="5667"/>
          <a:stretch/>
        </p:blipFill>
        <p:spPr>
          <a:xfrm>
            <a:off x="3887640" y="4357800"/>
            <a:ext cx="50421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eorgia"/>
              </a:rPr>
              <a:t>Как разместить материал в ЛЭПБУКЕ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Picture 4" descr="C:\Documents and Settings\Admin\Рабочий стол\i.jpeg"/>
          <p:cNvPicPr/>
          <p:nvPr/>
        </p:nvPicPr>
        <p:blipFill>
          <a:blip r:embed="rId1"/>
          <a:stretch/>
        </p:blipFill>
        <p:spPr>
          <a:xfrm>
            <a:off x="5000760" y="1571760"/>
            <a:ext cx="3000240" cy="3929040"/>
          </a:xfrm>
          <a:prstGeom prst="rect">
            <a:avLst/>
          </a:prstGeom>
          <a:ln w="0">
            <a:noFill/>
          </a:ln>
        </p:spPr>
      </p:pic>
      <p:sp>
        <p:nvSpPr>
          <p:cNvPr id="627" name="TextBox 4"/>
          <p:cNvSpPr/>
          <p:nvPr/>
        </p:nvSpPr>
        <p:spPr>
          <a:xfrm>
            <a:off x="725040" y="1714680"/>
            <a:ext cx="33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1" i="1" lang="ru-RU" sz="4000" spc="-1" strike="noStrike">
                <a:solidFill>
                  <a:srgbClr val="000000"/>
                </a:solidFill>
                <a:latin typeface="Arial Black"/>
              </a:rPr>
              <a:t>карма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5" descr="C:\Documents and Settings\Admin\Рабочий стол\2563801794.jpg"/>
          <p:cNvPicPr/>
          <p:nvPr/>
        </p:nvPicPr>
        <p:blipFill>
          <a:blip r:embed="rId2"/>
          <a:stretch/>
        </p:blipFill>
        <p:spPr>
          <a:xfrm>
            <a:off x="571680" y="3000240"/>
            <a:ext cx="4000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Как разместить материал в ЛЭПБУК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Picture 2" descr="C:\Documents and Settings\Admin\Рабочий стол\03.07.2014 15-05-43_0090.JPG"/>
          <p:cNvPicPr/>
          <p:nvPr/>
        </p:nvPicPr>
        <p:blipFill>
          <a:blip r:embed="rId1"/>
          <a:stretch/>
        </p:blipFill>
        <p:spPr>
          <a:xfrm>
            <a:off x="3786120" y="1714680"/>
            <a:ext cx="4357800" cy="4500360"/>
          </a:xfrm>
          <a:prstGeom prst="rect">
            <a:avLst/>
          </a:prstGeom>
          <a:ln w="0">
            <a:noFill/>
          </a:ln>
        </p:spPr>
      </p:pic>
      <p:sp>
        <p:nvSpPr>
          <p:cNvPr id="631" name="TextBox 4"/>
          <p:cNvSpPr/>
          <p:nvPr/>
        </p:nvSpPr>
        <p:spPr>
          <a:xfrm>
            <a:off x="918360" y="178596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. Книж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5T04:58:07Z</dcterms:created>
  <dc:creator>Admin</dc:creator>
  <dc:description/>
  <dc:language>en-US</dc:language>
  <cp:lastModifiedBy>Admin</cp:lastModifiedBy>
  <dcterms:modified xsi:type="dcterms:W3CDTF">2018-04-26T12:42:45Z</dcterms:modified>
  <cp:revision>36</cp:revision>
  <dc:subject/>
  <dc:title> МУНИЦИПАЛЬНОЕ БЮДЖЕТНОЕ ОБЩЕОБРАЗОВАТЕЛЬНОЕ УЧРЕЖДЕНИЕ  «СЕВЕРО-ЕНИСЕЙСКАЯ СРЕДНЯЯ ШКОЛА № 2» </dc:title>
</cp:coreProperties>
</file>