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wmf" ContentType="image/x-wmf"/>
  <Override PartName="/ppt/media/image3.png" ContentType="image/png"/>
  <Override PartName="/ppt/media/image10.gif" ContentType="image/gif"/>
  <Override PartName="/ppt/media/image8.wmf" ContentType="image/x-wmf"/>
  <Override PartName="/ppt/media/image7.wmf" ContentType="image/x-wmf"/>
  <Override PartName="/ppt/media/image9.wmf" ContentType="image/x-wmf"/>
  <Override PartName="/ppt/media/image6.gif" ContentType="image/gif"/>
  <Override PartName="/ppt/media/image21.gif" ContentType="image/gif"/>
  <Override PartName="/ppt/media/image19.wmf" ContentType="image/x-wmf"/>
  <Override PartName="/ppt/media/image16.gif" ContentType="image/gif"/>
  <Override PartName="/ppt/media/image1.wmf" ContentType="image/x-wmf"/>
  <Override PartName="/ppt/media/image2.png" ContentType="image/png"/>
  <Override PartName="/ppt/media/image17.gif" ContentType="image/gif"/>
  <Override PartName="/ppt/media/image15.gif" ContentType="image/gif"/>
  <Override PartName="/ppt/media/image14.gif" ContentType="image/gif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BF4-E942-44CD-B0E1-699C8FE2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BAE-45F2-4788-BCCF-0E52552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5E8-4570-406E-B002-F005188D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894-460D-43CA-AE6A-B2458C64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AD7-5A32-4D55-B379-7A523A2B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143-B9AB-4CBA-B8DA-1843158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9D1-A441-49D9-93EE-E6F98DE3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4F7-4E40-4AF7-91F7-59FCA6DE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B44-F03A-45A4-91BB-2168F04D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6A5-D60C-4FA1-BBCC-A42CC2D0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B87-A08F-4D10-9BB9-B06F9DBA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D9C-82A6-4AFB-A2BB-1029B91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AB94-8789-44FF-958D-E93AD95A9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n.org/russian/topics/humanrts/cont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Права и обязанности граждан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а: воспитатель школы-интерната ст-цы Шкуринской Хавренко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образ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мальчик"/>
          <p:cNvPicPr/>
          <p:nvPr/>
        </p:nvPicPr>
        <p:blipFill>
          <a:blip r:embed="rId1"/>
          <a:stretch/>
        </p:blipFill>
        <p:spPr>
          <a:xfrm>
            <a:off x="1258920" y="1700280"/>
            <a:ext cx="1511280" cy="2603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5003640" y="4292640"/>
            <a:ext cx="3481920" cy="1944000"/>
            <a:chOff x="5003640" y="4292640"/>
            <a:chExt cx="3481920" cy="1944000"/>
          </a:xfrm>
        </p:grpSpPr>
        <p:grpSp>
          <p:nvGrpSpPr>
            <p:cNvPr id="76" name="Group 11"/>
            <p:cNvGrpSpPr/>
            <p:nvPr/>
          </p:nvGrpSpPr>
          <p:grpSpPr>
            <a:xfrm>
              <a:off x="5861160" y="4471920"/>
              <a:ext cx="1659240" cy="1137960"/>
              <a:chOff x="5861160" y="4471920"/>
              <a:chExt cx="1659240" cy="1137960"/>
            </a:xfrm>
          </p:grpSpPr>
          <p:sp>
            <p:nvSpPr>
              <p:cNvPr id="77" name="Freeform 12"/>
              <p:cNvSpPr/>
              <p:nvPr/>
            </p:nvSpPr>
            <p:spPr>
              <a:xfrm>
                <a:off x="5938920" y="5370840"/>
                <a:ext cx="340200" cy="727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"/>
              <p:cNvSpPr/>
              <p:nvPr/>
            </p:nvSpPr>
            <p:spPr>
              <a:xfrm>
                <a:off x="5861160" y="4471920"/>
                <a:ext cx="1659240" cy="1137960"/>
              </a:xfrm>
              <a:custGeom>
                <a:avLst/>
                <a:gdLst>
                  <a:gd name="textAreaLeft" fmla="*/ 0 w 1659240"/>
                  <a:gd name="textAreaRight" fmla="*/ 1659600 w 1659240"/>
                  <a:gd name="textAreaTop" fmla="*/ 0 h 1137960"/>
                  <a:gd name="textAreaBottom" fmla="*/ 1138320 h 1137960"/>
                </a:gdLst>
                <a:ahLst/>
                <a:rect l="textAreaLeft" t="textAreaTop" r="textAreaRight" b="textAreaBottom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6001200" y="5466240"/>
                <a:ext cx="212760" cy="1231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5"/>
              <p:cNvSpPr/>
              <p:nvPr/>
            </p:nvSpPr>
            <p:spPr>
              <a:xfrm>
                <a:off x="6886440" y="5546520"/>
                <a:ext cx="26640" cy="54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6"/>
              <p:cNvSpPr/>
              <p:nvPr/>
            </p:nvSpPr>
            <p:spPr>
              <a:xfrm>
                <a:off x="6398640" y="5085720"/>
                <a:ext cx="890640" cy="451440"/>
              </a:xfrm>
              <a:custGeom>
                <a:avLst/>
                <a:gdLst>
                  <a:gd name="textAreaLeft" fmla="*/ 0 w 890640"/>
                  <a:gd name="textAreaRight" fmla="*/ 891000 w 89064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7"/>
              <p:cNvSpPr/>
              <p:nvPr/>
            </p:nvSpPr>
            <p:spPr>
              <a:xfrm>
                <a:off x="6350760" y="5411880"/>
                <a:ext cx="243000" cy="11592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8"/>
              <p:cNvSpPr/>
              <p:nvPr/>
            </p:nvSpPr>
            <p:spPr>
              <a:xfrm>
                <a:off x="6343560" y="5395320"/>
                <a:ext cx="216360" cy="9828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9"/>
              <p:cNvSpPr/>
              <p:nvPr/>
            </p:nvSpPr>
            <p:spPr>
              <a:xfrm>
                <a:off x="6368400" y="5423400"/>
                <a:ext cx="15480" cy="22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>
                <a:off x="6425280" y="5186520"/>
                <a:ext cx="239400" cy="24408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1"/>
              <p:cNvSpPr/>
              <p:nvPr/>
            </p:nvSpPr>
            <p:spPr>
              <a:xfrm>
                <a:off x="5981400" y="5264640"/>
                <a:ext cx="424080" cy="160200"/>
              </a:xfrm>
              <a:custGeom>
                <a:avLst/>
                <a:gdLst>
                  <a:gd name="textAreaLeft" fmla="*/ 0 w 424080"/>
                  <a:gd name="textAreaRight" fmla="*/ 424440 w 4240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2"/>
              <p:cNvSpPr/>
              <p:nvPr/>
            </p:nvSpPr>
            <p:spPr>
              <a:xfrm>
                <a:off x="6441480" y="5367240"/>
                <a:ext cx="134640" cy="259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3"/>
              <p:cNvSpPr/>
              <p:nvPr/>
            </p:nvSpPr>
            <p:spPr>
              <a:xfrm>
                <a:off x="5935320" y="5242320"/>
                <a:ext cx="24840" cy="128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4"/>
              <p:cNvSpPr/>
              <p:nvPr/>
            </p:nvSpPr>
            <p:spPr>
              <a:xfrm>
                <a:off x="6373800" y="5262480"/>
                <a:ext cx="56520" cy="1065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5"/>
              <p:cNvSpPr/>
              <p:nvPr/>
            </p:nvSpPr>
            <p:spPr>
              <a:xfrm>
                <a:off x="6634440" y="5257080"/>
                <a:ext cx="8640" cy="392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6"/>
              <p:cNvSpPr/>
              <p:nvPr/>
            </p:nvSpPr>
            <p:spPr>
              <a:xfrm>
                <a:off x="5972400" y="4964400"/>
                <a:ext cx="336960" cy="32436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7"/>
              <p:cNvSpPr/>
              <p:nvPr/>
            </p:nvSpPr>
            <p:spPr>
              <a:xfrm>
                <a:off x="6712560" y="5199480"/>
                <a:ext cx="509400" cy="3708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5875200" y="4949640"/>
                <a:ext cx="86760" cy="2739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5910480" y="4928760"/>
                <a:ext cx="143640" cy="25740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"/>
              <p:cNvSpPr/>
              <p:nvPr/>
            </p:nvSpPr>
            <p:spPr>
              <a:xfrm>
                <a:off x="6245640" y="5167800"/>
                <a:ext cx="12240" cy="18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1"/>
              <p:cNvSpPr/>
              <p:nvPr/>
            </p:nvSpPr>
            <p:spPr>
              <a:xfrm>
                <a:off x="6255000" y="5022360"/>
                <a:ext cx="342360" cy="160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2"/>
              <p:cNvSpPr/>
              <p:nvPr/>
            </p:nvSpPr>
            <p:spPr>
              <a:xfrm>
                <a:off x="6831720" y="5143320"/>
                <a:ext cx="56520" cy="352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3"/>
              <p:cNvSpPr/>
              <p:nvPr/>
            </p:nvSpPr>
            <p:spPr>
              <a:xfrm>
                <a:off x="6904440" y="5158440"/>
                <a:ext cx="29880" cy="18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6521040" y="5083560"/>
                <a:ext cx="200160" cy="8964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6643440" y="5132160"/>
                <a:ext cx="118800" cy="331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6892200" y="513936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6608160" y="5042520"/>
                <a:ext cx="198720" cy="78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977160" y="5064840"/>
                <a:ext cx="85320" cy="331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9"/>
              <p:cNvSpPr/>
              <p:nvPr/>
            </p:nvSpPr>
            <p:spPr>
              <a:xfrm>
                <a:off x="5944320" y="5001480"/>
                <a:ext cx="65520" cy="932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0"/>
              <p:cNvSpPr/>
              <p:nvPr/>
            </p:nvSpPr>
            <p:spPr>
              <a:xfrm>
                <a:off x="6739200" y="4958640"/>
                <a:ext cx="303480" cy="13392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1"/>
              <p:cNvSpPr/>
              <p:nvPr/>
            </p:nvSpPr>
            <p:spPr>
              <a:xfrm>
                <a:off x="7076520" y="5063400"/>
                <a:ext cx="23040" cy="183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2"/>
              <p:cNvSpPr/>
              <p:nvPr/>
            </p:nvSpPr>
            <p:spPr>
              <a:xfrm>
                <a:off x="6080760" y="4796280"/>
                <a:ext cx="339120" cy="22932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3"/>
              <p:cNvSpPr/>
              <p:nvPr/>
            </p:nvSpPr>
            <p:spPr>
              <a:xfrm>
                <a:off x="6650640" y="4527720"/>
                <a:ext cx="223560" cy="4590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4"/>
              <p:cNvSpPr/>
              <p:nvPr/>
            </p:nvSpPr>
            <p:spPr>
              <a:xfrm>
                <a:off x="6668280" y="4548240"/>
                <a:ext cx="115200" cy="411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5"/>
              <p:cNvSpPr/>
              <p:nvPr/>
            </p:nvSpPr>
            <p:spPr>
              <a:xfrm>
                <a:off x="6902640" y="4885920"/>
                <a:ext cx="88920" cy="633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6677280" y="4566960"/>
                <a:ext cx="95760" cy="3654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6877800" y="4557600"/>
                <a:ext cx="225360" cy="3693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6689880" y="4636080"/>
                <a:ext cx="38880" cy="266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5953320" y="4505040"/>
                <a:ext cx="527040" cy="3654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7115760" y="4697280"/>
                <a:ext cx="10800" cy="54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6361200" y="4563000"/>
                <a:ext cx="21240" cy="9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52"/>
            <p:cNvGrpSpPr/>
            <p:nvPr/>
          </p:nvGrpSpPr>
          <p:grpSpPr>
            <a:xfrm>
              <a:off x="5003640" y="4292640"/>
              <a:ext cx="642960" cy="1774440"/>
              <a:chOff x="5003640" y="4292640"/>
              <a:chExt cx="642960" cy="1774440"/>
            </a:xfrm>
          </p:grpSpPr>
          <p:sp>
            <p:nvSpPr>
              <p:cNvPr id="118" name="Freeform 53"/>
              <p:cNvSpPr/>
              <p:nvPr/>
            </p:nvSpPr>
            <p:spPr>
              <a:xfrm flipH="1">
                <a:off x="5050080" y="5423760"/>
                <a:ext cx="465480" cy="596160"/>
              </a:xfrm>
              <a:custGeom>
                <a:avLst/>
                <a:gdLst>
                  <a:gd name="textAreaLeft" fmla="*/ -360 w 465480"/>
                  <a:gd name="textAreaRight" fmla="*/ 465480 w 465480"/>
                  <a:gd name="textAreaTop" fmla="*/ 0 h 596160"/>
                  <a:gd name="textAreaBottom" fmla="*/ 596520 h 596160"/>
                </a:gdLst>
                <a:ahLst/>
                <a:rect l="textAreaLeft" t="textAreaTop" r="textAreaRight" b="textAreaBottom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 flipH="1">
                <a:off x="5137920" y="4346280"/>
                <a:ext cx="489600" cy="263880"/>
              </a:xfrm>
              <a:custGeom>
                <a:avLst/>
                <a:gdLst>
                  <a:gd name="textAreaLeft" fmla="*/ 360 w 489600"/>
                  <a:gd name="textAreaRight" fmla="*/ 490320 w 489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5"/>
              <p:cNvSpPr/>
              <p:nvPr/>
            </p:nvSpPr>
            <p:spPr>
              <a:xfrm flipH="1">
                <a:off x="5003640" y="4292640"/>
                <a:ext cx="642960" cy="1774440"/>
              </a:xfrm>
              <a:custGeom>
                <a:avLst/>
                <a:gdLst>
                  <a:gd name="textAreaLeft" fmla="*/ 360 w 642960"/>
                  <a:gd name="textAreaRight" fmla="*/ 643680 w 642960"/>
                  <a:gd name="textAreaTop" fmla="*/ 0 h 1774440"/>
                  <a:gd name="textAreaBottom" fmla="*/ 1774800 h 1774440"/>
                </a:gdLst>
                <a:ahLst/>
                <a:rect l="textAreaLeft" t="textAreaTop" r="textAreaRight" b="textAreaBottom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6"/>
              <p:cNvSpPr/>
              <p:nvPr/>
            </p:nvSpPr>
            <p:spPr>
              <a:xfrm flipH="1">
                <a:off x="5112000" y="5989320"/>
                <a:ext cx="284400" cy="66240"/>
              </a:xfrm>
              <a:custGeom>
                <a:avLst/>
                <a:gdLst>
                  <a:gd name="textAreaLeft" fmla="*/ 360 w 284400"/>
                  <a:gd name="textAreaRight" fmla="*/ 285120 w 2844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7"/>
              <p:cNvSpPr/>
              <p:nvPr/>
            </p:nvSpPr>
            <p:spPr>
              <a:xfrm flipH="1">
                <a:off x="5315400" y="5938920"/>
                <a:ext cx="185760" cy="73080"/>
              </a:xfrm>
              <a:custGeom>
                <a:avLst/>
                <a:gdLst>
                  <a:gd name="textAreaLeft" fmla="*/ 360 w 185760"/>
                  <a:gd name="textAreaRight" fmla="*/ 186480 w 185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8"/>
              <p:cNvSpPr/>
              <p:nvPr/>
            </p:nvSpPr>
            <p:spPr>
              <a:xfrm flipH="1">
                <a:off x="5364360" y="5524200"/>
                <a:ext cx="41760" cy="38880"/>
              </a:xfrm>
              <a:custGeom>
                <a:avLst/>
                <a:gdLst>
                  <a:gd name="textAreaLeft" fmla="*/ 0 w 41760"/>
                  <a:gd name="textAreaRight" fmla="*/ 41760 w 41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9"/>
              <p:cNvSpPr/>
              <p:nvPr/>
            </p:nvSpPr>
            <p:spPr>
              <a:xfrm flipH="1">
                <a:off x="5299200" y="5515920"/>
                <a:ext cx="51480" cy="32400"/>
              </a:xfrm>
              <a:custGeom>
                <a:avLst/>
                <a:gdLst>
                  <a:gd name="textAreaLeft" fmla="*/ -360 w 51480"/>
                  <a:gd name="textAreaRight" fmla="*/ 51480 w 514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0"/>
              <p:cNvSpPr/>
              <p:nvPr/>
            </p:nvSpPr>
            <p:spPr>
              <a:xfrm flipH="1">
                <a:off x="5205240" y="5459400"/>
                <a:ext cx="68040" cy="63000"/>
              </a:xfrm>
              <a:custGeom>
                <a:avLst/>
                <a:gdLst>
                  <a:gd name="textAreaLeft" fmla="*/ -360 w 68040"/>
                  <a:gd name="textAreaRight" fmla="*/ 68040 w 6804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1"/>
              <p:cNvSpPr/>
              <p:nvPr/>
            </p:nvSpPr>
            <p:spPr>
              <a:xfrm flipH="1">
                <a:off x="5007960" y="5013720"/>
                <a:ext cx="465480" cy="504000"/>
              </a:xfrm>
              <a:custGeom>
                <a:avLst/>
                <a:gdLst>
                  <a:gd name="textAreaLeft" fmla="*/ 0 w 465480"/>
                  <a:gd name="textAreaRight" fmla="*/ 465480 w 46548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2"/>
              <p:cNvSpPr/>
              <p:nvPr/>
            </p:nvSpPr>
            <p:spPr>
              <a:xfrm flipH="1">
                <a:off x="5128200" y="5420520"/>
                <a:ext cx="61200" cy="615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61560"/>
                  <a:gd name="textAreaBottom" fmla="*/ 61560 h 61560"/>
                </a:gdLst>
                <a:ahLst/>
                <a:rect l="textAreaLeft" t="textAreaTop" r="textAreaRight" b="textAreaBottom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3"/>
              <p:cNvSpPr/>
              <p:nvPr/>
            </p:nvSpPr>
            <p:spPr>
              <a:xfrm flipH="1">
                <a:off x="5092920" y="5384880"/>
                <a:ext cx="17280" cy="374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4"/>
              <p:cNvSpPr/>
              <p:nvPr/>
            </p:nvSpPr>
            <p:spPr>
              <a:xfrm flipH="1">
                <a:off x="5301360" y="5092920"/>
                <a:ext cx="109440" cy="3096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5"/>
              <p:cNvSpPr/>
              <p:nvPr/>
            </p:nvSpPr>
            <p:spPr>
              <a:xfrm flipH="1">
                <a:off x="5194440" y="5159520"/>
                <a:ext cx="78840" cy="82440"/>
              </a:xfrm>
              <a:custGeom>
                <a:avLst/>
                <a:gdLst>
                  <a:gd name="textAreaLeft" fmla="*/ 0 w 78840"/>
                  <a:gd name="textAreaRight" fmla="*/ 78840 w 78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 flipH="1">
                <a:off x="5213880" y="4981320"/>
                <a:ext cx="88560" cy="13896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 flipH="1">
                <a:off x="5302440" y="5034960"/>
                <a:ext cx="30600" cy="46800"/>
              </a:xfrm>
              <a:custGeom>
                <a:avLst/>
                <a:gdLst>
                  <a:gd name="textAreaLeft" fmla="*/ -360 w 30600"/>
                  <a:gd name="textAreaRight" fmla="*/ 30600 w 3060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 flipH="1">
                <a:off x="5315760" y="5007240"/>
                <a:ext cx="35280" cy="6444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 flipH="1">
                <a:off x="5392800" y="4798080"/>
                <a:ext cx="209880" cy="144000"/>
              </a:xfrm>
              <a:custGeom>
                <a:avLst/>
                <a:gdLst>
                  <a:gd name="textAreaLeft" fmla="*/ -360 w 209880"/>
                  <a:gd name="textAreaRight" fmla="*/ 209880 w 2098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 flipH="1">
                <a:off x="5176800" y="4615200"/>
                <a:ext cx="458640" cy="390240"/>
              </a:xfrm>
              <a:custGeom>
                <a:avLst/>
                <a:gdLst>
                  <a:gd name="textAreaLeft" fmla="*/ 360 w 458640"/>
                  <a:gd name="textAreaRight" fmla="*/ 459360 w 458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 flipH="1">
                <a:off x="5187600" y="4658760"/>
                <a:ext cx="90360" cy="137160"/>
              </a:xfrm>
              <a:custGeom>
                <a:avLst/>
                <a:gdLst>
                  <a:gd name="textAreaLeft" fmla="*/ -360 w 90360"/>
                  <a:gd name="textAreaRight" fmla="*/ 90360 w 903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 flipH="1">
                <a:off x="5490360" y="4548600"/>
                <a:ext cx="49680" cy="16020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 flipH="1">
                <a:off x="5566320" y="4574520"/>
                <a:ext cx="17280" cy="694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 flipH="1">
                <a:off x="5231160" y="4474080"/>
                <a:ext cx="269640" cy="160200"/>
              </a:xfrm>
              <a:custGeom>
                <a:avLst/>
                <a:gdLst>
                  <a:gd name="textAreaLeft" fmla="*/ -360 w 269640"/>
                  <a:gd name="textAreaRight" fmla="*/ 269640 w 269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 flipH="1">
                <a:off x="5270760" y="4530600"/>
                <a:ext cx="14400" cy="38880"/>
              </a:xfrm>
              <a:custGeom>
                <a:avLst/>
                <a:gdLst>
                  <a:gd name="textAreaLeft" fmla="*/ 360 w 14400"/>
                  <a:gd name="textAreaRight" fmla="*/ 15120 w 14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76"/>
            <p:cNvGrpSpPr/>
            <p:nvPr/>
          </p:nvGrpSpPr>
          <p:grpSpPr>
            <a:xfrm>
              <a:off x="6290280" y="4829760"/>
              <a:ext cx="1659240" cy="1137960"/>
              <a:chOff x="6290280" y="4829760"/>
              <a:chExt cx="1659240" cy="1137960"/>
            </a:xfrm>
          </p:grpSpPr>
          <p:sp>
            <p:nvSpPr>
              <p:cNvPr id="142" name="Freeform 77"/>
              <p:cNvSpPr/>
              <p:nvPr/>
            </p:nvSpPr>
            <p:spPr>
              <a:xfrm>
                <a:off x="6368040" y="5729040"/>
                <a:ext cx="341640" cy="7272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8"/>
              <p:cNvSpPr/>
              <p:nvPr/>
            </p:nvSpPr>
            <p:spPr>
              <a:xfrm>
                <a:off x="6290280" y="4829760"/>
                <a:ext cx="1659240" cy="1137960"/>
              </a:xfrm>
              <a:custGeom>
                <a:avLst/>
                <a:gdLst>
                  <a:gd name="textAreaLeft" fmla="*/ 0 w 1659240"/>
                  <a:gd name="textAreaRight" fmla="*/ 1659600 w 1659240"/>
                  <a:gd name="textAreaTop" fmla="*/ 0 h 1137960"/>
                  <a:gd name="textAreaBottom" fmla="*/ 1138320 h 1137960"/>
                </a:gdLst>
                <a:ahLst/>
                <a:rect l="textAreaLeft" t="textAreaTop" r="textAreaRight" b="textAreaBottom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9"/>
              <p:cNvSpPr/>
              <p:nvPr/>
            </p:nvSpPr>
            <p:spPr>
              <a:xfrm>
                <a:off x="6431040" y="5824440"/>
                <a:ext cx="212040" cy="12312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0"/>
              <p:cNvSpPr/>
              <p:nvPr/>
            </p:nvSpPr>
            <p:spPr>
              <a:xfrm>
                <a:off x="7315200" y="5904360"/>
                <a:ext cx="26640" cy="57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1"/>
              <p:cNvSpPr/>
              <p:nvPr/>
            </p:nvSpPr>
            <p:spPr>
              <a:xfrm>
                <a:off x="6828480" y="5443560"/>
                <a:ext cx="891000" cy="451440"/>
              </a:xfrm>
              <a:custGeom>
                <a:avLst/>
                <a:gdLst>
                  <a:gd name="textAreaLeft" fmla="*/ 0 w 891000"/>
                  <a:gd name="textAreaRight" fmla="*/ 891360 w 89100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2"/>
              <p:cNvSpPr/>
              <p:nvPr/>
            </p:nvSpPr>
            <p:spPr>
              <a:xfrm>
                <a:off x="6779520" y="5770080"/>
                <a:ext cx="243000" cy="11520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3"/>
              <p:cNvSpPr/>
              <p:nvPr/>
            </p:nvSpPr>
            <p:spPr>
              <a:xfrm>
                <a:off x="6772680" y="5753160"/>
                <a:ext cx="216000" cy="990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4"/>
              <p:cNvSpPr/>
              <p:nvPr/>
            </p:nvSpPr>
            <p:spPr>
              <a:xfrm>
                <a:off x="6797160" y="5781240"/>
                <a:ext cx="15480" cy="22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5"/>
              <p:cNvSpPr/>
              <p:nvPr/>
            </p:nvSpPr>
            <p:spPr>
              <a:xfrm>
                <a:off x="6855480" y="5544360"/>
                <a:ext cx="239040" cy="24444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44440"/>
                  <a:gd name="textAreaBottom" fmla="*/ 244440 h 244440"/>
                </a:gdLst>
                <a:ahLst/>
                <a:rect l="textAreaLeft" t="textAreaTop" r="textAreaRight" b="textAreaBottom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6"/>
              <p:cNvSpPr/>
              <p:nvPr/>
            </p:nvSpPr>
            <p:spPr>
              <a:xfrm>
                <a:off x="6410520" y="5622480"/>
                <a:ext cx="424440" cy="16056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6870960" y="5725440"/>
                <a:ext cx="133560" cy="2592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6364080" y="5600520"/>
                <a:ext cx="26280" cy="128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6803640" y="5620680"/>
                <a:ext cx="55440" cy="1062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7063200" y="5615280"/>
                <a:ext cx="8280" cy="388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6401520" y="5322600"/>
                <a:ext cx="337320" cy="32436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7140960" y="5557320"/>
                <a:ext cx="509400" cy="3708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6303240" y="5307480"/>
                <a:ext cx="87120" cy="2739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6339240" y="5286960"/>
                <a:ext cx="145080" cy="25704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6674040" y="552564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6683040" y="5380200"/>
                <a:ext cx="343800" cy="16020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7"/>
              <p:cNvSpPr/>
              <p:nvPr/>
            </p:nvSpPr>
            <p:spPr>
              <a:xfrm>
                <a:off x="7261560" y="5501520"/>
                <a:ext cx="55440" cy="352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8"/>
              <p:cNvSpPr/>
              <p:nvPr/>
            </p:nvSpPr>
            <p:spPr>
              <a:xfrm>
                <a:off x="7333200" y="5516280"/>
                <a:ext cx="31320" cy="18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9"/>
              <p:cNvSpPr/>
              <p:nvPr/>
            </p:nvSpPr>
            <p:spPr>
              <a:xfrm>
                <a:off x="6951240" y="5441760"/>
                <a:ext cx="198720" cy="89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0"/>
              <p:cNvSpPr/>
              <p:nvPr/>
            </p:nvSpPr>
            <p:spPr>
              <a:xfrm>
                <a:off x="7071840" y="5490000"/>
                <a:ext cx="120960" cy="3384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1"/>
              <p:cNvSpPr/>
              <p:nvPr/>
            </p:nvSpPr>
            <p:spPr>
              <a:xfrm>
                <a:off x="7322040" y="5497560"/>
                <a:ext cx="18000" cy="108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2"/>
              <p:cNvSpPr/>
              <p:nvPr/>
            </p:nvSpPr>
            <p:spPr>
              <a:xfrm>
                <a:off x="7038360" y="5400720"/>
                <a:ext cx="198720" cy="78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3"/>
              <p:cNvSpPr/>
              <p:nvPr/>
            </p:nvSpPr>
            <p:spPr>
              <a:xfrm>
                <a:off x="7407000" y="5423400"/>
                <a:ext cx="84240" cy="33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4"/>
              <p:cNvSpPr/>
              <p:nvPr/>
            </p:nvSpPr>
            <p:spPr>
              <a:xfrm>
                <a:off x="6372720" y="5359680"/>
                <a:ext cx="66600" cy="92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5"/>
              <p:cNvSpPr/>
              <p:nvPr/>
            </p:nvSpPr>
            <p:spPr>
              <a:xfrm>
                <a:off x="7167960" y="5316480"/>
                <a:ext cx="303840" cy="13428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6"/>
              <p:cNvSpPr/>
              <p:nvPr/>
            </p:nvSpPr>
            <p:spPr>
              <a:xfrm>
                <a:off x="7505280" y="5421240"/>
                <a:ext cx="24120" cy="18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"/>
              <p:cNvSpPr/>
              <p:nvPr/>
            </p:nvSpPr>
            <p:spPr>
              <a:xfrm>
                <a:off x="6511320" y="5154480"/>
                <a:ext cx="336600" cy="22932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7080840" y="4885920"/>
                <a:ext cx="223200" cy="45864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7098480" y="4906080"/>
                <a:ext cx="113760" cy="4125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7331040" y="5243760"/>
                <a:ext cx="88920" cy="633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7107840" y="4924800"/>
                <a:ext cx="93600" cy="36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65760"/>
                  <a:gd name="textAreaBottom" fmla="*/ 365760 h 365760"/>
                </a:gdLst>
                <a:ahLst/>
                <a:rect l="textAreaLeft" t="textAreaTop" r="textAreaRight" b="textAreaBottom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7306200" y="4915440"/>
                <a:ext cx="225720" cy="3693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7118640" y="4993920"/>
                <a:ext cx="39960" cy="266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6381720" y="4863600"/>
                <a:ext cx="526680" cy="36540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7545240" y="5055480"/>
                <a:ext cx="10800" cy="54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6790680" y="4920840"/>
                <a:ext cx="21960" cy="9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17"/>
            <p:cNvGrpSpPr/>
            <p:nvPr/>
          </p:nvGrpSpPr>
          <p:grpSpPr>
            <a:xfrm>
              <a:off x="6826320" y="5098680"/>
              <a:ext cx="1659240" cy="1137960"/>
              <a:chOff x="6826320" y="5098680"/>
              <a:chExt cx="1659240" cy="1137960"/>
            </a:xfrm>
          </p:grpSpPr>
          <p:sp>
            <p:nvSpPr>
              <p:cNvPr id="183" name="Freeform 118"/>
              <p:cNvSpPr/>
              <p:nvPr/>
            </p:nvSpPr>
            <p:spPr>
              <a:xfrm>
                <a:off x="6904080" y="5997960"/>
                <a:ext cx="341640" cy="7272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9"/>
              <p:cNvSpPr/>
              <p:nvPr/>
            </p:nvSpPr>
            <p:spPr>
              <a:xfrm>
                <a:off x="6826320" y="5098680"/>
                <a:ext cx="1659240" cy="1137960"/>
              </a:xfrm>
              <a:custGeom>
                <a:avLst/>
                <a:gdLst>
                  <a:gd name="textAreaLeft" fmla="*/ 0 w 1659240"/>
                  <a:gd name="textAreaRight" fmla="*/ 1659600 w 1659240"/>
                  <a:gd name="textAreaTop" fmla="*/ 0 h 1137960"/>
                  <a:gd name="textAreaBottom" fmla="*/ 1138320 h 1137960"/>
                </a:gdLst>
                <a:ahLst/>
                <a:rect l="textAreaLeft" t="textAreaTop" r="textAreaRight" b="textAreaBottom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0"/>
              <p:cNvSpPr/>
              <p:nvPr/>
            </p:nvSpPr>
            <p:spPr>
              <a:xfrm>
                <a:off x="6966360" y="6093360"/>
                <a:ext cx="212040" cy="12312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1"/>
              <p:cNvSpPr/>
              <p:nvPr/>
            </p:nvSpPr>
            <p:spPr>
              <a:xfrm>
                <a:off x="7851240" y="6173280"/>
                <a:ext cx="26640" cy="57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2"/>
              <p:cNvSpPr/>
              <p:nvPr/>
            </p:nvSpPr>
            <p:spPr>
              <a:xfrm>
                <a:off x="7364160" y="5712480"/>
                <a:ext cx="891360" cy="451440"/>
              </a:xfrm>
              <a:custGeom>
                <a:avLst/>
                <a:gdLst>
                  <a:gd name="textAreaLeft" fmla="*/ 0 w 891360"/>
                  <a:gd name="textAreaRight" fmla="*/ 891720 w 89136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3"/>
              <p:cNvSpPr/>
              <p:nvPr/>
            </p:nvSpPr>
            <p:spPr>
              <a:xfrm>
                <a:off x="7314840" y="6039000"/>
                <a:ext cx="243360" cy="1152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4"/>
              <p:cNvSpPr/>
              <p:nvPr/>
            </p:nvSpPr>
            <p:spPr>
              <a:xfrm>
                <a:off x="7308360" y="6022080"/>
                <a:ext cx="216720" cy="990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5"/>
              <p:cNvSpPr/>
              <p:nvPr/>
            </p:nvSpPr>
            <p:spPr>
              <a:xfrm>
                <a:off x="7333200" y="6050160"/>
                <a:ext cx="15480" cy="22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6"/>
              <p:cNvSpPr/>
              <p:nvPr/>
            </p:nvSpPr>
            <p:spPr>
              <a:xfrm>
                <a:off x="7390800" y="5813280"/>
                <a:ext cx="239040" cy="24444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44440"/>
                  <a:gd name="textAreaBottom" fmla="*/ 244440 h 244440"/>
                </a:gdLst>
                <a:ahLst/>
                <a:rect l="textAreaLeft" t="textAreaTop" r="textAreaRight" b="textAreaBottom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7"/>
              <p:cNvSpPr/>
              <p:nvPr/>
            </p:nvSpPr>
            <p:spPr>
              <a:xfrm>
                <a:off x="6946560" y="5891400"/>
                <a:ext cx="424440" cy="16056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8"/>
              <p:cNvSpPr/>
              <p:nvPr/>
            </p:nvSpPr>
            <p:spPr>
              <a:xfrm>
                <a:off x="7406640" y="5994360"/>
                <a:ext cx="133920" cy="2592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6899760" y="5869440"/>
                <a:ext cx="26640" cy="1285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7339680" y="5889600"/>
                <a:ext cx="55440" cy="1062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7598520" y="5884200"/>
                <a:ext cx="9000" cy="38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6937560" y="5591520"/>
                <a:ext cx="337320" cy="32436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7677000" y="5826240"/>
                <a:ext cx="509040" cy="37080"/>
              </a:xfrm>
              <a:custGeom>
                <a:avLst/>
                <a:gdLst>
                  <a:gd name="textAreaLeft" fmla="*/ 0 w 509040"/>
                  <a:gd name="textAreaRight" fmla="*/ 509400 w 5090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6839280" y="5576400"/>
                <a:ext cx="87120" cy="2739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5"/>
              <p:cNvSpPr/>
              <p:nvPr/>
            </p:nvSpPr>
            <p:spPr>
              <a:xfrm>
                <a:off x="6875280" y="5555880"/>
                <a:ext cx="144720" cy="25704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6"/>
              <p:cNvSpPr/>
              <p:nvPr/>
            </p:nvSpPr>
            <p:spPr>
              <a:xfrm>
                <a:off x="7210080" y="579456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37"/>
              <p:cNvSpPr/>
              <p:nvPr/>
            </p:nvSpPr>
            <p:spPr>
              <a:xfrm>
                <a:off x="7219080" y="5649120"/>
                <a:ext cx="343800" cy="16020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8"/>
              <p:cNvSpPr/>
              <p:nvPr/>
            </p:nvSpPr>
            <p:spPr>
              <a:xfrm>
                <a:off x="7797600" y="5770440"/>
                <a:ext cx="55440" cy="352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9"/>
              <p:cNvSpPr/>
              <p:nvPr/>
            </p:nvSpPr>
            <p:spPr>
              <a:xfrm>
                <a:off x="7869240" y="5785200"/>
                <a:ext cx="31320" cy="18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0"/>
              <p:cNvSpPr/>
              <p:nvPr/>
            </p:nvSpPr>
            <p:spPr>
              <a:xfrm>
                <a:off x="7487280" y="5710680"/>
                <a:ext cx="198360" cy="892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1"/>
              <p:cNvSpPr/>
              <p:nvPr/>
            </p:nvSpPr>
            <p:spPr>
              <a:xfrm>
                <a:off x="7607880" y="5758920"/>
                <a:ext cx="120240" cy="338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2"/>
              <p:cNvSpPr/>
              <p:nvPr/>
            </p:nvSpPr>
            <p:spPr>
              <a:xfrm>
                <a:off x="7858080" y="5766480"/>
                <a:ext cx="17640" cy="108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3"/>
              <p:cNvSpPr/>
              <p:nvPr/>
            </p:nvSpPr>
            <p:spPr>
              <a:xfrm>
                <a:off x="7574400" y="5669640"/>
                <a:ext cx="198360" cy="781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44"/>
              <p:cNvSpPr/>
              <p:nvPr/>
            </p:nvSpPr>
            <p:spPr>
              <a:xfrm>
                <a:off x="7943040" y="5692320"/>
                <a:ext cx="84240" cy="33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5"/>
              <p:cNvSpPr/>
              <p:nvPr/>
            </p:nvSpPr>
            <p:spPr>
              <a:xfrm>
                <a:off x="6908760" y="5628600"/>
                <a:ext cx="66600" cy="92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7704000" y="5585400"/>
                <a:ext cx="303120" cy="1342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8041320" y="5690160"/>
                <a:ext cx="24120" cy="18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7047000" y="5423400"/>
                <a:ext cx="337320" cy="2293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7616880" y="5154840"/>
                <a:ext cx="223200" cy="45864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7634520" y="5175000"/>
                <a:ext cx="113760" cy="4125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7867080" y="5512680"/>
                <a:ext cx="88920" cy="633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7643880" y="5193720"/>
                <a:ext cx="93600" cy="365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65760"/>
                  <a:gd name="textAreaBottom" fmla="*/ 365760 h 365760"/>
                </a:gdLst>
                <a:ahLst/>
                <a:rect l="textAreaLeft" t="textAreaTop" r="textAreaRight" b="textAreaBottom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7842240" y="5184360"/>
                <a:ext cx="225360" cy="3693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7654680" y="5262840"/>
                <a:ext cx="39960" cy="266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6917400" y="5132520"/>
                <a:ext cx="527040" cy="3654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56"/>
              <p:cNvSpPr/>
              <p:nvPr/>
            </p:nvSpPr>
            <p:spPr>
              <a:xfrm>
                <a:off x="8081280" y="5324400"/>
                <a:ext cx="10800" cy="54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57"/>
              <p:cNvSpPr/>
              <p:nvPr/>
            </p:nvSpPr>
            <p:spPr>
              <a:xfrm>
                <a:off x="7326000" y="5189760"/>
                <a:ext cx="22680" cy="90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вероиспове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j0195534"/>
          <p:cNvPicPr/>
          <p:nvPr/>
        </p:nvPicPr>
        <p:blipFill>
          <a:blip r:embed="rId1"/>
          <a:stretch/>
        </p:blipFill>
        <p:spPr>
          <a:xfrm>
            <a:off x="6102360" y="3573360"/>
            <a:ext cx="2178000" cy="26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j0300912"/>
          <p:cNvPicPr/>
          <p:nvPr/>
        </p:nvPicPr>
        <p:blipFill>
          <a:blip r:embed="rId2"/>
          <a:stretch/>
        </p:blipFill>
        <p:spPr>
          <a:xfrm>
            <a:off x="3203640" y="2781360"/>
            <a:ext cx="2519280" cy="2390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j0149407"/>
          <p:cNvPicPr/>
          <p:nvPr/>
        </p:nvPicPr>
        <p:blipFill>
          <a:blip r:embed="rId3"/>
          <a:stretch/>
        </p:blipFill>
        <p:spPr>
          <a:xfrm>
            <a:off x="684360" y="1557360"/>
            <a:ext cx="1971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леч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BABY09"/>
          <p:cNvPicPr/>
          <p:nvPr/>
        </p:nvPicPr>
        <p:blipFill>
          <a:blip r:embed="rId1"/>
          <a:stretch/>
        </p:blipFill>
        <p:spPr>
          <a:xfrm>
            <a:off x="2195640" y="1832040"/>
            <a:ext cx="43210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611280" y="47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На отд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j0285698"/>
          <p:cNvPicPr/>
          <p:nvPr/>
        </p:nvPicPr>
        <p:blipFill>
          <a:blip r:embed="rId1"/>
          <a:stretch/>
        </p:blipFill>
        <p:spPr>
          <a:xfrm>
            <a:off x="2484360" y="1773360"/>
            <a:ext cx="406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какие ещё права знаешь 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J0288870"/>
          <p:cNvPicPr/>
          <p:nvPr/>
        </p:nvPicPr>
        <p:blipFill>
          <a:blip r:embed="rId1"/>
          <a:stretch/>
        </p:blipFill>
        <p:spPr>
          <a:xfrm>
            <a:off x="3419640" y="2637000"/>
            <a:ext cx="2641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50920" y="549360"/>
            <a:ext cx="8659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ле Великой Отечественной войны был принят документ, заменяющий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ловека. –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«Декларация прав человека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общем собрании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 декабря 1948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0 декабр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тмечается как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ень прав челове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www.un.org/russian/topics/humanrts/cov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3141720"/>
            <a:ext cx="2797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95280" y="189000"/>
            <a:ext cx="84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Как только дети появляются на свет, то они сразу находятся под защитой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4"/>
          <p:cNvPicPr/>
          <p:nvPr/>
        </p:nvPicPr>
        <p:blipFill>
          <a:blip r:embed="rId1"/>
          <a:stretch/>
        </p:blipFill>
        <p:spPr>
          <a:xfrm>
            <a:off x="4284720" y="3500280"/>
            <a:ext cx="228420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5"/>
          <p:cNvGrpSpPr/>
          <p:nvPr/>
        </p:nvGrpSpPr>
        <p:grpSpPr>
          <a:xfrm>
            <a:off x="3132000" y="2349360"/>
            <a:ext cx="4751280" cy="1727280"/>
            <a:chOff x="3132000" y="2349360"/>
            <a:chExt cx="4751280" cy="1727280"/>
          </a:xfrm>
        </p:grpSpPr>
        <p:grpSp>
          <p:nvGrpSpPr>
            <p:cNvPr id="238" name="Group 9"/>
            <p:cNvGrpSpPr/>
            <p:nvPr/>
          </p:nvGrpSpPr>
          <p:grpSpPr>
            <a:xfrm>
              <a:off x="3132000" y="2852280"/>
              <a:ext cx="4751280" cy="1224360"/>
              <a:chOff x="3132000" y="2852280"/>
              <a:chExt cx="4751280" cy="1224360"/>
            </a:xfrm>
          </p:grpSpPr>
          <p:cxnSp>
            <p:nvCxnSpPr>
              <p:cNvPr id="239" name="AutoShape 7"/>
              <p:cNvCxnSpPr/>
              <p:nvPr/>
            </p:nvCxnSpPr>
            <p:spPr>
              <a:xfrm flipV="1">
                <a:off x="3132000" y="2852280"/>
                <a:ext cx="2304000" cy="1152720"/>
              </a:xfrm>
              <a:prstGeom prst="straightConnector1">
                <a:avLst/>
              </a:prstGeom>
              <a:ln w="73080">
                <a:solidFill>
                  <a:srgbClr val="ff0000"/>
                </a:solidFill>
                <a:miter/>
              </a:ln>
            </p:spPr>
          </p:cxnSp>
          <p:cxnSp>
            <p:nvCxnSpPr>
              <p:cNvPr id="240" name="AutoShape 8"/>
              <p:cNvCxnSpPr/>
              <p:nvPr/>
            </p:nvCxnSpPr>
            <p:spPr>
              <a:xfrm flipH="1" flipV="1">
                <a:off x="5434920" y="2852280"/>
                <a:ext cx="2448720" cy="1224720"/>
              </a:xfrm>
              <a:prstGeom prst="straightConnector1">
                <a:avLst/>
              </a:prstGeom>
              <a:ln w="73080">
                <a:solidFill>
                  <a:srgbClr val="ff0000"/>
                </a:solidFill>
                <a:miter/>
              </a:ln>
            </p:spPr>
          </p:cxnSp>
        </p:grpSp>
        <p:grpSp>
          <p:nvGrpSpPr>
            <p:cNvPr id="241" name="Group 14"/>
            <p:cNvGrpSpPr/>
            <p:nvPr/>
          </p:nvGrpSpPr>
          <p:grpSpPr>
            <a:xfrm>
              <a:off x="6156360" y="2349360"/>
              <a:ext cx="647640" cy="1079280"/>
              <a:chOff x="6156360" y="2349360"/>
              <a:chExt cx="647640" cy="1079280"/>
            </a:xfrm>
          </p:grpSpPr>
          <p:sp>
            <p:nvSpPr>
              <p:cNvPr id="242" name="Line 10"/>
              <p:cNvSpPr/>
              <p:nvPr/>
            </p:nvSpPr>
            <p:spPr>
              <a:xfrm>
                <a:off x="6301080" y="2565000"/>
                <a:ext cx="0" cy="719280"/>
              </a:xfrm>
              <a:prstGeom prst="line">
                <a:avLst/>
              </a:prstGeom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1"/>
              <p:cNvSpPr/>
              <p:nvPr/>
            </p:nvSpPr>
            <p:spPr>
              <a:xfrm>
                <a:off x="6661440" y="2565000"/>
                <a:ext cx="0" cy="863640"/>
              </a:xfrm>
              <a:prstGeom prst="line">
                <a:avLst/>
              </a:prstGeom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2"/>
              <p:cNvSpPr/>
              <p:nvPr/>
            </p:nvSpPr>
            <p:spPr>
              <a:xfrm>
                <a:off x="6301080" y="2565000"/>
                <a:ext cx="360360" cy="0"/>
              </a:xfrm>
              <a:prstGeom prst="line">
                <a:avLst/>
              </a:prstGeom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3"/>
              <p:cNvSpPr/>
              <p:nvPr/>
            </p:nvSpPr>
            <p:spPr>
              <a:xfrm>
                <a:off x="6156360" y="2349360"/>
                <a:ext cx="647640" cy="215640"/>
              </a:xfrm>
              <a:prstGeom prst="rect">
                <a:avLst/>
              </a:prstGeom>
              <a:solidFill>
                <a:srgbClr val="ffffff">
                  <a:alpha val="1000"/>
                </a:srgbClr>
              </a:solidFill>
              <a:ln w="792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WordArt 16"/>
          <p:cNvSpPr txBox="1"/>
          <p:nvPr/>
        </p:nvSpPr>
        <p:spPr>
          <a:xfrm>
            <a:off x="2484360" y="2637000"/>
            <a:ext cx="5761080" cy="26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2999281"/>
                <a:gd name="adj2" fmla="val 56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Century Schoolbook"/>
              </a:rPr>
              <a:t>государство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ашем государстве действу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щищающие права ребён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важный документ –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нвенция о правах ребёнка.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венция закрепляет равные права детей и подростков, не достигших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8 лет,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состоит из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4 стате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office10"/>
          <p:cNvPicPr/>
          <p:nvPr/>
        </p:nvPicPr>
        <p:blipFill>
          <a:blip r:embed="rId1"/>
          <a:stretch/>
        </p:blipFill>
        <p:spPr>
          <a:xfrm>
            <a:off x="2771640" y="3789360"/>
            <a:ext cx="3168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бёнок – это каждый человек в мире не достигший 1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g5_05[1]"/>
          <p:cNvPicPr/>
          <p:nvPr/>
        </p:nvPicPr>
        <p:blipFill>
          <a:blip r:embed="rId1"/>
          <a:stretch/>
        </p:blipFill>
        <p:spPr>
          <a:xfrm>
            <a:off x="2340000" y="3141720"/>
            <a:ext cx="41050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ждый ребёнок имеет право на жизнь и разви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human118"/>
          <p:cNvPicPr/>
          <p:nvPr/>
        </p:nvPicPr>
        <p:blipFill>
          <a:blip r:embed="rId1"/>
          <a:stretch/>
        </p:blipFill>
        <p:spPr>
          <a:xfrm>
            <a:off x="611280" y="306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komp37"/>
          <p:cNvPicPr/>
          <p:nvPr/>
        </p:nvPicPr>
        <p:blipFill>
          <a:blip r:embed="rId2"/>
          <a:stretch/>
        </p:blipFill>
        <p:spPr>
          <a:xfrm>
            <a:off x="4140360" y="3241800"/>
            <a:ext cx="34560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: дать представление о государственном устройстве страны; об основных документах, защищающих права гражд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24000" y="119700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ебёнок не должен жить отдельно от своих родителей против своего желания, кроме как в случае, когда это грозит его интере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j0216724"/>
          <p:cNvPicPr/>
          <p:nvPr/>
        </p:nvPicPr>
        <p:blipFill>
          <a:blip r:embed="rId1"/>
          <a:stretch/>
        </p:blipFill>
        <p:spPr>
          <a:xfrm>
            <a:off x="3267000" y="4292640"/>
            <a:ext cx="1774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28 и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68360" y="105264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бёнок имеет право на бесплатное начальное образование. Обучение обязано подготовить ребёнка к жизни, развивать в нём уважение к правам человека и воспитывать в духе понимания мира, терпимости и дружбы между на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BAL-LIG"/>
          <p:cNvPicPr/>
          <p:nvPr/>
        </p:nvPicPr>
        <p:blipFill>
          <a:blip r:embed="rId1"/>
          <a:stretch/>
        </p:blipFill>
        <p:spPr>
          <a:xfrm>
            <a:off x="3203640" y="4437000"/>
            <a:ext cx="2376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татья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400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ждый ребёнок имеет право на игры, отдых и досу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human104"/>
          <p:cNvPicPr/>
          <p:nvPr/>
        </p:nvPicPr>
        <p:blipFill>
          <a:blip r:embed="rId1"/>
          <a:stretch/>
        </p:blipFill>
        <p:spPr>
          <a:xfrm>
            <a:off x="2843280" y="2852640"/>
            <a:ext cx="27162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4"/>
          <p:cNvSpPr txBox="1"/>
          <p:nvPr/>
        </p:nvSpPr>
        <p:spPr>
          <a:xfrm>
            <a:off x="395280" y="33336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Обязанности граждан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76200" y="179064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о предоставляет нам права, но гражданин имеет и обязанности, которые должен выполн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от некоторые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жданин должен уважать законы госуда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жданин должен честно труд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ажданин должен защищать свою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6"/>
          <p:cNvSpPr txBox="1"/>
          <p:nvPr/>
        </p:nvSpPr>
        <p:spPr>
          <a:xfrm>
            <a:off x="1258920" y="3789360"/>
            <a:ext cx="65912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А какие обязанности имеешь ты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  <p:pic>
        <p:nvPicPr>
          <p:cNvPr id="268" name="Picture 7" descr="J0288870"/>
          <p:cNvPicPr/>
          <p:nvPr/>
        </p:nvPicPr>
        <p:blipFill>
          <a:blip r:embed="rId1"/>
          <a:stretch/>
        </p:blipFill>
        <p:spPr>
          <a:xfrm>
            <a:off x="3635280" y="4437000"/>
            <a:ext cx="1541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1619280" y="1052640"/>
            <a:ext cx="56293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Благодарю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за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Schoolbook"/>
              </a:rPr>
              <a:t>Внимание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переводе с латинского «федерация» означает «союз», «объедине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остав Российской Федерации входят республики, края, обла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8"/>
          <p:cNvSpPr/>
          <p:nvPr/>
        </p:nvSpPr>
        <p:spPr>
          <a:xfrm>
            <a:off x="250920" y="476280"/>
            <a:ext cx="871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Название нашего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государства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-  </a:t>
            </a: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Россия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оссийская Федерац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им это в виде 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5"/>
          <p:cNvGrpSpPr/>
          <p:nvPr/>
        </p:nvGrpSpPr>
        <p:grpSpPr>
          <a:xfrm>
            <a:off x="826920" y="1341360"/>
            <a:ext cx="7490160" cy="935280"/>
            <a:chOff x="826920" y="1341360"/>
            <a:chExt cx="7490160" cy="935280"/>
          </a:xfrm>
        </p:grpSpPr>
        <p:sp>
          <p:nvSpPr>
            <p:cNvPr id="49" name="Rectangle 23"/>
            <p:cNvSpPr/>
            <p:nvPr/>
          </p:nvSpPr>
          <p:spPr>
            <a:xfrm>
              <a:off x="826920" y="1341360"/>
              <a:ext cx="7490160" cy="935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WordArt 28"/>
            <p:cNvSpPr txBox="1"/>
            <p:nvPr/>
          </p:nvSpPr>
          <p:spPr>
            <a:xfrm>
              <a:off x="1042920" y="1484280"/>
              <a:ext cx="70581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Российская федераци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grpSp>
        <p:nvGrpSpPr>
          <p:cNvPr id="51" name="Group 36"/>
          <p:cNvGrpSpPr/>
          <p:nvPr/>
        </p:nvGrpSpPr>
        <p:grpSpPr>
          <a:xfrm>
            <a:off x="1258920" y="2708280"/>
            <a:ext cx="6624720" cy="934920"/>
            <a:chOff x="1258920" y="2708280"/>
            <a:chExt cx="6624720" cy="934920"/>
          </a:xfrm>
        </p:grpSpPr>
        <p:sp>
          <p:nvSpPr>
            <p:cNvPr id="52" name="Rectangle 25"/>
            <p:cNvSpPr/>
            <p:nvPr/>
          </p:nvSpPr>
          <p:spPr>
            <a:xfrm>
              <a:off x="1258920" y="2708280"/>
              <a:ext cx="6624720" cy="93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WordArt 29"/>
            <p:cNvSpPr txBox="1"/>
            <p:nvPr/>
          </p:nvSpPr>
          <p:spPr>
            <a:xfrm>
              <a:off x="1332000" y="2924280"/>
              <a:ext cx="64087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Республики</a:t>
              </a:r>
              <a:endPara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grpSp>
        <p:nvGrpSpPr>
          <p:cNvPr id="54" name="Group 37"/>
          <p:cNvGrpSpPr/>
          <p:nvPr/>
        </p:nvGrpSpPr>
        <p:grpSpPr>
          <a:xfrm>
            <a:off x="1908000" y="4005360"/>
            <a:ext cx="5616720" cy="934920"/>
            <a:chOff x="1908000" y="4005360"/>
            <a:chExt cx="5616720" cy="934920"/>
          </a:xfrm>
        </p:grpSpPr>
        <p:sp>
          <p:nvSpPr>
            <p:cNvPr id="55" name="Rectangle 26"/>
            <p:cNvSpPr/>
            <p:nvPr/>
          </p:nvSpPr>
          <p:spPr>
            <a:xfrm>
              <a:off x="1908000" y="4005360"/>
              <a:ext cx="5616720" cy="93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WordArt 30"/>
            <p:cNvSpPr txBox="1"/>
            <p:nvPr/>
          </p:nvSpPr>
          <p:spPr>
            <a:xfrm>
              <a:off x="3059280" y="4221000"/>
              <a:ext cx="33145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Края</a:t>
              </a:r>
              <a:endParaRPr b="0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grpSp>
        <p:nvGrpSpPr>
          <p:cNvPr id="57" name="Group 38"/>
          <p:cNvGrpSpPr/>
          <p:nvPr/>
        </p:nvGrpSpPr>
        <p:grpSpPr>
          <a:xfrm>
            <a:off x="2268360" y="5300640"/>
            <a:ext cx="4824720" cy="934920"/>
            <a:chOff x="2268360" y="5300640"/>
            <a:chExt cx="4824720" cy="934920"/>
          </a:xfrm>
        </p:grpSpPr>
        <p:sp>
          <p:nvSpPr>
            <p:cNvPr id="58" name="Rectangle 27"/>
            <p:cNvSpPr/>
            <p:nvPr/>
          </p:nvSpPr>
          <p:spPr>
            <a:xfrm>
              <a:off x="2268360" y="5300640"/>
              <a:ext cx="4824720" cy="93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WordArt 31"/>
            <p:cNvSpPr txBox="1"/>
            <p:nvPr/>
          </p:nvSpPr>
          <p:spPr>
            <a:xfrm>
              <a:off x="2556000" y="5516640"/>
              <a:ext cx="417672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Century Schoolbook"/>
                </a:rPr>
                <a:t>Области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entury Schoolbook"/>
                <a:ea typeface="Century Schoolbook"/>
              </a:endParaRPr>
            </a:p>
          </p:txBody>
        </p:sp>
      </p:grpSp>
      <p:cxnSp>
        <p:nvCxnSpPr>
          <p:cNvPr id="60" name="AutoShape 32"/>
          <p:cNvCxnSpPr/>
          <p:nvPr/>
        </p:nvCxnSpPr>
        <p:spPr>
          <a:xfrm>
            <a:off x="4716000" y="2276280"/>
            <a:ext cx="2520" cy="43236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61" name="AutoShape 33"/>
          <p:cNvCxnSpPr>
            <a:endCxn id="55" idx="0"/>
          </p:cNvCxnSpPr>
          <p:nvPr/>
        </p:nvCxnSpPr>
        <p:spPr>
          <a:xfrm>
            <a:off x="4716000" y="364464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62" name="AutoShape 34"/>
          <p:cNvCxnSpPr>
            <a:stCxn id="55" idx="2"/>
          </p:cNvCxnSpPr>
          <p:nvPr/>
        </p:nvCxnSpPr>
        <p:spPr>
          <a:xfrm>
            <a:off x="4716000" y="4939920"/>
            <a:ext cx="252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5186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                  </a:t>
            </a: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«В некотором царстве,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                    </a:t>
            </a:r>
            <a:r>
              <a:rPr b="0" lang="ru-RU" sz="4000" spc="-1" strike="noStrike">
                <a:solidFill>
                  <a:srgbClr val="008000"/>
                </a:solidFill>
                <a:latin typeface="Monotype Corsiva"/>
              </a:rPr>
              <a:t>некотором государстве жил – был король…».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090386"/>
          <p:cNvPicPr/>
          <p:nvPr/>
        </p:nvPicPr>
        <p:blipFill>
          <a:blip r:embed="rId1"/>
          <a:stretch/>
        </p:blipFill>
        <p:spPr>
          <a:xfrm>
            <a:off x="539640" y="2205000"/>
            <a:ext cx="3168720" cy="271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i5386"/>
          <p:cNvPicPr/>
          <p:nvPr/>
        </p:nvPicPr>
        <p:blipFill>
          <a:blip r:embed="rId2"/>
          <a:stretch/>
        </p:blipFill>
        <p:spPr>
          <a:xfrm>
            <a:off x="5219640" y="2924280"/>
            <a:ext cx="31957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376200" y="208080"/>
            <a:ext cx="8488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Monotype Corsiva"/>
              </a:rPr>
              <a:t>В давние времена почти всеми странами правил царь или король, вла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Monotype Corsiva"/>
              </a:rPr>
              <a:t>которых передавалась по наследству. И были они либо добрыми, либо жес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Monotype Corsiva"/>
              </a:rPr>
              <a:t>токими, но всё в государстве делалось так,  как они приказы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b5d168i"/>
          <p:cNvPicPr/>
          <p:nvPr/>
        </p:nvPicPr>
        <p:blipFill>
          <a:blip r:embed="rId1"/>
          <a:stretch/>
        </p:blipFill>
        <p:spPr>
          <a:xfrm>
            <a:off x="395280" y="2997360"/>
            <a:ext cx="3065400" cy="341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petr1i"/>
          <p:cNvPicPr/>
          <p:nvPr/>
        </p:nvPicPr>
        <p:blipFill>
          <a:blip r:embed="rId2"/>
          <a:stretch/>
        </p:blipFill>
        <p:spPr>
          <a:xfrm>
            <a:off x="4788000" y="2997360"/>
            <a:ext cx="312876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189000"/>
            <a:ext cx="823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рошло время, и народы многих стран решили отказаться от так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равления, свергли монархию и стали избирать правительство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Ленин10"/>
          <p:cNvPicPr/>
          <p:nvPr/>
        </p:nvPicPr>
        <p:blipFill>
          <a:blip r:embed="rId1"/>
          <a:stretch/>
        </p:blipFill>
        <p:spPr>
          <a:xfrm>
            <a:off x="3492360" y="1989000"/>
            <a:ext cx="34243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95280" y="257040"/>
            <a:ext cx="8464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ыбранное правительство обязано было управлять делами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сполняя законы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сновным законом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шей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страны является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Конституция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Конституция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лово латинское и обозначает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«устрой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на определяет  какие обязанности несут рядовые граждане и какие права им должно обеспечить госуд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000"/>
                </a:solidFill>
                <a:latin typeface="Century Schoolbook"/>
              </a:rPr>
              <a:t>Граждане</a:t>
            </a:r>
            <a:r>
              <a:rPr b="1" lang="ru-RU" sz="88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Century Schoolbook"/>
              </a:rPr>
              <a:t>России</a:t>
            </a:r>
            <a:r>
              <a:rPr b="1" lang="ru-RU" sz="88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008000"/>
                </a:solidFill>
                <a:latin typeface="Century Schoolbook"/>
              </a:rPr>
              <a:t>имеют</a:t>
            </a:r>
            <a:r>
              <a:rPr b="1" lang="ru-RU" sz="88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Century Schoolbook"/>
              </a:rPr>
              <a:t>прав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48:43Z</dcterms:created>
  <dc:creator>Терентьев</dc:creator>
  <dc:description/>
  <dc:language>en-US</dc:language>
  <cp:lastModifiedBy>Елена хавренко</cp:lastModifiedBy>
  <dcterms:modified xsi:type="dcterms:W3CDTF">2020-04-06T23:26:22Z</dcterms:modified>
  <cp:revision>11</cp:revision>
  <dc:subject/>
  <dc:title>Тема: Права и обязанности граждан России</dc:title>
</cp:coreProperties>
</file>