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7CF-AB30-48BA-8FE2-2A669C2E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12E-06D3-42B1-B91F-77E4DFAB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F3A-00CD-40B6-A770-8F10911B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7EC-62CE-497F-84BE-CBB39194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525E-706A-4E83-8BE1-ED221A77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036C-3E66-4572-AF4A-8B80E1C3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5059-E760-499E-A754-288A61EA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8590-CA8B-43BB-9F58-FC77E918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1EBE-B64E-4F4B-B8E6-BB091377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0271-D925-46B6-B395-7009AAF6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47B3-6578-404E-9290-23471E95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90D-879A-46AB-AFB2-A3C6BBA7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42E5-82FD-43F4-B724-9F82FBE2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448E-F5DF-4A71-BE92-6CA4AB08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1EF7-79A2-4DE6-962F-1A2A9511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E2AD-8AD7-4601-BA3A-87EA49F2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D7EC-8198-4748-B15B-5C085B2B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08D6D-0C6E-4FA7-BE92-EAA1CB64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10E80-30C2-43F9-BED4-9FA92819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9E840-BDCC-4525-AA48-F70BF67E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61811-DFA9-44F7-91F3-E09B2213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3D26-59A5-4869-A147-73D38833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EB3-E62E-4703-91F9-C1923D20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69D0A-7F6A-4029-B928-E6D3170C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0BAD7-8BE0-4169-B8B6-B9B71C8C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83F2-9459-4E1B-B768-1ADF9935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95E68-9EC9-4FDB-A543-56DCBE39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AF752-512E-42F6-B7EE-2AAC94D1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8F077-FC02-4900-9EBE-C165EE06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755F-92D5-4158-B28B-0ECD9B5B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8C8DC-19EF-4AA2-B427-BC6C3182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EFB30-44DD-4797-84A6-192FFAC1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2FDFA-F16B-42F4-B408-C55AB545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722-A49C-4104-ABB7-60228C19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64D65-8DB1-427E-B98F-224EEC37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F238A-2F42-488D-A086-DF33FF81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3E0E8-3C31-4C31-B2F3-453FF39E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D8C8D-67C9-4305-AAA9-9C15C107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C3025-C8DD-45A4-B4EF-6856502D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7FF45-8768-4B11-89DD-EFEE74E8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4023C-3A0E-4280-B2F4-27763F18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0F0CA-BF17-4BC9-952F-961D3BA3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D010E-83CA-4BF3-9CD7-1E6EAEA6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5A660-C3BA-4148-AB57-AA4F02A7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FAF-8799-4242-9373-E09C1877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0D9B9-C57D-4CF5-B42C-F220E0EA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0922F-6695-4270-8F2F-0CB0C0F5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3C74A-F2E9-49AB-AD47-C8D01387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BCBED-4344-42F7-8CB9-022B1A1A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BFA63-F3D7-4F40-BD89-57D80C49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987AC-044F-4A24-BFDF-3AC388C7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DBCF0-6B14-485C-9F5E-70A3AA31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6ADC8-3D96-4701-AE7C-AEBF5804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3EB52-445A-49D4-9631-FE39D9F1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25C5D-268C-4199-A834-49B75484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A4F-D3DB-4C0C-86F0-D60DF71E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D2A13-88FB-4285-A84F-20FC5C65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AA81D-B57F-4CAF-BB11-657CA4CC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84BC3-A328-4FE3-A23E-7AF0476B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AC219-6843-4E80-82CD-E225C0A7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04B67-D787-433D-BF5F-CD872991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30AF6-DDF2-4B3A-8550-460D83B6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42F58-3D64-49E3-ACB3-A250ACC7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8F592-C2C0-4B01-8FC7-FEE006D7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CE35B-0980-478D-A93C-BDA046EE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C1999-9879-4A20-A20D-B6F92E11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665-6E92-455F-951D-63EC13AD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8657A-9226-49BE-956D-FFCAFFA5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2A90C-0ADD-4508-ABE9-3CDD5D9A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BA1B5-B89F-4B41-84A9-A0D48439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E6213-F238-482F-8D8F-5FE77694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F3EFD-C7C9-4231-BAB4-9715F445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F5D37-BC62-4296-81FC-0336705D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63598-B912-48D2-BE2C-0AC68EE0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2D412-B732-4911-9053-B9F72987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5CF69-B83A-472B-BB1E-97D9F1A1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246E1-88CE-44D2-B8F7-40974948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C2C-173B-480F-86E1-F08C1583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E1D37-529A-4719-B4E9-3F498D70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0E5D8-E890-4E20-878C-E1497916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854E1-8E2C-4BE5-B378-852C0D94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84B02-45D3-49E7-8006-638E76C1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68B7E-24EB-4779-981A-4E48D179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53A-8438-48F3-B31D-B70DABA4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CA9A-99D2-41E6-963E-1ECB83C48CC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ED26-1106-4A66-AEBE-B6868867379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1036-2529-48E1-B75F-3C324F57D79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5DDA-527E-4E43-8C2B-D93350AC262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FB8C-259A-4401-9AC6-75B94889B8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DE68-E917-4F4F-8896-56DF9BB2F1C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7D79-DCCE-462D-BF93-D4A180A5D89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572314"/>
                </a:solidFill>
                <a:latin typeface="Times New Roman"/>
              </a:rPr>
              <a:t>ПРИМЕНЕНИЕ ЛЕКАРСТВЕННЫХ СРЕДСТВ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90360" y="1609920"/>
            <a:ext cx="7596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Рисунок 4" descr="1rcfehae62"/>
          <p:cNvPicPr/>
          <p:nvPr/>
        </p:nvPicPr>
        <p:blipFill>
          <a:blip r:embed="rId1"/>
          <a:stretch/>
        </p:blipFill>
        <p:spPr>
          <a:xfrm>
            <a:off x="5029200" y="1981080"/>
            <a:ext cx="3695760" cy="381024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5" descr="lekarstv_sred"/>
          <p:cNvPicPr/>
          <p:nvPr/>
        </p:nvPicPr>
        <p:blipFill>
          <a:blip r:embed="rId2"/>
          <a:srcRect l="-2175" t="16667" r="0" b="0"/>
          <a:stretch/>
        </p:blipFill>
        <p:spPr>
          <a:xfrm>
            <a:off x="533520" y="2743200"/>
            <a:ext cx="356868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Недостатки способа введения </a:t>
            </a: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per os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143000" y="1397160"/>
          <a:ext cx="7315200" cy="500364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50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  <p:sp>
        <p:nvSpPr>
          <p:cNvPr id="371" name="Прямоугольник 5"/>
          <p:cNvSpPr/>
          <p:nvPr/>
        </p:nvSpPr>
        <p:spPr>
          <a:xfrm>
            <a:off x="1219320" y="1523880"/>
            <a:ext cx="3352680" cy="1905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1. Ограничение возможности применения состоянием больног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16"/>
                </a:solidFill>
                <a:latin typeface="Arial"/>
              </a:rPr>
              <a:t>- потеря сознания, судороги, травмы, ожоги, возрастные особ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4952880" y="1523880"/>
            <a:ext cx="3429000" cy="1905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1105"/>
                </a:solidFill>
                <a:latin typeface="Corbel"/>
              </a:rPr>
              <a:t>3. Изменение активности лекарственных сред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105"/>
                </a:solidFill>
                <a:latin typeface="Corbel"/>
              </a:rPr>
              <a:t>- при взаимодействии с  компонентами продуктов питания и одновременно принятыми лекар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7"/>
          <p:cNvSpPr/>
          <p:nvPr/>
        </p:nvSpPr>
        <p:spPr>
          <a:xfrm>
            <a:off x="1219320" y="3886200"/>
            <a:ext cx="3352680" cy="2286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1105"/>
                </a:solidFill>
                <a:latin typeface="Corbel"/>
              </a:rPr>
              <a:t>2. Снижение активности лекарственных средств (биодоступ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1105"/>
                </a:solidFill>
                <a:latin typeface="Corbel"/>
              </a:rPr>
              <a:t>под воздействие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105"/>
                </a:solidFill>
                <a:latin typeface="Corbel"/>
              </a:rPr>
              <a:t>- ферментов печени, желудочного сока и др. пищеварительных ферментов 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8"/>
          <p:cNvSpPr/>
          <p:nvPr/>
        </p:nvSpPr>
        <p:spPr>
          <a:xfrm>
            <a:off x="4952880" y="3886200"/>
            <a:ext cx="3429000" cy="2286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1105"/>
                </a:solidFill>
                <a:latin typeface="Corbel"/>
              </a:rPr>
              <a:t>4. Агрессивное воздействие на слизистую ЖКТ некоторых препар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1105"/>
                </a:solidFill>
                <a:latin typeface="Corbel"/>
              </a:rPr>
              <a:t>- ацетилсалициловая кислота раздражает слизистую желудка вплоть до изъязвления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Факторы, определяющие эффективность препаратов при пероральном введении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cxnSp>
        <p:nvCxnSpPr>
          <p:cNvPr id="376" name="Прямая со стрелкой 3"/>
          <p:cNvCxnSpPr/>
          <p:nvPr/>
        </p:nvCxnSpPr>
        <p:spPr>
          <a:xfrm flipH="1">
            <a:off x="1371240" y="1371240"/>
            <a:ext cx="1829520" cy="610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7" name="Прямая со стрелкой 5"/>
          <p:cNvCxnSpPr/>
          <p:nvPr/>
        </p:nvCxnSpPr>
        <p:spPr>
          <a:xfrm flipH="1">
            <a:off x="3200040" y="1312920"/>
            <a:ext cx="381600" cy="13723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8" name="Прямая со стрелкой 7"/>
          <p:cNvCxnSpPr/>
          <p:nvPr/>
        </p:nvCxnSpPr>
        <p:spPr>
          <a:xfrm>
            <a:off x="4723920" y="1294920"/>
            <a:ext cx="1080" cy="2667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9" name="Прямая со стрелкой 9"/>
          <p:cNvCxnSpPr/>
          <p:nvPr/>
        </p:nvCxnSpPr>
        <p:spPr>
          <a:xfrm>
            <a:off x="5791320" y="1371240"/>
            <a:ext cx="226080" cy="13136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0" name="Прямая со стрелкой 12"/>
          <p:cNvCxnSpPr/>
          <p:nvPr/>
        </p:nvCxnSpPr>
        <p:spPr>
          <a:xfrm>
            <a:off x="6171840" y="1294920"/>
            <a:ext cx="1677240" cy="686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81" name="Скругленный прямоугольник 13"/>
          <p:cNvSpPr/>
          <p:nvPr/>
        </p:nvSpPr>
        <p:spPr>
          <a:xfrm>
            <a:off x="0" y="203184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ремя приема лекарства в зависимости от приема пи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кругленный прямоугольник 14"/>
          <p:cNvSpPr/>
          <p:nvPr/>
        </p:nvSpPr>
        <p:spPr>
          <a:xfrm>
            <a:off x="1447920" y="3002040"/>
            <a:ext cx="2666880" cy="134136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Особенности препаратов, одновременно поступающих в организм (полипрагмазия – прием нескольких препарат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кругленный прямоугольник 16"/>
          <p:cNvSpPr/>
          <p:nvPr/>
        </p:nvSpPr>
        <p:spPr>
          <a:xfrm>
            <a:off x="3409920" y="4491000"/>
            <a:ext cx="2629080" cy="53352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Состав употребляемой пи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Скругленный прямоугольник 17"/>
          <p:cNvSpPr/>
          <p:nvPr/>
        </p:nvSpPr>
        <p:spPr>
          <a:xfrm>
            <a:off x="4987800" y="2819520"/>
            <a:ext cx="2057400" cy="85392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Физико – химические свойства препар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кругленный прямоугольник 19"/>
          <p:cNvSpPr/>
          <p:nvPr/>
        </p:nvSpPr>
        <p:spPr>
          <a:xfrm>
            <a:off x="7238880" y="213372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Механизм действия препар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846144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При пероральном введение лекарственных средств   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необходимо учитывать воздействие на них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cxnSp>
        <p:nvCxnSpPr>
          <p:cNvPr id="387" name="Прямая со стрелкой 3"/>
          <p:cNvCxnSpPr/>
          <p:nvPr/>
        </p:nvCxnSpPr>
        <p:spPr>
          <a:xfrm flipH="1">
            <a:off x="1447200" y="1371600"/>
            <a:ext cx="686520" cy="381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8" name="Прямая со стрелкой 5"/>
          <p:cNvCxnSpPr/>
          <p:nvPr/>
        </p:nvCxnSpPr>
        <p:spPr>
          <a:xfrm flipH="1">
            <a:off x="3123360" y="1417680"/>
            <a:ext cx="381960" cy="1303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9" name="Прямая со стрелкой 7"/>
          <p:cNvCxnSpPr/>
          <p:nvPr/>
        </p:nvCxnSpPr>
        <p:spPr>
          <a:xfrm>
            <a:off x="5354280" y="1417680"/>
            <a:ext cx="229320" cy="1303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0" name="Прямая со стрелкой 9"/>
          <p:cNvCxnSpPr/>
          <p:nvPr/>
        </p:nvCxnSpPr>
        <p:spPr>
          <a:xfrm>
            <a:off x="6786720" y="1342800"/>
            <a:ext cx="529200" cy="4100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91" name="Скругленный прямоугольник 14"/>
          <p:cNvSpPr/>
          <p:nvPr/>
        </p:nvSpPr>
        <p:spPr>
          <a:xfrm>
            <a:off x="304920" y="180828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желудочного с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15"/>
          <p:cNvSpPr/>
          <p:nvPr/>
        </p:nvSpPr>
        <p:spPr>
          <a:xfrm>
            <a:off x="2057400" y="279864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ферментов печ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16"/>
          <p:cNvSpPr/>
          <p:nvPr/>
        </p:nvSpPr>
        <p:spPr>
          <a:xfrm>
            <a:off x="4775040" y="2798640"/>
            <a:ext cx="1981440" cy="6858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угих пищеварительных фер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кругленный прямоугольник 18"/>
          <p:cNvSpPr/>
          <p:nvPr/>
        </p:nvSpPr>
        <p:spPr>
          <a:xfrm>
            <a:off x="6746760" y="1808280"/>
            <a:ext cx="2320920" cy="99036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угих лекарственных препар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При этом может иметь место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cxnSp>
        <p:nvCxnSpPr>
          <p:cNvPr id="396" name="Прямая со стрелкой 3"/>
          <p:cNvCxnSpPr/>
          <p:nvPr/>
        </p:nvCxnSpPr>
        <p:spPr>
          <a:xfrm flipH="1">
            <a:off x="1828440" y="1310760"/>
            <a:ext cx="991440" cy="839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7" name="Прямая со стрелкой 5"/>
          <p:cNvCxnSpPr/>
          <p:nvPr/>
        </p:nvCxnSpPr>
        <p:spPr>
          <a:xfrm>
            <a:off x="4571640" y="1294920"/>
            <a:ext cx="1080" cy="839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8" name="Прямая со стрелкой 7"/>
          <p:cNvCxnSpPr/>
          <p:nvPr/>
        </p:nvCxnSpPr>
        <p:spPr>
          <a:xfrm>
            <a:off x="6302520" y="1294920"/>
            <a:ext cx="838800" cy="855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99" name="Прямоугольник 12"/>
          <p:cNvSpPr/>
          <p:nvPr/>
        </p:nvSpPr>
        <p:spPr>
          <a:xfrm>
            <a:off x="380880" y="2590920"/>
            <a:ext cx="2133720" cy="28954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2c00"/>
                </a:solidFill>
                <a:latin typeface="Arial"/>
              </a:rPr>
              <a:t>снижение активности лекарственных веще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c2c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2c2c00"/>
                </a:solidFill>
                <a:latin typeface="Arial"/>
              </a:rPr>
              <a:t>так, цитрамон или аспирин, принятые с молоком, полностью или частично инактивирую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3"/>
          <p:cNvSpPr/>
          <p:nvPr/>
        </p:nvSpPr>
        <p:spPr>
          <a:xfrm>
            <a:off x="3581280" y="2590920"/>
            <a:ext cx="2210040" cy="3276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2c00"/>
                </a:solidFill>
                <a:latin typeface="Arial"/>
              </a:rPr>
              <a:t>усиление побочного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c2c00"/>
                </a:solidFill>
                <a:latin typeface="Arial"/>
              </a:rPr>
              <a:t>- применение сахароснижающих средств совместно  (на фоне) приема алкоголя вызывает резкое снижение сахара в крови, вплоть до гипогликемической ко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14"/>
          <p:cNvSpPr/>
          <p:nvPr/>
        </p:nvSpPr>
        <p:spPr>
          <a:xfrm>
            <a:off x="6781680" y="2590920"/>
            <a:ext cx="2133720" cy="3276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2c00"/>
                </a:solidFill>
                <a:latin typeface="Arial"/>
              </a:rPr>
              <a:t>появление токсических свой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2c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2c2c00"/>
                </a:solidFill>
                <a:latin typeface="Arial"/>
              </a:rPr>
              <a:t>тетрациклины, соединяясь с нитритами, используемыми  в качестве консервантов в колбасе, приобретают канцерогенные свой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Основные правила при перорально</a:t>
            </a:r>
            <a:r>
              <a:rPr b="0" lang="ru-RU" sz="1600" spc="-1" strike="noStrike">
                <a:solidFill>
                  <a:srgbClr val="572314"/>
                </a:solidFill>
                <a:latin typeface="Arial"/>
              </a:rPr>
              <a:t>м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введени</a:t>
            </a:r>
            <a:r>
              <a:rPr b="0" lang="ru-RU" sz="1600" spc="-1" strike="noStrike">
                <a:solidFill>
                  <a:srgbClr val="572314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лекарственных веществ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37720" y="1904760"/>
            <a:ext cx="800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Соблюдение времени приема лекарств и рекомендаций о приеме «до еды», «после еды», что позволяет снизить риск нежелательного взаимодействия и трансформации лекарственных веществ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Не следует запивать  лекарственные  средства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так как,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находящиеся в них ионы 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Ca, Mg,  Al, Fe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 также кофеин и дубильные вещества замедляют всасывание препарата, снижают активность до 50%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04" name="Прямая со стрелкой 4"/>
          <p:cNvCxnSpPr/>
          <p:nvPr/>
        </p:nvCxnSpPr>
        <p:spPr>
          <a:xfrm flipH="1">
            <a:off x="1218600" y="2911320"/>
            <a:ext cx="686520" cy="457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5" name="Прямая со стрелкой 6"/>
          <p:cNvCxnSpPr/>
          <p:nvPr/>
        </p:nvCxnSpPr>
        <p:spPr>
          <a:xfrm flipH="1">
            <a:off x="2437920" y="2924280"/>
            <a:ext cx="326160" cy="970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6" name="Прямая со стрелкой 8"/>
          <p:cNvCxnSpPr/>
          <p:nvPr/>
        </p:nvCxnSpPr>
        <p:spPr>
          <a:xfrm>
            <a:off x="4169880" y="2911320"/>
            <a:ext cx="1080" cy="14486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7" name="Прямая со стрелкой 10"/>
          <p:cNvCxnSpPr/>
          <p:nvPr/>
        </p:nvCxnSpPr>
        <p:spPr>
          <a:xfrm>
            <a:off x="5486040" y="2911320"/>
            <a:ext cx="305640" cy="9151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8" name="Прямая со стрелкой 12"/>
          <p:cNvCxnSpPr/>
          <p:nvPr/>
        </p:nvCxnSpPr>
        <p:spPr>
          <a:xfrm>
            <a:off x="6324480" y="2913120"/>
            <a:ext cx="610560" cy="457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09" name="Овал 16"/>
          <p:cNvSpPr/>
          <p:nvPr/>
        </p:nvSpPr>
        <p:spPr>
          <a:xfrm>
            <a:off x="76320" y="3395520"/>
            <a:ext cx="1600200" cy="6429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rbel"/>
              </a:rPr>
              <a:t>Минеральной водо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17"/>
          <p:cNvSpPr/>
          <p:nvPr/>
        </p:nvSpPr>
        <p:spPr>
          <a:xfrm>
            <a:off x="1676520" y="4038480"/>
            <a:ext cx="1523880" cy="6858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моло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8"/>
          <p:cNvSpPr/>
          <p:nvPr/>
        </p:nvSpPr>
        <p:spPr>
          <a:xfrm>
            <a:off x="3408480" y="4610160"/>
            <a:ext cx="1523880" cy="647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Фруктовыми со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вал 19"/>
          <p:cNvSpPr/>
          <p:nvPr/>
        </p:nvSpPr>
        <p:spPr>
          <a:xfrm>
            <a:off x="5257800" y="4038480"/>
            <a:ext cx="1523880" cy="7430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коф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вал 20"/>
          <p:cNvSpPr/>
          <p:nvPr/>
        </p:nvSpPr>
        <p:spPr>
          <a:xfrm>
            <a:off x="6781680" y="3395520"/>
            <a:ext cx="1524240" cy="7621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а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авая фигурная скобка 21"/>
          <p:cNvSpPr/>
          <p:nvPr/>
        </p:nvSpPr>
        <p:spPr>
          <a:xfrm rot="5400000">
            <a:off x="4093920" y="1790280"/>
            <a:ext cx="685800" cy="716292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7162920"/>
              <a:gd name="textAreaBottom" fmla="*/ 7145280 h 716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6"/>
                  <a:pt x="10800" y="172"/>
                </a:cubicBezTo>
                <a:lnTo>
                  <a:pt x="10800" y="10628"/>
                </a:lnTo>
                <a:cubicBezTo>
                  <a:pt x="10800" y="10714"/>
                  <a:pt x="16200" y="10800"/>
                  <a:pt x="21600" y="10800"/>
                </a:cubicBezTo>
                <a:cubicBezTo>
                  <a:pt x="16200" y="10800"/>
                  <a:pt x="10800" y="10886"/>
                  <a:pt x="10800" y="10972"/>
                </a:cubicBezTo>
                <a:lnTo>
                  <a:pt x="10800" y="21428"/>
                </a:lnTo>
                <a:cubicBezTo>
                  <a:pt x="10800" y="2151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5121360"/>
            <a:ext cx="46080" cy="107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837720" y="22860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3. Не следует совмещать прием (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per os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лекарств с приемом:   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4. Ограничить прием пищи, богатой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(мясо, рыба, молочные продукты, кондитерские изделия), так как угнетается скорость всасывания  лекарственных веществ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Скругленный прямоугольник 3"/>
          <p:cNvSpPr/>
          <p:nvPr/>
        </p:nvSpPr>
        <p:spPr>
          <a:xfrm>
            <a:off x="1371600" y="914400"/>
            <a:ext cx="1905120" cy="53352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алког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Скругленный прямоугольник 4"/>
          <p:cNvSpPr/>
          <p:nvPr/>
        </p:nvSpPr>
        <p:spPr>
          <a:xfrm>
            <a:off x="5410080" y="914400"/>
            <a:ext cx="1981440" cy="53352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о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Прямая со стрелкой 6"/>
          <p:cNvCxnSpPr/>
          <p:nvPr/>
        </p:nvCxnSpPr>
        <p:spPr>
          <a:xfrm>
            <a:off x="2323800" y="1599840"/>
            <a:ext cx="1080" cy="610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0" name="Прямая со стрелкой 8"/>
          <p:cNvCxnSpPr/>
          <p:nvPr/>
        </p:nvCxnSpPr>
        <p:spPr>
          <a:xfrm>
            <a:off x="6471720" y="1600200"/>
            <a:ext cx="1080" cy="629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21" name="Скругленный прямоугольник 12"/>
          <p:cNvSpPr/>
          <p:nvPr/>
        </p:nvSpPr>
        <p:spPr>
          <a:xfrm>
            <a:off x="1351080" y="2286000"/>
            <a:ext cx="1981080" cy="198108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Растворяются оболочки таблеток, нарушается запрограммированное высвобождение лекарственных веществ и создается токсическая доза лекарственны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кругленный прямоугольник 14"/>
          <p:cNvSpPr/>
          <p:nvPr/>
        </p:nvSpPr>
        <p:spPr>
          <a:xfrm>
            <a:off x="5464080" y="2306520"/>
            <a:ext cx="2057400" cy="19814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Снижается действие сердечных гликозидов, антибиотиков, сульфанилами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Прямая со стрелкой 16"/>
          <p:cNvCxnSpPr/>
          <p:nvPr/>
        </p:nvCxnSpPr>
        <p:spPr>
          <a:xfrm flipH="1">
            <a:off x="2361960" y="4965480"/>
            <a:ext cx="762480" cy="2293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4" name="Прямая со стрелкой 18"/>
          <p:cNvCxnSpPr/>
          <p:nvPr/>
        </p:nvCxnSpPr>
        <p:spPr>
          <a:xfrm>
            <a:off x="5478120" y="4974840"/>
            <a:ext cx="762840" cy="2293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25" name="Прямоугольник 19"/>
          <p:cNvSpPr/>
          <p:nvPr/>
        </p:nvSpPr>
        <p:spPr>
          <a:xfrm>
            <a:off x="1143000" y="5334120"/>
            <a:ext cx="2362320" cy="4572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животными жир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20"/>
          <p:cNvSpPr/>
          <p:nvPr/>
        </p:nvSpPr>
        <p:spPr>
          <a:xfrm>
            <a:off x="5464080" y="5334120"/>
            <a:ext cx="2286000" cy="4572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большим количеством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Характеристика сублингвального, трансбуккального и ректального путей введения лекарственных средств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756720" y="5165640"/>
            <a:ext cx="800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Быстрота действия и высокая биодоступность обеспечивается тем, что лекарственное вещество, минуя печень и воздействие пищевых ферментов, попадает в общий кровоток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29" name="Прямая со стрелкой 4"/>
          <p:cNvCxnSpPr/>
          <p:nvPr/>
        </p:nvCxnSpPr>
        <p:spPr>
          <a:xfrm flipH="1">
            <a:off x="1447200" y="1294920"/>
            <a:ext cx="1067400" cy="381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30" name="Прямоугольник с двумя вырезанными противолежащими углами 6"/>
          <p:cNvSpPr/>
          <p:nvPr/>
        </p:nvSpPr>
        <p:spPr>
          <a:xfrm>
            <a:off x="233280" y="1752480"/>
            <a:ext cx="1752840" cy="76212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Простота приме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Прямая со стрелкой 8"/>
          <p:cNvCxnSpPr/>
          <p:nvPr/>
        </p:nvCxnSpPr>
        <p:spPr>
          <a:xfrm flipH="1">
            <a:off x="2208960" y="1295280"/>
            <a:ext cx="686520" cy="1524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32" name="Прямоугольник с двумя вырезанными противолежащими углами 9"/>
          <p:cNvSpPr/>
          <p:nvPr/>
        </p:nvSpPr>
        <p:spPr>
          <a:xfrm>
            <a:off x="1219320" y="2971800"/>
            <a:ext cx="1828800" cy="4572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Удобство приме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Прямая со стрелкой 11"/>
          <p:cNvCxnSpPr/>
          <p:nvPr/>
        </p:nvCxnSpPr>
        <p:spPr>
          <a:xfrm>
            <a:off x="4613040" y="1294920"/>
            <a:ext cx="1080" cy="762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34" name="Прямоугольник с двумя вырезанными противолежащими углами 12"/>
          <p:cNvSpPr/>
          <p:nvPr/>
        </p:nvSpPr>
        <p:spPr>
          <a:xfrm>
            <a:off x="3382920" y="2133720"/>
            <a:ext cx="2590920" cy="13413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ыстрота наступления эффект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при сублингвальном – через 1-5 ми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при ректальном – через 10-15м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Прямая со стрелкой 14"/>
          <p:cNvCxnSpPr/>
          <p:nvPr/>
        </p:nvCxnSpPr>
        <p:spPr>
          <a:xfrm>
            <a:off x="6095880" y="1257120"/>
            <a:ext cx="589680" cy="1600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36" name="Прямоугольник с двумя вырезанными противолежащими углами 17"/>
          <p:cNvSpPr/>
          <p:nvPr/>
        </p:nvSpPr>
        <p:spPr>
          <a:xfrm>
            <a:off x="6477120" y="2971800"/>
            <a:ext cx="1828800" cy="50328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ысокая эффе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Прямая со стрелкой 19"/>
          <p:cNvCxnSpPr/>
          <p:nvPr/>
        </p:nvCxnSpPr>
        <p:spPr>
          <a:xfrm>
            <a:off x="6832440" y="1219320"/>
            <a:ext cx="915120" cy="457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38" name="Прямоугольник с двумя вырезанными противолежащими углами 20"/>
          <p:cNvSpPr/>
          <p:nvPr/>
        </p:nvSpPr>
        <p:spPr>
          <a:xfrm>
            <a:off x="7086600" y="1752480"/>
            <a:ext cx="1752480" cy="76212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сутствие агрессивного воздействия на слизистую Ж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Недостатки </a:t>
            </a:r>
            <a:r>
              <a:rPr b="0" lang="ru-RU" sz="2000" spc="-1" strike="noStrike">
                <a:solidFill>
                  <a:srgbClr val="572314"/>
                </a:solidFill>
                <a:latin typeface="Arial"/>
              </a:rPr>
              <a:t>путей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cxnSp>
        <p:nvCxnSpPr>
          <p:cNvPr id="440" name="Прямая со стрелкой 3"/>
          <p:cNvCxnSpPr/>
          <p:nvPr/>
        </p:nvCxnSpPr>
        <p:spPr>
          <a:xfrm flipH="1">
            <a:off x="2133360" y="1219320"/>
            <a:ext cx="1296000" cy="791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1" name="Прямая со стрелкой 5"/>
          <p:cNvCxnSpPr/>
          <p:nvPr/>
        </p:nvCxnSpPr>
        <p:spPr>
          <a:xfrm>
            <a:off x="5714640" y="1219320"/>
            <a:ext cx="1215000" cy="792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42" name="Скругленный прямоугольник 7"/>
          <p:cNvSpPr/>
          <p:nvPr/>
        </p:nvSpPr>
        <p:spPr>
          <a:xfrm>
            <a:off x="304920" y="2590920"/>
            <a:ext cx="3352680" cy="2057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Ограниченное число лекарственных фор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таблетки, гранулы, капли, диски, пленки для сублингвального  и трансбуккального в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суппозитории, растворы для микроклизм – для ректального в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8"/>
          <p:cNvSpPr/>
          <p:nvPr/>
        </p:nvSpPr>
        <p:spPr>
          <a:xfrm>
            <a:off x="5638680" y="25909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Ограниченный набор лекарственных веще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при сублингвальном введении необходима высокая активность ввиду малой площади подъязычной области(нитроглицерин 0,000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 раздражающее действие на слизистую при ректальном введении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Основные показания к использованию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cxnSp>
        <p:nvCxnSpPr>
          <p:cNvPr id="445" name="Прямая со стрелкой 3"/>
          <p:cNvCxnSpPr/>
          <p:nvPr/>
        </p:nvCxnSpPr>
        <p:spPr>
          <a:xfrm flipH="1">
            <a:off x="2742480" y="1218960"/>
            <a:ext cx="686520" cy="10674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6" name="Прямая со стрелкой 5"/>
          <p:cNvCxnSpPr/>
          <p:nvPr/>
        </p:nvCxnSpPr>
        <p:spPr>
          <a:xfrm>
            <a:off x="5572080" y="1218960"/>
            <a:ext cx="534240" cy="10674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47" name="Скругленный прямоугольник 6"/>
          <p:cNvSpPr/>
          <p:nvPr/>
        </p:nvSpPr>
        <p:spPr>
          <a:xfrm>
            <a:off x="914400" y="2590920"/>
            <a:ext cx="3124080" cy="365760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3657600"/>
              <a:gd name="textAreaBottom" fmla="*/ 3505320 h 3657600"/>
            </a:gdLst>
            <a:ahLst/>
            <a:rect l="textAreaLeft" t="textAreaTop" r="textAreaRight" b="textAreaBottom"/>
            <a:pathLst>
              <a:path w="21600" h="25288">
                <a:moveTo>
                  <a:pt x="3600" y="0"/>
                </a:moveTo>
                <a:arcTo wR="3600" hR="3600" stAng="16200000" swAng="-5400000"/>
                <a:lnTo>
                  <a:pt x="0" y="21688"/>
                </a:lnTo>
                <a:arcTo wR="3600" hR="3600" stAng="10800000" swAng="-5400000"/>
                <a:lnTo>
                  <a:pt x="18000" y="252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d00"/>
                </a:solidFill>
                <a:latin typeface="Arial"/>
              </a:rPr>
              <a:t>Сублингвального и трансбуккального введения лекар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обходимость скоропомощного эффекта: приступ стенокардии; резкое повышение артериального давл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- плохое всасывание лекарственного вещества а ЖКТ (метилтестостерон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- необходимость пролонгированного действия ( трансбуккальное введение)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Скругленный прямоугольник 7"/>
          <p:cNvSpPr/>
          <p:nvPr/>
        </p:nvSpPr>
        <p:spPr>
          <a:xfrm>
            <a:off x="5334120" y="2581200"/>
            <a:ext cx="3200400" cy="365760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3657600"/>
              <a:gd name="textAreaBottom" fmla="*/ 3501360 h 3657600"/>
            </a:gdLst>
            <a:ahLst/>
            <a:rect l="textAreaLeft" t="textAreaTop" r="textAreaRight" b="textAreaBottom"/>
            <a:pathLst>
              <a:path w="21600" h="24685">
                <a:moveTo>
                  <a:pt x="3600" y="0"/>
                </a:moveTo>
                <a:arcTo wR="3600" hR="3600" stAng="16200000" swAng="-5400000"/>
                <a:lnTo>
                  <a:pt x="0" y="21085"/>
                </a:lnTo>
                <a:arcTo wR="3600" hR="3600" stAng="10800000" swAng="-5400000"/>
                <a:lnTo>
                  <a:pt x="18000" y="246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d00"/>
                </a:solidFill>
                <a:latin typeface="Arial"/>
              </a:rPr>
              <a:t>Ректального введения лекар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заболевания слизистой Ж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пределенное состояние больного( травмы, судороги и т.д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необходимость местного воздействия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Парентеральные пути введения лекарственных средств                               </a:t>
            </a:r>
            <a:r>
              <a:rPr b="0" lang="ru-RU" sz="1600" spc="-1" strike="noStrike">
                <a:solidFill>
                  <a:srgbClr val="572314"/>
                </a:solidFill>
                <a:latin typeface="Arial"/>
              </a:rPr>
              <a:t>               (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минуя желудочно – кишечный тракт</a:t>
            </a:r>
            <a:r>
              <a:rPr b="0" lang="ru-RU" sz="1600" spc="-1" strike="noStrike">
                <a:solidFill>
                  <a:srgbClr val="572314"/>
                </a:solidFill>
                <a:latin typeface="Arial"/>
              </a:rPr>
              <a:t>)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К ним относятся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cxnSp>
        <p:nvCxnSpPr>
          <p:cNvPr id="450" name="Прямая со стрелкой 3"/>
          <p:cNvCxnSpPr/>
          <p:nvPr/>
        </p:nvCxnSpPr>
        <p:spPr>
          <a:xfrm flipH="1">
            <a:off x="914040" y="1600200"/>
            <a:ext cx="2743920" cy="457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51" name="Прямоугольник 4"/>
          <p:cNvSpPr/>
          <p:nvPr/>
        </p:nvSpPr>
        <p:spPr>
          <a:xfrm>
            <a:off x="152280" y="2209680"/>
            <a:ext cx="1676520" cy="3812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Ингаляцио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Прямая со стрелкой 6"/>
          <p:cNvCxnSpPr/>
          <p:nvPr/>
        </p:nvCxnSpPr>
        <p:spPr>
          <a:xfrm>
            <a:off x="3885840" y="1599840"/>
            <a:ext cx="1080" cy="610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53" name="Прямоугольник 8"/>
          <p:cNvSpPr/>
          <p:nvPr/>
        </p:nvSpPr>
        <p:spPr>
          <a:xfrm>
            <a:off x="3124080" y="2400480"/>
            <a:ext cx="1524240" cy="419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Инъекцио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Прямая со стрелкой 12"/>
          <p:cNvCxnSpPr/>
          <p:nvPr/>
        </p:nvCxnSpPr>
        <p:spPr>
          <a:xfrm flipH="1">
            <a:off x="1370880" y="2610000"/>
            <a:ext cx="1600920" cy="11246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55" name="Прямоугольник 13"/>
          <p:cNvSpPr/>
          <p:nvPr/>
        </p:nvSpPr>
        <p:spPr>
          <a:xfrm>
            <a:off x="228600" y="3962520"/>
            <a:ext cx="2057400" cy="4572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нутрисосудист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Прямая со стрелкой 15"/>
          <p:cNvCxnSpPr/>
          <p:nvPr/>
        </p:nvCxnSpPr>
        <p:spPr>
          <a:xfrm flipH="1">
            <a:off x="380160" y="4495680"/>
            <a:ext cx="305640" cy="610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57" name="Прямая со стрелкой 17"/>
          <p:cNvCxnSpPr/>
          <p:nvPr/>
        </p:nvCxnSpPr>
        <p:spPr>
          <a:xfrm>
            <a:off x="1142640" y="4495320"/>
            <a:ext cx="1080" cy="12963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58" name="Прямая со стрелкой 19"/>
          <p:cNvCxnSpPr/>
          <p:nvPr/>
        </p:nvCxnSpPr>
        <p:spPr>
          <a:xfrm>
            <a:off x="1523520" y="4495680"/>
            <a:ext cx="305640" cy="610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59" name="Скругленный прямоугольник 20"/>
          <p:cNvSpPr/>
          <p:nvPr/>
        </p:nvSpPr>
        <p:spPr>
          <a:xfrm>
            <a:off x="30240" y="5257800"/>
            <a:ext cx="960480" cy="38088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Внутрив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кругленный прямоугольник 21"/>
          <p:cNvSpPr/>
          <p:nvPr/>
        </p:nvSpPr>
        <p:spPr>
          <a:xfrm>
            <a:off x="380880" y="59436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Внутриаорт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кругленный прямоугольник 22"/>
          <p:cNvSpPr/>
          <p:nvPr/>
        </p:nvSpPr>
        <p:spPr>
          <a:xfrm>
            <a:off x="1523880" y="525780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Внутриартери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Прямая со стрелкой 24"/>
          <p:cNvCxnSpPr/>
          <p:nvPr/>
        </p:nvCxnSpPr>
        <p:spPr>
          <a:xfrm>
            <a:off x="3276360" y="2819520"/>
            <a:ext cx="1080" cy="457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63" name="Прямоугольник 25"/>
          <p:cNvSpPr/>
          <p:nvPr/>
        </p:nvSpPr>
        <p:spPr>
          <a:xfrm>
            <a:off x="2573280" y="3352680"/>
            <a:ext cx="1333440" cy="3812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Подкож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Прямая со стрелкой 27"/>
          <p:cNvCxnSpPr/>
          <p:nvPr/>
        </p:nvCxnSpPr>
        <p:spPr>
          <a:xfrm>
            <a:off x="4038120" y="2819160"/>
            <a:ext cx="1080" cy="1143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65" name="Прямоугольник 28"/>
          <p:cNvSpPr/>
          <p:nvPr/>
        </p:nvSpPr>
        <p:spPr>
          <a:xfrm>
            <a:off x="3200400" y="4038480"/>
            <a:ext cx="1676520" cy="4572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нутримышеч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6" name="Прямая со стрелкой 30"/>
          <p:cNvCxnSpPr/>
          <p:nvPr/>
        </p:nvCxnSpPr>
        <p:spPr>
          <a:xfrm>
            <a:off x="4572000" y="2895120"/>
            <a:ext cx="457920" cy="381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67" name="Прямоугольник 31"/>
          <p:cNvSpPr/>
          <p:nvPr/>
        </p:nvSpPr>
        <p:spPr>
          <a:xfrm>
            <a:off x="5105520" y="3390840"/>
            <a:ext cx="1828800" cy="11811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Через оболочки мозг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- субарахноида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- субдура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- субокципит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Прямая со стрелкой 33"/>
          <p:cNvCxnSpPr/>
          <p:nvPr/>
        </p:nvCxnSpPr>
        <p:spPr>
          <a:xfrm>
            <a:off x="4800240" y="2610000"/>
            <a:ext cx="610200" cy="133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69" name="Прямоугольник 34"/>
          <p:cNvSpPr/>
          <p:nvPr/>
        </p:nvSpPr>
        <p:spPr>
          <a:xfrm>
            <a:off x="5562720" y="2590920"/>
            <a:ext cx="1828800" cy="495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нутриполост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Прямая со стрелкой 36"/>
          <p:cNvCxnSpPr/>
          <p:nvPr/>
        </p:nvCxnSpPr>
        <p:spPr>
          <a:xfrm>
            <a:off x="5028840" y="1599840"/>
            <a:ext cx="762840" cy="801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71" name="Прямая со стрелкой 39"/>
          <p:cNvCxnSpPr/>
          <p:nvPr/>
        </p:nvCxnSpPr>
        <p:spPr>
          <a:xfrm>
            <a:off x="5715000" y="1447560"/>
            <a:ext cx="915120" cy="153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72" name="Прямоугольник 40"/>
          <p:cNvSpPr/>
          <p:nvPr/>
        </p:nvSpPr>
        <p:spPr>
          <a:xfrm>
            <a:off x="6781680" y="1447920"/>
            <a:ext cx="2057400" cy="6094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Трансдермальный (через кож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АКТУАЛЬНОСТЬ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7720" y="152388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блема заключается в извечном вопросе - полезны или вредны лекарства?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 сожалению, каждое лекарство и полезно, и вредно одновременно. Нет абсолютно безопасных лекарств. Каждое из них может вызвать и желательные, и нежелательные изменения, принести кому-то пользу, а кому-то вред. Именно поэтому любое однозначное заявление о полезности или вредности лекарств абсурдно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Рисунок 4" descr=""/>
          <p:cNvPicPr/>
          <p:nvPr/>
        </p:nvPicPr>
        <p:blipFill>
          <a:blip r:embed="rId1"/>
          <a:stretch/>
        </p:blipFill>
        <p:spPr>
          <a:xfrm>
            <a:off x="5943600" y="403848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5" descr=""/>
          <p:cNvPicPr/>
          <p:nvPr/>
        </p:nvPicPr>
        <p:blipFill>
          <a:blip r:embed="rId2"/>
          <a:stretch/>
        </p:blipFill>
        <p:spPr>
          <a:xfrm>
            <a:off x="457200" y="4000680"/>
            <a:ext cx="4724280" cy="2714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Преимущества парентеральных путей введения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837720" y="5105160"/>
            <a:ext cx="800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Механизм обеспечения преимущественных признаков состоит в том, что лекарственные вещества попадают сразу в общий кровоток или непосредственно к органам и тканям, минуя барьер печени и воздействие пищеварительных ферментов и компонентов продуктов питания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75" name="Прямая со стрелкой 4"/>
          <p:cNvCxnSpPr/>
          <p:nvPr/>
        </p:nvCxnSpPr>
        <p:spPr>
          <a:xfrm flipH="1">
            <a:off x="1675800" y="1218960"/>
            <a:ext cx="1067400" cy="5338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76" name="Скругленный прямоугольник 5"/>
          <p:cNvSpPr/>
          <p:nvPr/>
        </p:nvSpPr>
        <p:spPr>
          <a:xfrm>
            <a:off x="304920" y="1905120"/>
            <a:ext cx="2209680" cy="83808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быстрота фармакотерапевтического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Прямая со стрелкой 7"/>
          <p:cNvCxnSpPr/>
          <p:nvPr/>
        </p:nvCxnSpPr>
        <p:spPr>
          <a:xfrm flipH="1">
            <a:off x="2285280" y="1218960"/>
            <a:ext cx="1067400" cy="2057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78" name="Скругленный прямоугольник 8"/>
          <p:cNvSpPr/>
          <p:nvPr/>
        </p:nvSpPr>
        <p:spPr>
          <a:xfrm>
            <a:off x="990720" y="3505320"/>
            <a:ext cx="2286000" cy="99036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точность дозирования лекарственных веще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Прямая со стрелкой 10"/>
          <p:cNvCxnSpPr/>
          <p:nvPr/>
        </p:nvCxnSpPr>
        <p:spPr>
          <a:xfrm>
            <a:off x="4571640" y="1219320"/>
            <a:ext cx="1080" cy="12196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80" name="Скругленный прямоугольник 11"/>
          <p:cNvSpPr/>
          <p:nvPr/>
        </p:nvSpPr>
        <p:spPr>
          <a:xfrm>
            <a:off x="3276720" y="2590920"/>
            <a:ext cx="2819160" cy="9144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озможность преодолеть барьеры – гематоэнцефалический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Прямая со стрелкой 13"/>
          <p:cNvCxnSpPr/>
          <p:nvPr/>
        </p:nvCxnSpPr>
        <p:spPr>
          <a:xfrm>
            <a:off x="6172200" y="1219320"/>
            <a:ext cx="838800" cy="22104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82" name="Скругленный прямоугольник 15"/>
          <p:cNvSpPr/>
          <p:nvPr/>
        </p:nvSpPr>
        <p:spPr>
          <a:xfrm>
            <a:off x="6472080" y="3505320"/>
            <a:ext cx="2210040" cy="99036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высокая биодоступность –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Прямая со стрелкой 17"/>
          <p:cNvCxnSpPr/>
          <p:nvPr/>
        </p:nvCxnSpPr>
        <p:spPr>
          <a:xfrm>
            <a:off x="7009920" y="1218960"/>
            <a:ext cx="839160" cy="5338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84" name="Скругленный прямоугольник 18"/>
          <p:cNvSpPr/>
          <p:nvPr/>
        </p:nvSpPr>
        <p:spPr>
          <a:xfrm>
            <a:off x="6823080" y="1905120"/>
            <a:ext cx="2209680" cy="83808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озможность локального воздействия на конкретную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Недостатки парентеральных (инъекционных) путей введения лекарственных средств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cxnSp>
        <p:nvCxnSpPr>
          <p:cNvPr id="486" name="Прямая со стрелкой 3"/>
          <p:cNvCxnSpPr/>
          <p:nvPr/>
        </p:nvCxnSpPr>
        <p:spPr>
          <a:xfrm flipH="1">
            <a:off x="1294560" y="1447920"/>
            <a:ext cx="1296360" cy="381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87" name="Прямоугольник с двумя скругленными противолежащими углами 4"/>
          <p:cNvSpPr/>
          <p:nvPr/>
        </p:nvSpPr>
        <p:spPr>
          <a:xfrm>
            <a:off x="304920" y="2057400"/>
            <a:ext cx="1638360" cy="83808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Относительная сложность в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Прямая со стрелкой 6"/>
          <p:cNvCxnSpPr/>
          <p:nvPr/>
        </p:nvCxnSpPr>
        <p:spPr>
          <a:xfrm flipH="1">
            <a:off x="2513880" y="1447560"/>
            <a:ext cx="610200" cy="19054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89" name="Прямоугольник с двумя скругленными противолежащими углами 7"/>
          <p:cNvSpPr/>
          <p:nvPr/>
        </p:nvSpPr>
        <p:spPr>
          <a:xfrm>
            <a:off x="1600200" y="3505320"/>
            <a:ext cx="1676520" cy="9144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Необходимость специального инструмента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Прямая со стрелкой 9"/>
          <p:cNvCxnSpPr/>
          <p:nvPr/>
        </p:nvCxnSpPr>
        <p:spPr>
          <a:xfrm flipH="1">
            <a:off x="4703400" y="1447560"/>
            <a:ext cx="38880" cy="3429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91" name="Прямоугольник с двумя скругленными противолежащими углами 12"/>
          <p:cNvSpPr/>
          <p:nvPr/>
        </p:nvSpPr>
        <p:spPr>
          <a:xfrm>
            <a:off x="3408480" y="5334120"/>
            <a:ext cx="2590560" cy="83808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Необходимость обучения мед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2" name="Прямая со стрелкой 14"/>
          <p:cNvCxnSpPr/>
          <p:nvPr/>
        </p:nvCxnSpPr>
        <p:spPr>
          <a:xfrm>
            <a:off x="6308640" y="1523880"/>
            <a:ext cx="610560" cy="1829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93" name="Прямоугольник с двумя скругленными противолежащими углами 16"/>
          <p:cNvSpPr/>
          <p:nvPr/>
        </p:nvSpPr>
        <p:spPr>
          <a:xfrm>
            <a:off x="6172200" y="3467160"/>
            <a:ext cx="1752480" cy="99072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Болезненность манипуляции и возможность ослож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Прямая со стрелкой 18"/>
          <p:cNvCxnSpPr/>
          <p:nvPr/>
        </p:nvCxnSpPr>
        <p:spPr>
          <a:xfrm>
            <a:off x="6781320" y="1447920"/>
            <a:ext cx="762840" cy="30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95" name="Прямоугольник с двумя скругленными противолежащими углами 19"/>
          <p:cNvSpPr/>
          <p:nvPr/>
        </p:nvSpPr>
        <p:spPr>
          <a:xfrm>
            <a:off x="7048440" y="2057400"/>
            <a:ext cx="1714680" cy="83808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Необходимость соблюдения стери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Возможные осложнения при инъекционном введении лекарственных средств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990360" y="1333080"/>
            <a:ext cx="6435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ильтрат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цесс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псис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вороточный гепатит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Д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 рассасывающиеся инфильтраты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ждение: - надкостницы   (периостит)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удов  (некроз, эмболия)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рвов (паралич, неврит)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мка иглы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ая или медикаментозная эмболия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оз тканей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матом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Прямоугольник 3"/>
          <p:cNvSpPr/>
          <p:nvPr/>
        </p:nvSpPr>
        <p:spPr>
          <a:xfrm>
            <a:off x="380880" y="1697040"/>
            <a:ext cx="1676520" cy="9907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ри нарушении правил асеп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Прямая со стрелкой 5"/>
          <p:cNvCxnSpPr/>
          <p:nvPr/>
        </p:nvCxnSpPr>
        <p:spPr>
          <a:xfrm flipV="1">
            <a:off x="2184480" y="1721880"/>
            <a:ext cx="457920" cy="153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00" name="Прямая со стрелкой 8"/>
          <p:cNvCxnSpPr/>
          <p:nvPr/>
        </p:nvCxnSpPr>
        <p:spPr>
          <a:xfrm flipV="1">
            <a:off x="2184480" y="1977480"/>
            <a:ext cx="457920" cy="38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01" name="Прямая со стрелкой 10"/>
          <p:cNvCxnSpPr/>
          <p:nvPr/>
        </p:nvCxnSpPr>
        <p:spPr>
          <a:xfrm>
            <a:off x="2184480" y="2192040"/>
            <a:ext cx="48312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02" name="Прямая со стрелкой 16"/>
          <p:cNvCxnSpPr/>
          <p:nvPr/>
        </p:nvCxnSpPr>
        <p:spPr>
          <a:xfrm>
            <a:off x="2184480" y="2361960"/>
            <a:ext cx="457920" cy="766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03" name="Прямая со стрелкой 18"/>
          <p:cNvCxnSpPr/>
          <p:nvPr/>
        </p:nvCxnSpPr>
        <p:spPr>
          <a:xfrm>
            <a:off x="2184480" y="2514240"/>
            <a:ext cx="457920" cy="153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504" name="Прямоугольник 19"/>
          <p:cNvSpPr/>
          <p:nvPr/>
        </p:nvSpPr>
        <p:spPr>
          <a:xfrm>
            <a:off x="360360" y="3352680"/>
            <a:ext cx="1676520" cy="9907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ри неправильном выборе места инъ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Прямая со стрелкой 21"/>
          <p:cNvCxnSpPr/>
          <p:nvPr/>
        </p:nvCxnSpPr>
        <p:spPr>
          <a:xfrm flipV="1">
            <a:off x="2184480" y="3276360"/>
            <a:ext cx="457920" cy="3434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06" name="Прямая со стрелкой 24"/>
          <p:cNvCxnSpPr/>
          <p:nvPr/>
        </p:nvCxnSpPr>
        <p:spPr>
          <a:xfrm>
            <a:off x="2184480" y="3733560"/>
            <a:ext cx="457920" cy="2293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507" name="Прямоугольник 26"/>
          <p:cNvSpPr/>
          <p:nvPr/>
        </p:nvSpPr>
        <p:spPr>
          <a:xfrm>
            <a:off x="380880" y="5029200"/>
            <a:ext cx="1676520" cy="9907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ри неправильной технике выпол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Прямая со стрелкой 28"/>
          <p:cNvCxnSpPr/>
          <p:nvPr/>
        </p:nvCxnSpPr>
        <p:spPr>
          <a:xfrm flipV="1">
            <a:off x="2286000" y="5104800"/>
            <a:ext cx="356400" cy="153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09" name="Прямая со стрелкой 34"/>
          <p:cNvCxnSpPr/>
          <p:nvPr/>
        </p:nvCxnSpPr>
        <p:spPr>
          <a:xfrm>
            <a:off x="2286000" y="5384520"/>
            <a:ext cx="35640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10" name="Прямая со стрелкой 36"/>
          <p:cNvCxnSpPr/>
          <p:nvPr/>
        </p:nvCxnSpPr>
        <p:spPr>
          <a:xfrm>
            <a:off x="2286000" y="5638320"/>
            <a:ext cx="35640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11" name="Прямая со стрелкой 38"/>
          <p:cNvCxnSpPr/>
          <p:nvPr/>
        </p:nvCxnSpPr>
        <p:spPr>
          <a:xfrm>
            <a:off x="2286000" y="5790960"/>
            <a:ext cx="381600" cy="766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572314"/>
                </a:solidFill>
                <a:latin typeface="Times New Roman"/>
              </a:rPr>
              <a:t>ПРАВИЛА РАЗДАЧИ ЛЕКАРСТВЕННЫХ СРЕДСТ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и раздаче лекарств, как и при всех действиях сестры, нужно соблюдать гигиену. Перед раздачей лекарственных средств тщательно вымыть руки. Поставить на передвижной столик емкости, флаконы с жидкими лекарственными формами, пипетки (отдельно для каждого флакона), стаканчики для приема лекарств, графин с водой, пинцет для раздачи таблеток, ножницы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едварительно ознакомится с листами назначения. В них должны быть четко написаны: фамилия, имя, отчество пациента, полное название лекарства, доза, способ и время его введения. Проверить назначения написанные неразборчиво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-4704120"/>
            <a:ext cx="7632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09120" y="6854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дному больному на один прием назначено несколько лекарств, нужно выяснить, нет ли среди них несовместимых сочетаний, можно ли давать их одновременно, или какова последовательность их приема.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отвлекаться при подготовке лекарств и их раздаче. Внимательно прочитать этикетку на упаковке (название, доза, срок годности) и запись в истории болезни. Лекарство из флаконов доставать специальной ложечкой или пинцетом. Таблетки из конвалют вылущивать, сохраняя упаковку и название лекарственного препарата. Строго соблюдать дозу жидких лекарственных форм, пользуясь при этом стаканчиком для приема лекарств.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авать лекарственные средства рекомендуется только у постели больного, используя при этом психотерапию. Вера в то, что лекарство несет избавление от недуга, значительно повышает его эффективность. Во многих лечебных отделения медсестры в целях экономии времени заранее раскладывают лекарственные вещества в лотки, разделенные на ячейки. Каждая ячейка предназначена для конкретного больного.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ки данного порядка раздачи: отсутствие контроля за приемом лекарственных средств пациентом; не соблюдается индивидуальная схема раздачи лекарственных средств, режим приема, возможны ошибки при раздаче, возникают трудности при ответе на вопросы по поводу назначенных лекарственных препаратов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Times New Roman"/>
              </a:rPr>
              <a:t>ЗАКЛЮЧ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837720" y="1523880"/>
            <a:ext cx="800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простым в применении является метод перорального, сублингвального,трансбуккального и трансдермального введения лекарственных средст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быстрое терапевтическое действие оказывают лекарства, введенные внутрисосудисто: внутривенно, внутриаортально, внутриартериально, через оболочки мозга, сублингвально, ингаляционн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ая активность (биодоступность) сохраняется в препаратах, введенных сублингвально, трансбуккально, ректально и всеми путями парентерального введ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онгированное действие будет иметь место  при использовании внутримышечного введения лекарственных веществ в малорастворимом виде, трансдермального использования дисков и трансбуккального (нитродиск), перорального введения модифицированных таблетированных средст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768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768" fill="hold"/>
                                        <p:tgtEl>
                                          <p:spTgt spid="5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" dur="768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" dur="768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4038480" y="540000"/>
            <a:ext cx="32763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сложным по методике является введение препаратов внутрисосудистое, через оболочки мозга, и внутриполостно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оральном применении лекарственных средств в отдельных случаях возможно образование эрозий и язв желуд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аибольшее число осложнений возможно при инъекционном введении лекарственных средств: инфильтрат, некроз, флебит, тромбофлебит, тромбоз, эмболия, сепсис, инфицирование и д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Использование ректального метода ограничено требованиями к физико – химическим свойствам препара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-4704120"/>
            <a:ext cx="7632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0880" y="45684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2" name="Рисунок 4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641760" cy="480060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5" descr="MP900409660"/>
          <p:cNvPicPr/>
          <p:nvPr/>
        </p:nvPicPr>
        <p:blipFill>
          <a:blip r:embed="rId2"/>
          <a:stretch/>
        </p:blipFill>
        <p:spPr>
          <a:xfrm>
            <a:off x="152280" y="1905120"/>
            <a:ext cx="4953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72314"/>
                </a:solidFill>
                <a:latin typeface="Corbel"/>
              </a:rPr>
              <a:t>ВЫПИСКА, УЧЁТ И ХРАНЕНИЕ ЛЕКАРСТВЕННЫХ СРЕДСТ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37720" y="15998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я назначения, сделанные врачом в истории болезни, палатная медицинская сестра ежедневно составляет заявки на необходимые лекарственные препараты и подает их старшей медицинской сестре отделения. На основании этих заявок старшая медсестра выписывает требования, которые заверяются заведующим отделением и направляются в аптеку. После получения из аптеки лекарственных препаратов старшая медсестра, перед тем, как передать их на медицинские посты, тщательно проверяет соответствие лекарственных средств выписанным требованиям, наличие этикетки с указанием названия препарата и его дозы, дату изготовления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262680"/>
            <a:ext cx="533520" cy="72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37720" y="22860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ят лекарственные препараты в специальных шкафах, запирающихся на ключ. Особого контроля требует хранение ядовитых, сильнодействующих и наркотических средств. Ядовитые лекарственные препараты (препараты мышьяка, атропина сульфат, стрихнин и др.) и сильнодействующие (аминазин, адреналин, преднизолон и др.) хранят в специальном сейфе (список «Б»). Каждый случай их применения фиксируется в специальном журнале с указанием фамилии больного и номера истории болезни. Особому учету подлежат наркотические средства (морфин, омнопон, промедол,  и др.). Эти препараты хранят также  в сейфе (список «А»), ключ от которого находится у ответственного дежурного врача. В сейфе хранят и журнал, в котором отражается их расход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Рисунок 7" descr=""/>
          <p:cNvPicPr/>
          <p:nvPr/>
        </p:nvPicPr>
        <p:blipFill>
          <a:blip r:embed="rId1"/>
          <a:srcRect l="-1996" t="9332" r="0" b="0"/>
          <a:stretch/>
        </p:blipFill>
        <p:spPr>
          <a:xfrm>
            <a:off x="4343400" y="4114800"/>
            <a:ext cx="4572000" cy="2590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-4634280"/>
            <a:ext cx="22860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37720" y="609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 применения наркотического средства врач записывает назначение  в истории болезни; медицинская сестра набирает его из ампулы и вводит больному в присутствии врача, после чего врач удостоверяет своей подписью факт введения препарата. За хищение наркотических препаратов медицинские работники несут уголовную ответственность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ие правила учета и хранения ядовитых, сильнодействующих и наркотических лекарственных средств обусловлены необходимостью предупреждения  наркоман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Рисунок 4" descr=""/>
          <p:cNvPicPr/>
          <p:nvPr/>
        </p:nvPicPr>
        <p:blipFill>
          <a:blip r:embed="rId1"/>
          <a:stretch/>
        </p:blipFill>
        <p:spPr>
          <a:xfrm>
            <a:off x="6400800" y="3505320"/>
            <a:ext cx="2498760" cy="312408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5" descr=""/>
          <p:cNvPicPr/>
          <p:nvPr/>
        </p:nvPicPr>
        <p:blipFill>
          <a:blip r:embed="rId2"/>
          <a:stretch/>
        </p:blipFill>
        <p:spPr>
          <a:xfrm>
            <a:off x="838080" y="3749760"/>
            <a:ext cx="4648320" cy="2784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72314"/>
                </a:solidFill>
                <a:latin typeface="Times New Roman"/>
              </a:rPr>
              <a:t>ПУТИ ВВЕДЕНИЯ ЛЕКАРСТВЕННЫХ СРЕДСТВ В ОРГАНИЗМ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37720" y="2437920"/>
            <a:ext cx="800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ути введения подразделяют на 2 основные групп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66ff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66ff"/>
                </a:solidFill>
                <a:latin typeface="Times New Roman"/>
              </a:rPr>
              <a:t>          </a:t>
            </a:r>
            <a:r>
              <a:rPr b="0" i="1" lang="ru-RU" sz="2000" spc="-1" strike="noStrike">
                <a:solidFill>
                  <a:srgbClr val="4f271c"/>
                </a:solidFill>
                <a:latin typeface="Times New Roman"/>
              </a:rPr>
              <a:t>через ЖКТ                                                        минуя ЖК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37" name="Прямая со стрелкой 2"/>
          <p:cNvCxnSpPr/>
          <p:nvPr/>
        </p:nvCxnSpPr>
        <p:spPr>
          <a:xfrm flipH="1">
            <a:off x="1904400" y="2823840"/>
            <a:ext cx="991080" cy="762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8" name="Прямая со стрелкой 6"/>
          <p:cNvCxnSpPr/>
          <p:nvPr/>
        </p:nvCxnSpPr>
        <p:spPr>
          <a:xfrm>
            <a:off x="5867280" y="2819520"/>
            <a:ext cx="991440" cy="7624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9" name="Скругленный прямоугольник 10"/>
          <p:cNvSpPr/>
          <p:nvPr/>
        </p:nvSpPr>
        <p:spPr>
          <a:xfrm>
            <a:off x="1143000" y="3733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Энтер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кругленный прямоугольник 11"/>
          <p:cNvSpPr/>
          <p:nvPr/>
        </p:nvSpPr>
        <p:spPr>
          <a:xfrm>
            <a:off x="5638680" y="3733920"/>
            <a:ext cx="2438640" cy="83808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арентер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-4704120"/>
            <a:ext cx="15228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6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440" y="838080"/>
            <a:ext cx="800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пути введения лекарств зависит от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и наступления терапевтического действ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и действ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активности лекарств, т.е. биодоступност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выраженности  главного и побочного действ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токсического действ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 лечения: кратность, время и длительность приема препаратов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-4673160"/>
            <a:ext cx="15228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57280" y="533520"/>
            <a:ext cx="8007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нтеральные пути введения лекарственных средств в организ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новные преимущества этих способов введени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45" name="Прямая со стрелкой 2"/>
          <p:cNvCxnSpPr/>
          <p:nvPr/>
        </p:nvCxnSpPr>
        <p:spPr>
          <a:xfrm flipH="1">
            <a:off x="1523160" y="1066320"/>
            <a:ext cx="381960" cy="2293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6" name="Прямая со стрелкой 6"/>
          <p:cNvCxnSpPr/>
          <p:nvPr/>
        </p:nvCxnSpPr>
        <p:spPr>
          <a:xfrm>
            <a:off x="3428640" y="1066320"/>
            <a:ext cx="1080" cy="381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7" name="Прямая со стрелкой 8"/>
          <p:cNvCxnSpPr/>
          <p:nvPr/>
        </p:nvCxnSpPr>
        <p:spPr>
          <a:xfrm>
            <a:off x="5028840" y="1066320"/>
            <a:ext cx="1080" cy="381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8" name="Прямая со стрелкой 10"/>
          <p:cNvCxnSpPr/>
          <p:nvPr/>
        </p:nvCxnSpPr>
        <p:spPr>
          <a:xfrm>
            <a:off x="6552720" y="1028880"/>
            <a:ext cx="381960" cy="2671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49" name="Прямоугольник 13"/>
          <p:cNvSpPr/>
          <p:nvPr/>
        </p:nvSpPr>
        <p:spPr>
          <a:xfrm>
            <a:off x="457200" y="1447920"/>
            <a:ext cx="1905120" cy="5331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ерор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4"/>
          <p:cNvSpPr/>
          <p:nvPr/>
        </p:nvSpPr>
        <p:spPr>
          <a:xfrm>
            <a:off x="2438280" y="1447920"/>
            <a:ext cx="2057400" cy="5331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ублингв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15"/>
          <p:cNvSpPr/>
          <p:nvPr/>
        </p:nvSpPr>
        <p:spPr>
          <a:xfrm>
            <a:off x="4648320" y="1447920"/>
            <a:ext cx="2209680" cy="5331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ансбукк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16"/>
          <p:cNvSpPr/>
          <p:nvPr/>
        </p:nvSpPr>
        <p:spPr>
          <a:xfrm>
            <a:off x="6934320" y="1447920"/>
            <a:ext cx="1676160" cy="5331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Рек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2362320"/>
          <a:ext cx="8076960" cy="1189080"/>
        </p:xfrm>
        <a:graphic>
          <a:graphicData uri="http://schemas.openxmlformats.org/drawingml/2006/table">
            <a:tbl>
              <a:tblPr/>
              <a:tblGrid>
                <a:gridCol w="1828800"/>
                <a:gridCol w="2209680"/>
                <a:gridCol w="2362320"/>
                <a:gridCol w="16761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r os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- через рот(внутр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ub linguae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– под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а ще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er rectum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–         через прямую  киш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  <p:cxnSp>
        <p:nvCxnSpPr>
          <p:cNvPr id="354" name="Прямая со стрелкой 20"/>
          <p:cNvCxnSpPr/>
          <p:nvPr/>
        </p:nvCxnSpPr>
        <p:spPr>
          <a:xfrm flipH="1">
            <a:off x="2057040" y="4266720"/>
            <a:ext cx="267120" cy="381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5" name="Прямая со стрелкой 22"/>
          <p:cNvCxnSpPr/>
          <p:nvPr/>
        </p:nvCxnSpPr>
        <p:spPr>
          <a:xfrm>
            <a:off x="4717800" y="4266720"/>
            <a:ext cx="1080" cy="381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6" name="Прямая со стрелкой 24"/>
          <p:cNvCxnSpPr/>
          <p:nvPr/>
        </p:nvCxnSpPr>
        <p:spPr>
          <a:xfrm>
            <a:off x="6934320" y="4266720"/>
            <a:ext cx="259200" cy="381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57" name="Овал 28"/>
          <p:cNvSpPr/>
          <p:nvPr/>
        </p:nvSpPr>
        <p:spPr>
          <a:xfrm>
            <a:off x="685800" y="4784760"/>
            <a:ext cx="2286000" cy="853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ост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30"/>
          <p:cNvSpPr/>
          <p:nvPr/>
        </p:nvSpPr>
        <p:spPr>
          <a:xfrm>
            <a:off x="3524400" y="4784760"/>
            <a:ext cx="2342880" cy="853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доб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47103"/>
          <p:cNvSpPr/>
          <p:nvPr/>
        </p:nvSpPr>
        <p:spPr>
          <a:xfrm>
            <a:off x="6200640" y="4784760"/>
            <a:ext cx="2257560" cy="853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Доступ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Характеристика отдельных способов энтерального введения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72640" y="1767960"/>
            <a:ext cx="800748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еимущество способ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оугольник 4"/>
          <p:cNvSpPr/>
          <p:nvPr/>
        </p:nvSpPr>
        <p:spPr>
          <a:xfrm>
            <a:off x="2971800" y="1447920"/>
            <a:ext cx="3276720" cy="6094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ероральный –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per os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, через рот, внут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Прямая со стрелкой 6"/>
          <p:cNvCxnSpPr/>
          <p:nvPr/>
        </p:nvCxnSpPr>
        <p:spPr>
          <a:xfrm flipH="1">
            <a:off x="2514240" y="2895480"/>
            <a:ext cx="915120" cy="610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4" name="Прямая со стрелкой 8"/>
          <p:cNvCxnSpPr/>
          <p:nvPr/>
        </p:nvCxnSpPr>
        <p:spPr>
          <a:xfrm>
            <a:off x="4495320" y="2895120"/>
            <a:ext cx="1080" cy="686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5" name="Прямая со стрелкой 10"/>
          <p:cNvCxnSpPr/>
          <p:nvPr/>
        </p:nvCxnSpPr>
        <p:spPr>
          <a:xfrm>
            <a:off x="5460840" y="2857320"/>
            <a:ext cx="936000" cy="686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66" name="Прямоугольник 12"/>
          <p:cNvSpPr/>
          <p:nvPr/>
        </p:nvSpPr>
        <p:spPr>
          <a:xfrm>
            <a:off x="685800" y="3809880"/>
            <a:ext cx="1981080" cy="2210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Общие для всех энтеральных способ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осто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доб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   доступ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3"/>
          <p:cNvSpPr/>
          <p:nvPr/>
        </p:nvSpPr>
        <p:spPr>
          <a:xfrm>
            <a:off x="3505320" y="3809880"/>
            <a:ext cx="1981080" cy="22352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можность использования различных лекарственных ф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4"/>
          <p:cNvSpPr/>
          <p:nvPr/>
        </p:nvSpPr>
        <p:spPr>
          <a:xfrm>
            <a:off x="6248520" y="3809880"/>
            <a:ext cx="2438280" cy="22352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озможность получения запрограммированного действия при использовании модифицированных таблетированных ф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0:18:31Z</dcterms:created>
  <dc:creator>Моё</dc:creator>
  <dc:description/>
  <dc:language>en-US</dc:language>
  <cp:lastModifiedBy>Лилия</cp:lastModifiedBy>
  <dcterms:modified xsi:type="dcterms:W3CDTF">2017-01-25T15:22:02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