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97D-2A3C-497E-BA31-ACCA39F4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B8B-F0AD-4E4F-AECF-1564536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ED3-4D80-434F-9A81-AFDC9A4E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833-028C-4B15-9656-AEFCB08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81C-41B3-43CF-81F0-B3B6AF60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224-FBFF-4328-8626-3D52C01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6BB-E954-4698-9F24-F909736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C93-B060-4D10-8AB0-03B984F4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512-37BF-414C-A823-14FBB175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A58-3F8E-4C38-8F64-AC05D910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68E-CDF5-448E-BC91-48E1484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C12-7C9A-4791-B19C-C19A093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D0EE-B007-4647-8303-06792D594E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[82]"/>
          <p:cNvPicPr/>
          <p:nvPr/>
        </p:nvPicPr>
        <p:blipFill>
          <a:blip r:embed="rId1"/>
          <a:stretch/>
        </p:blipFill>
        <p:spPr>
          <a:xfrm>
            <a:off x="1979640" y="304920"/>
            <a:ext cx="532764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-181080" y="260280"/>
            <a:ext cx="9145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 </a:t>
            </a: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рода нашей области и здоровье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TRACK09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TRACK09.MP3" descr=""/>
          <p:cNvPicPr/>
          <p:nvPr/>
        </p:nvPicPr>
        <p:blipFill>
          <a:blip r:embed="rId3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TRACK09.MP3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580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6" descr="LifePriroda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9"/>
          <p:cNvSpPr txBox="1"/>
          <p:nvPr/>
        </p:nvSpPr>
        <p:spPr>
          <a:xfrm>
            <a:off x="1979640" y="549360"/>
            <a:ext cx="518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вежий воздух и раст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AFKD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77880" y="-1072440"/>
            <a:ext cx="59882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я сорву цветок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ты сорвёшь цветок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все: и я, и 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Дружно соберём цветы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Опустеют все поляны –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И не будет красоты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A2PSB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A4IRPH4"/>
          <p:cNvPicPr/>
          <p:nvPr/>
        </p:nvPicPr>
        <p:blipFill>
          <a:blip r:embed="rId2"/>
          <a:stretch/>
        </p:blipFill>
        <p:spPr>
          <a:xfrm>
            <a:off x="900000" y="4149720"/>
            <a:ext cx="2305080" cy="208908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1187280" y="9810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LifePriroda71"/>
          <p:cNvPicPr/>
          <p:nvPr/>
        </p:nvPicPr>
        <p:blipFill>
          <a:blip r:embed="rId1"/>
          <a:stretch/>
        </p:blipFill>
        <p:spPr>
          <a:xfrm>
            <a:off x="4643280" y="393372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AMN85MF"/>
          <p:cNvPicPr/>
          <p:nvPr/>
        </p:nvPicPr>
        <p:blipFill>
          <a:blip r:embed="rId2"/>
          <a:stretch/>
        </p:blipFill>
        <p:spPr>
          <a:xfrm>
            <a:off x="324000" y="192240"/>
            <a:ext cx="338436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AQ9EFY9"/>
          <p:cNvPicPr/>
          <p:nvPr/>
        </p:nvPicPr>
        <p:blipFill>
          <a:blip r:embed="rId3"/>
          <a:stretch/>
        </p:blipFill>
        <p:spPr>
          <a:xfrm>
            <a:off x="971640" y="3933720"/>
            <a:ext cx="187164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2556000" y="1989000"/>
            <a:ext cx="410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9" descr="LifePriroda490"/>
          <p:cNvPicPr/>
          <p:nvPr/>
        </p:nvPicPr>
        <p:blipFill>
          <a:blip r:embed="rId4"/>
          <a:stretch/>
        </p:blipFill>
        <p:spPr>
          <a:xfrm>
            <a:off x="4859280" y="189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AMN85MF"/>
          <p:cNvPicPr/>
          <p:nvPr/>
        </p:nvPicPr>
        <p:blipFill>
          <a:blip r:embed="rId5"/>
          <a:stretch/>
        </p:blipFill>
        <p:spPr>
          <a:xfrm>
            <a:off x="324000" y="189000"/>
            <a:ext cx="338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2268360" y="3573360"/>
            <a:ext cx="2376720" cy="23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4427640" y="4005360"/>
            <a:ext cx="2376360" cy="237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979640" y="1197000"/>
            <a:ext cx="2376360" cy="2376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3995640" y="404640"/>
            <a:ext cx="2376720" cy="237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508720" y="2205000"/>
            <a:ext cx="2376360" cy="2376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3995640" y="2637000"/>
            <a:ext cx="1584360" cy="15825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7956720" y="1341360"/>
            <a:ext cx="79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455480" y="4005000"/>
            <a:ext cx="587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556000" y="765000"/>
            <a:ext cx="33112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16"/>
          <p:cNvSpPr txBox="1"/>
          <p:nvPr/>
        </p:nvSpPr>
        <p:spPr>
          <a:xfrm>
            <a:off x="1187280" y="213372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представлений о здоровье;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17"/>
          <p:cNvSpPr txBox="1"/>
          <p:nvPr/>
        </p:nvSpPr>
        <p:spPr>
          <a:xfrm>
            <a:off x="1187280" y="3284640"/>
            <a:ext cx="6985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питывать экологическую культуру;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-6373800" y="4076640"/>
            <a:ext cx="4533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вать познавательную  активность детей,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                                                                                     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23"/>
          <p:cNvSpPr txBox="1"/>
          <p:nvPr/>
        </p:nvSpPr>
        <p:spPr>
          <a:xfrm>
            <a:off x="1187280" y="4292640"/>
            <a:ext cx="59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вать познавательну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ивность детей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24"/>
          <p:cNvSpPr txBox="1"/>
          <p:nvPr/>
        </p:nvSpPr>
        <p:spPr>
          <a:xfrm>
            <a:off x="1332000" y="5877000"/>
            <a:ext cx="68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вство уважения к окружающему миру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25" descr="CA50SBW5"/>
          <p:cNvPicPr/>
          <p:nvPr/>
        </p:nvPicPr>
        <p:blipFill>
          <a:blip r:embed="rId1"/>
          <a:stretch/>
        </p:blipFill>
        <p:spPr>
          <a:xfrm>
            <a:off x="179280" y="1989000"/>
            <a:ext cx="863640" cy="9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CA50SBW5"/>
          <p:cNvPicPr/>
          <p:nvPr/>
        </p:nvPicPr>
        <p:blipFill>
          <a:blip r:embed="rId2"/>
          <a:stretch/>
        </p:blipFill>
        <p:spPr>
          <a:xfrm>
            <a:off x="179280" y="3141720"/>
            <a:ext cx="8636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CA50SBW5"/>
          <p:cNvPicPr/>
          <p:nvPr/>
        </p:nvPicPr>
        <p:blipFill>
          <a:blip r:embed="rId3"/>
          <a:stretch/>
        </p:blipFill>
        <p:spPr>
          <a:xfrm>
            <a:off x="179280" y="4221000"/>
            <a:ext cx="863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405 008"/>
          <p:cNvPicPr/>
          <p:nvPr/>
        </p:nvPicPr>
        <p:blipFill>
          <a:blip r:embed="rId1"/>
          <a:stretch/>
        </p:blipFill>
        <p:spPr>
          <a:xfrm>
            <a:off x="684360" y="665280"/>
            <a:ext cx="4248000" cy="6192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250920" y="481608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Мизинец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– для меня было недостаточно информации – </a:t>
            </a:r>
            <a:r>
              <a:rPr b="1" lang="ru-RU" sz="4000" spc="-1" strike="noStrike">
                <a:solidFill>
                  <a:srgbClr val="9900ff"/>
                </a:solidFill>
                <a:latin typeface="Monotype Corsiva"/>
              </a:rPr>
              <a:t>фиолетовым.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917000" y="32457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9280" y="1131120"/>
            <a:ext cx="1132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Большо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для меня тема была важ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и интересной –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красным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95280" y="0"/>
            <a:ext cx="9360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Рефлексия «Всё в твоих руках».                         </a:t>
            </a:r>
            <a:endParaRPr b="1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826920" y="493092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50920" y="227664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Указательны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узнал много нового –               </a:t>
            </a:r>
            <a:r>
              <a:rPr b="1" i="1" lang="ru-RU" sz="4000" spc="-1" strike="noStrike">
                <a:solidFill>
                  <a:srgbClr val="ffff00"/>
                </a:solidFill>
                <a:latin typeface="Monotype Corsiva"/>
              </a:rPr>
              <a:t>жёлты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0920" y="350028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Средни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мне было трудно – </a:t>
            </a: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зелёным.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39840" y="4313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50920" y="414972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Безымянны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для меня было – комфортно – </a:t>
            </a:r>
            <a:r>
              <a:rPr b="1" i="1" lang="ru-RU" sz="4000" spc="-1" strike="noStrike">
                <a:solidFill>
                  <a:srgbClr val="0000a4"/>
                </a:solidFill>
                <a:latin typeface="Monotype Corsiva"/>
              </a:rPr>
              <a:t>син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239840" y="5969160"/>
            <a:ext cx="621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258920" y="5950080"/>
            <a:ext cx="51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7" descr="LifeFlover230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2247840" y="92880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258920" y="112536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Для того чтобы жить – человеку нужно солнце, свобода и маленький цветок 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5508720" y="57531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Г. Х. 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Андерс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LifeFlover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fePriroda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LifePriroda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763640" y="260280"/>
            <a:ext cx="85107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ЕПОЛОГАНИЕ                     </a:t>
            </a:r>
            <a:endParaRPr b="1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1258920" y="1844640"/>
            <a:ext cx="640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ть, что такое природа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2268360" y="2781360"/>
            <a:ext cx="4172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здоровь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179280" y="3789360"/>
            <a:ext cx="8829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ирода влияет на здоровье челове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908000" y="4869000"/>
            <a:ext cx="53247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– часть природы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3429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95280" y="4436640"/>
            <a:ext cx="403236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17"/>
          <p:cNvSpPr txBox="1"/>
          <p:nvPr/>
        </p:nvSpPr>
        <p:spPr>
          <a:xfrm>
            <a:off x="3203640" y="620640"/>
            <a:ext cx="29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24"/>
          <p:cNvSpPr/>
          <p:nvPr/>
        </p:nvSpPr>
        <p:spPr>
          <a:xfrm flipV="1">
            <a:off x="1979640" y="4149000"/>
            <a:ext cx="100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1187280" y="3213000"/>
            <a:ext cx="1629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ух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30"/>
          <p:cNvSpPr txBox="1"/>
          <p:nvPr/>
        </p:nvSpPr>
        <p:spPr>
          <a:xfrm>
            <a:off x="1258920" y="2492280"/>
            <a:ext cx="149544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31"/>
          <p:cNvSpPr txBox="1"/>
          <p:nvPr/>
        </p:nvSpPr>
        <p:spPr>
          <a:xfrm>
            <a:off x="1258920" y="3933720"/>
            <a:ext cx="113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32"/>
          <p:cNvSpPr txBox="1"/>
          <p:nvPr/>
        </p:nvSpPr>
        <p:spPr>
          <a:xfrm>
            <a:off x="1116000" y="4653000"/>
            <a:ext cx="20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мни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33"/>
          <p:cNvSpPr txBox="1"/>
          <p:nvPr/>
        </p:nvSpPr>
        <p:spPr>
          <a:xfrm>
            <a:off x="5940360" y="2565360"/>
            <a:ext cx="176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34"/>
          <p:cNvSpPr txBox="1"/>
          <p:nvPr/>
        </p:nvSpPr>
        <p:spPr>
          <a:xfrm>
            <a:off x="5940360" y="3213000"/>
            <a:ext cx="2505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е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5"/>
          <p:cNvSpPr txBox="1"/>
          <p:nvPr/>
        </p:nvSpPr>
        <p:spPr>
          <a:xfrm>
            <a:off x="5940360" y="3933720"/>
            <a:ext cx="2401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36"/>
          <p:cNvSpPr txBox="1"/>
          <p:nvPr/>
        </p:nvSpPr>
        <p:spPr>
          <a:xfrm>
            <a:off x="5940360" y="4581360"/>
            <a:ext cx="1481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ибы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37"/>
          <p:cNvSpPr txBox="1"/>
          <p:nvPr/>
        </p:nvSpPr>
        <p:spPr>
          <a:xfrm>
            <a:off x="5200560" y="5373720"/>
            <a:ext cx="394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роорганизмы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9"/>
          <p:cNvSpPr txBox="1"/>
          <p:nvPr/>
        </p:nvSpPr>
        <p:spPr>
          <a:xfrm>
            <a:off x="611280" y="1484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живая                     </a:t>
            </a:r>
            <a:endParaRPr b="0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4"/>
          <p:cNvSpPr txBox="1"/>
          <p:nvPr/>
        </p:nvSpPr>
        <p:spPr>
          <a:xfrm>
            <a:off x="5364000" y="1484280"/>
            <a:ext cx="63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ая                     </a:t>
            </a:r>
            <a:endParaRPr b="0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484360" y="692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340000" y="1989000"/>
            <a:ext cx="61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ое благополучие 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2771640" y="3357720"/>
            <a:ext cx="52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вновесие 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2340000" y="4365720"/>
            <a:ext cx="633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ое состояние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37:16Z</dcterms:created>
  <dc:creator>кодак</dc:creator>
  <dc:description/>
  <dc:language>en-US</dc:language>
  <cp:lastModifiedBy>Татьяна</cp:lastModifiedBy>
  <dcterms:modified xsi:type="dcterms:W3CDTF">2020-04-07T12:05:12Z</dcterms:modified>
  <cp:revision>28</cp:revision>
  <dc:subject/>
  <dc:title>Слайд 1</dc:title>
</cp:coreProperties>
</file>