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F5D-D731-49F8-AB9F-0AE403CF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788-0FD6-4A6F-94A4-346B52E9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CD2-043E-4111-80CC-97729F2B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830-413A-44ED-BA7E-74AA635C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224-DF07-4850-AE9D-D0B83CE2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6F02-5746-4097-9624-E27C288A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985-EC95-4D9D-AA35-6B11A0DB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C8E-D56B-4BF8-88EC-A2B7EBD5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404-ABAD-4E43-B477-B972BCF1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D46-96E3-45FC-972A-EC60D6C8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A6A-920D-4BC0-A647-3788BD5D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C89-F705-4F96-9135-A4E38FCD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ECEE-3EAF-4594-B0A3-05641FEA4D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821520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ЕВЕРО-ЕНИСЕЙСКАЯ СРЕДНЯЯ ШКОЛА № 2»</a:t>
            </a:r>
            <a:br>
              <a:rPr sz="4000"/>
            </a:br>
            <a:br>
              <a:rPr sz="4800"/>
            </a:b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ект</a:t>
            </a:r>
            <a:br>
              <a:rPr sz="4300"/>
            </a:br>
            <a:r>
              <a:rPr b="1" lang="ru-RU" sz="7200" spc="-1" strike="noStrike">
                <a:solidFill>
                  <a:srgbClr val="7c5f1e"/>
                </a:solidFill>
                <a:latin typeface="Times New Roman"/>
                <a:ea typeface="Calibri"/>
              </a:rPr>
              <a:t>«Кошкин дом»</a:t>
            </a:r>
            <a:br>
              <a:rPr sz="4300"/>
            </a:br>
            <a:r>
              <a:rPr b="0" lang="ru-RU" sz="4800" spc="-1" strike="noStrike">
                <a:solidFill>
                  <a:srgbClr val="7c5f1e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33920" y="4849920"/>
            <a:ext cx="505296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роект подготовила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MS Mincho"/>
              </a:rPr>
              <a:t>Егорова Екатерина, ученица 5Б клас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Руководитель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:  Лошакова Н. Б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928800" y="1428840"/>
            <a:ext cx="7358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читаю, что поставленны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цели и задачи проекта достиг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собрала, и проанализировали информацию о кош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учила виды дом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аботала эски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готовила домик для кош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формила материал в прое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Я планиру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Documents and Settings\Admin\Рабочий стол\739_3.jpg"/>
          <p:cNvPicPr/>
          <p:nvPr/>
        </p:nvPicPr>
        <p:blipFill>
          <a:blip r:embed="rId1"/>
          <a:stretch/>
        </p:blipFill>
        <p:spPr>
          <a:xfrm>
            <a:off x="0" y="1143000"/>
            <a:ext cx="5000760" cy="3500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Admin\Рабочий стол\158_22.jpg"/>
          <p:cNvPicPr/>
          <p:nvPr/>
        </p:nvPicPr>
        <p:blipFill>
          <a:blip r:embed="rId2"/>
          <a:stretch/>
        </p:blipFill>
        <p:spPr>
          <a:xfrm>
            <a:off x="5072040" y="3890880"/>
            <a:ext cx="4071960" cy="29671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0" y="454968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овершенствовать технологию создания кошкиного дома, разработать многоуровневые домики на радость домашним питомцам и для удовольствия их хозяе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C:\Documents and Settings\Admin\Рабочий стол\720_5.jpg"/>
          <p:cNvPicPr/>
          <p:nvPr/>
        </p:nvPicPr>
        <p:blipFill>
          <a:blip r:embed="rId3"/>
          <a:stretch/>
        </p:blipFill>
        <p:spPr>
          <a:xfrm>
            <a:off x="5072040" y="1357200"/>
            <a:ext cx="384012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255600" y="1076760"/>
            <a:ext cx="6359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Список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ычков А.В. Метод проектов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ременной школе. – М.,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нет -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4" descr=""/>
          <p:cNvPicPr/>
          <p:nvPr/>
        </p:nvPicPr>
        <p:blipFill>
          <a:blip r:embed="rId1"/>
          <a:stretch/>
        </p:blipFill>
        <p:spPr>
          <a:xfrm>
            <a:off x="785880" y="2871720"/>
            <a:ext cx="77547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02d4"/>
                </a:solidFill>
                <a:latin typeface="Arial"/>
              </a:rPr>
              <a:t>Выбор и обоснование проек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315160" y="695520"/>
            <a:ext cx="679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в ответе за тех, кого приручили 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7130160" y="129744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 – Экзюп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3"/>
          <p:cNvSpPr/>
          <p:nvPr/>
        </p:nvSpPr>
        <p:spPr>
          <a:xfrm>
            <a:off x="714240" y="1628640"/>
            <a:ext cx="7858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облем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ru-RU" sz="2800" spc="-1" strike="noStrike">
                <a:solidFill>
                  <a:srgbClr val="1102d4"/>
                </a:solidFill>
                <a:latin typeface="Times New Roman"/>
              </a:rPr>
              <a:t>у домашнего питомца нет </a:t>
            </a:r>
            <a:r>
              <a:rPr b="1" i="1" lang="ru-RU" sz="2800" spc="-1" strike="noStrike" u="sng">
                <a:solidFill>
                  <a:srgbClr val="1102d4"/>
                </a:solidFill>
                <a:uFillTx/>
                <a:latin typeface="Times New Roman"/>
              </a:rPr>
              <a:t>специально отведенного места </a:t>
            </a:r>
            <a:r>
              <a:rPr b="1" i="1" lang="ru-RU" sz="2800" spc="-1" strike="noStrike">
                <a:solidFill>
                  <a:srgbClr val="1102d4"/>
                </a:solidFill>
                <a:latin typeface="Times New Roman"/>
              </a:rPr>
              <a:t>для сна 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ктуальность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1102d4"/>
                </a:solidFill>
                <a:latin typeface="Times New Roman"/>
              </a:rPr>
              <a:t> работа заставит задуматься о необходимости не только кормить и заботиться о своем питомце, но  и  вдохновит создать </a:t>
            </a:r>
            <a:r>
              <a:rPr b="1" i="1" lang="ru-RU" sz="2800" spc="-1" strike="noStrike" u="sng">
                <a:solidFill>
                  <a:srgbClr val="1102d4"/>
                </a:solidFill>
                <a:uFillTx/>
                <a:latin typeface="Times New Roman"/>
              </a:rPr>
              <a:t>соответствующие условия для сна и отдых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102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179280" y="333360"/>
            <a:ext cx="8713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3286080" y="1571760"/>
            <a:ext cx="51688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2682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2682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9029880" y="49579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" name="Text Box 24"/>
          <p:cNvSpPr/>
          <p:nvPr/>
        </p:nvSpPr>
        <p:spPr>
          <a:xfrm>
            <a:off x="5796000" y="1268280"/>
            <a:ext cx="2887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2080080" y="285840"/>
            <a:ext cx="347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306d0"/>
                </a:solidFill>
                <a:latin typeface="Times New Roman"/>
              </a:rPr>
              <a:t>Цели и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14200" y="1143000"/>
            <a:ext cx="8675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02d4"/>
                </a:solidFill>
                <a:latin typeface="Times New Roman"/>
                <a:ea typeface="Times New Roman"/>
              </a:rPr>
              <a:t>Цель проекта</a:t>
            </a:r>
            <a:r>
              <a:rPr b="0" lang="ru-RU" sz="2800" spc="-1" strike="noStrike">
                <a:solidFill>
                  <a:srgbClr val="1102d4"/>
                </a:solidFill>
                <a:latin typeface="Times New Roman"/>
                <a:ea typeface="Times New Roman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 и изготовление красивого  и удобного домика для кота из картонной коро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и изучить информацию по данной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подходящий образец дом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нужный матери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количество необходимого 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ить издел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ить прое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102d4"/>
                </a:solidFill>
                <a:latin typeface="Arial"/>
              </a:rPr>
              <a:t>«Звездочка обдумывания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хема 2" descr=""/>
          <p:cNvPicPr/>
          <p:nvPr/>
        </p:nvPicPr>
        <p:blipFill>
          <a:blip r:embed="rId1"/>
          <a:stretch/>
        </p:blipFill>
        <p:spPr>
          <a:xfrm>
            <a:off x="268200" y="993600"/>
            <a:ext cx="8704440" cy="55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114640" y="-488520"/>
            <a:ext cx="491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102d4"/>
                </a:solidFill>
                <a:latin typeface="Times New Roman"/>
                <a:ea typeface="Times New Roman"/>
              </a:rPr>
              <a:t>Историческая спра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214200" y="836640"/>
            <a:ext cx="85726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тория кошек в России: без кошки нет из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пы первой домашней кошки ступили на русскую землю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веке. Известно, что животное на Русь привезли мореплаватели, и успех странного пушистого зверя был просто ошеломительным! В ходу сразу же появилась пословица «Без кошки нет изб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ты и предс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285840" y="4005360"/>
            <a:ext cx="8572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зведение кошек в Росс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егодня в России разводят свыше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20 пород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широко известных в мире, а кроме того, русские кошки имеют целых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500 вариаций окрас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0" y="2997360"/>
            <a:ext cx="9144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стория кошек на Руси характеризовалась постоянным появлением </a:t>
            </a:r>
            <a:r>
              <a:rPr b="1" i="1" lang="ru-RU" sz="3200" spc="-1" strike="noStrike">
                <a:solidFill>
                  <a:srgbClr val="3824ce"/>
                </a:solidFill>
                <a:latin typeface="Monotype Corsiva"/>
              </a:rPr>
              <a:t>примет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связанных с их жизнью. Эти приметы до сих пор в ходу, а основаны они были на суеверии о том, что </a:t>
            </a: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кошки приносят удач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306d0"/>
                </a:solidFill>
                <a:latin typeface="Arial"/>
              </a:rPr>
              <a:t>Анализ идей, эскизы домик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895968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895968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5" descr="C:\Documents and Settings\Admin\Рабочий стол\739_4.jpg"/>
          <p:cNvPicPr/>
          <p:nvPr/>
        </p:nvPicPr>
        <p:blipFill>
          <a:blip r:embed="rId1"/>
          <a:stretch/>
        </p:blipFill>
        <p:spPr>
          <a:xfrm>
            <a:off x="1285920" y="2643120"/>
            <a:ext cx="6667560" cy="2114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7" descr="C:\Documents and Settings\Admin\Рабочий стол\660_6.jpg"/>
          <p:cNvPicPr/>
          <p:nvPr/>
        </p:nvPicPr>
        <p:blipFill>
          <a:blip r:embed="rId2"/>
          <a:stretch/>
        </p:blipFill>
        <p:spPr>
          <a:xfrm>
            <a:off x="3500280" y="4826160"/>
            <a:ext cx="5429520" cy="203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8" descr="C:\Documents and Settings\Admin\Рабочий стол\237_15.jpg"/>
          <p:cNvPicPr/>
          <p:nvPr/>
        </p:nvPicPr>
        <p:blipFill>
          <a:blip r:embed="rId3"/>
          <a:stretch/>
        </p:blipFill>
        <p:spPr>
          <a:xfrm>
            <a:off x="285840" y="500040"/>
            <a:ext cx="657216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06d0"/>
                </a:solidFill>
                <a:latin typeface="Arial"/>
              </a:rPr>
              <a:t>Выбор материала дл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>
            <a:off x="4859280" y="1484280"/>
            <a:ext cx="2314800" cy="130176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ал для деталей до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"/>
          <p:cNvSpPr/>
          <p:nvPr/>
        </p:nvSpPr>
        <p:spPr>
          <a:xfrm>
            <a:off x="1116000" y="1700280"/>
            <a:ext cx="2624040" cy="115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102d4"/>
                </a:solidFill>
                <a:latin typeface="Arial"/>
                <a:ea typeface="Arial"/>
              </a:rPr>
              <a:t>КАРТОН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КАРТОННАЯ КОРОБ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1"/>
          <p:cNvCxnSpPr/>
          <p:nvPr/>
        </p:nvCxnSpPr>
        <p:spPr>
          <a:xfrm flipH="1">
            <a:off x="3642480" y="2071800"/>
            <a:ext cx="135828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Rectangle 4"/>
          <p:cNvSpPr/>
          <p:nvPr/>
        </p:nvSpPr>
        <p:spPr>
          <a:xfrm>
            <a:off x="92880" y="5976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799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799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-18108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1537560" y="106668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Выбор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6"/>
          <p:cNvSpPr/>
          <p:nvPr/>
        </p:nvSpPr>
        <p:spPr>
          <a:xfrm>
            <a:off x="2643120" y="4929120"/>
            <a:ext cx="3286080" cy="142884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5"/>
          <p:cNvSpPr/>
          <p:nvPr/>
        </p:nvSpPr>
        <p:spPr>
          <a:xfrm>
            <a:off x="642960" y="4286160"/>
            <a:ext cx="1647720" cy="695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4"/>
          <p:cNvSpPr/>
          <p:nvPr/>
        </p:nvSpPr>
        <p:spPr>
          <a:xfrm>
            <a:off x="0" y="5500800"/>
            <a:ext cx="23572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ранда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13"/>
          <p:cNvCxnSpPr>
            <a:endCxn id="76" idx="4"/>
          </p:cNvCxnSpPr>
          <p:nvPr/>
        </p:nvCxnSpPr>
        <p:spPr>
          <a:xfrm flipH="1" flipV="1">
            <a:off x="3963600" y="4214520"/>
            <a:ext cx="3744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AutoShape 12"/>
          <p:cNvCxnSpPr/>
          <p:nvPr/>
        </p:nvCxnSpPr>
        <p:spPr>
          <a:xfrm flipV="1">
            <a:off x="5072040" y="4500000"/>
            <a:ext cx="66744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AutoShape 11"/>
          <p:cNvCxnSpPr/>
          <p:nvPr/>
        </p:nvCxnSpPr>
        <p:spPr>
          <a:xfrm flipH="1" flipV="1">
            <a:off x="2142360" y="4857480"/>
            <a:ext cx="78660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10"/>
          <p:cNvCxnSpPr/>
          <p:nvPr/>
        </p:nvCxnSpPr>
        <p:spPr>
          <a:xfrm flipH="1" flipV="1">
            <a:off x="2214000" y="571464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Oval 9"/>
          <p:cNvSpPr/>
          <p:nvPr/>
        </p:nvSpPr>
        <p:spPr>
          <a:xfrm>
            <a:off x="6429240" y="5643720"/>
            <a:ext cx="1857600" cy="581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8"/>
          <p:cNvCxnSpPr>
            <a:endCxn id="80" idx="2"/>
          </p:cNvCxnSpPr>
          <p:nvPr/>
        </p:nvCxnSpPr>
        <p:spPr>
          <a:xfrm>
            <a:off x="5786280" y="5857920"/>
            <a:ext cx="6433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4"/>
          <p:cNvSpPr/>
          <p:nvPr/>
        </p:nvSpPr>
        <p:spPr>
          <a:xfrm>
            <a:off x="2857680" y="3429000"/>
            <a:ext cx="2214360" cy="785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Картонная коро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8"/>
          <p:cNvSpPr/>
          <p:nvPr/>
        </p:nvSpPr>
        <p:spPr>
          <a:xfrm>
            <a:off x="5500800" y="4071960"/>
            <a:ext cx="1552320" cy="581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ра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8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rcRect l="24903" t="29296" r="21633" b="32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лама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1357200"/>
            <a:ext cx="514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или-тили-тили-бом!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Мы построим кошкин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или-тили-тили-бом!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Приходите в новый д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1785960" y="30002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обный домик для кошек изготовлен с любовью, это прекрасный подарок для моего любим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285840" y="4786200"/>
            <a:ext cx="72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102d4"/>
                </a:solidFill>
                <a:latin typeface="Times New Roman"/>
                <a:ea typeface="Times New Roman"/>
              </a:rPr>
              <a:t>Удобный «кошкин дом» собрал в себе компактность, несложность в изготовлении, красоту и универс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C:\Documents and Settings\Admin\Рабочий стол\проект дом\129_23.jpg"/>
          <p:cNvPicPr/>
          <p:nvPr/>
        </p:nvPicPr>
        <p:blipFill>
          <a:blip r:embed="rId1"/>
          <a:stretch/>
        </p:blipFill>
        <p:spPr>
          <a:xfrm>
            <a:off x="5929200" y="0"/>
            <a:ext cx="22449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07:40:46Z</dcterms:created>
  <dc:creator>Мамуля</dc:creator>
  <dc:description/>
  <dc:language>en-US</dc:language>
  <cp:lastModifiedBy>Admin</cp:lastModifiedBy>
  <dcterms:modified xsi:type="dcterms:W3CDTF">2018-04-27T01:11:22Z</dcterms:modified>
  <cp:revision>231</cp:revision>
  <dc:subject/>
  <dc:title>Урок геометрии в 8 классе</dc:title>
</cp:coreProperties>
</file>