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53F-D072-4F0B-83E7-68DC0CE7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2D5-3BA2-4B88-9086-418B9F7D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412-69BF-443A-BA59-26B181FB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442-E75D-447E-B9A9-3DB10361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3714-A909-45B5-BBC1-EC4D2944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9302-11F4-48F2-A9C1-CAD1DAAC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7852-4259-4804-9565-EF6BB196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E96A-82F5-4FE1-AC3D-FE124F87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3576-638A-47C4-B94C-DE686D4B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77AD-3F51-4DC4-BAF5-EFDBF5CB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4E02-CEFF-4479-9C1F-9DA8E687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851-47C0-4239-9439-D1A50A6F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1317-EB60-4C73-804E-EAC94C7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3265-641B-48EA-ADFE-B76CE4C1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1E5-49A0-46B9-83F1-5E73481F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39F6-5607-47E0-A4CE-74D090B3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F810-40B0-47BB-A144-94BB7E15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0AD-9E7C-44BE-8111-77E05A7E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22A-5CA8-402F-ADB5-A8209BB2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067-F9AD-4506-87CD-716F6F5B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D28-6917-46B3-A94C-5EE67411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F45-6B09-485A-A558-F0A6971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C01-C0CA-4905-B968-A4525D1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00C-88D0-42BD-9543-81D5E09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8EFC-7236-4103-9A9F-01F488CB7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89AF-11FB-4CD0-92DC-7AC413B9D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bcbcb"/>
                </a:solidFill>
                <a:latin typeface="Times New Roman"/>
              </a:rPr>
              <a:t>Проект </a:t>
            </a:r>
            <a:br>
              <a:rPr sz="4800"/>
            </a:br>
            <a:r>
              <a:rPr b="1" i="1" lang="en-US" sz="4800" spc="-1" strike="noStrike">
                <a:solidFill>
                  <a:srgbClr val="cbcbcb"/>
                </a:solidFill>
                <a:latin typeface="Times New Roman"/>
              </a:rPr>
              <a:t>«Мой домашний питомец»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88000" y="4365720"/>
            <a:ext cx="3951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одготовил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еница 1 «Б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БОУ школы №346 Бахтиярова Яросла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54880"/>
            <a:ext cx="6568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ерьер йоркширский, ласковый и неж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Глаза его огромной красот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н милый ,удивительный ,чудес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расивый и отважный,пёс мечты 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алютка йорк– салонная собач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 кроху хочется ласкать и опек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зволить ей носиться и играт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 ней в омут игр,с головой нырять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еличие Йоркширского терь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есёлый нрав из сказочной мечты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н самый лучший Ангел в ми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чарования и красоты 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ознакомтесь!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Это Арчибальт!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47640" y="2060280"/>
            <a:ext cx="6553440" cy="40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5739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57840" y="-3732840"/>
            <a:ext cx="74520" cy="1106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охматые ушки, лохматые лапки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мером мала, умещается в тапке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ве бусинки глазки глядят из под чёлки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ос кожаный кнопкой, и зубки иголк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есь этот комплект красоты, обая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мещается в сущее очарование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овётся которое в общем и целом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расивым, любимым йоркширским терьером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аким мы увидели его в первый раз и влюбились – это была любовь с первого взгляда. Мы дали ему имя Арчибальт, а дома ласково называли Арчи, Арчуш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68000" y="2276640"/>
            <a:ext cx="4604040" cy="34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832360" cy="43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Мы приезжали его навещать, так как первый месяц он жил с мамой, сестрами и братом. На этих фотографиях у него только открылись глазки, ведь щенки рождаются слепым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763800" cy="2820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504036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е боится он лозинки, 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Ест хозяйские ботинки: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Лает громко, как звонок –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Это маленький…</a:t>
            </a: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19640" y="3068640"/>
            <a:ext cx="5148000" cy="340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43563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Таким прекрасным персональным диваном его встретил наш дом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14232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н всегда ищет приключения, любовь и наше внимание. А его характер просто поражает своей смелостью и упрямством. По своей природе он любознательный и наделен большим количеством озорств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4701960" cy="3111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53528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рчушка был большим модником, но больше всего он любил джинсовый комбинезон который ему сшила мама.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431040" cy="425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5T15:57:25Z</dcterms:created>
  <dc:creator>Саша</dc:creator>
  <dc:description/>
  <dc:language>en-US</dc:language>
  <cp:lastModifiedBy>Саша</cp:lastModifiedBy>
  <dcterms:modified xsi:type="dcterms:W3CDTF">2016-04-05T20:54:45Z</dcterms:modified>
  <cp:revision>2</cp:revision>
  <dc:subject/>
  <dc:title>Проект  «Мой домашний питомец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