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D77-27C9-4A7A-8175-F8A87386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621-0EFB-4BBE-9F1C-5E260882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71F-77E5-47F1-B475-C1756B6E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C08-A654-476C-AA83-FF89C19D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301-DA79-487F-A009-F19D25C3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929-D357-4A88-A7C1-02D11A6B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C90-B712-46EE-B3BA-142D5593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B59-01F2-4F34-94F2-2C70C524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6E8-55CA-48A6-86E6-AC24A8F8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8B9-8748-4508-81D0-01BF8E66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CFF-A752-4784-9F00-9DBB2EB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EBE-DF5A-4155-B97B-3F0F4E7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9675-D526-414A-8BA5-AB1BBFE7C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ект по ОБЖ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Лето в деревне, на даче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06480" y="5444640"/>
            <a:ext cx="553716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саткина М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торник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Домашние животны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ожить детям вместе с родителями сделать альбом с фотографиями их домашних животных и приготовить небольшие рассказы о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сти занятие по ознакомлению с окружающим, тема “Домашние и дикие животные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сти занятие по рисованию, тема “Я люблю свою собаку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ь детей понимать состояние и поведение животных, как обращаться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ь детям, что контакты с животными иногда могут быть опа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сунок на тему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Домашние животны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76908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Гро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ть детям элементарные научные знания о том, что такое гроза, гром, молния, рад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знакомить детей с правилами поведения во время грозы. Привести пример и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ать учить детей анализировать, сравнивать, делать выводы и умозаклю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питывать умение слушать и понимать литературный текст художественного произ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формировать понятия о том, как вести себя во время грозы, что делать, чтобы остаться в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сунки на тему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Гро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8480" cy="29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4257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тверг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Насеком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ть детям элементарные знания о насекомых: сформировать понятие о том, что насекомые это маленькие животные, у которых есть голова, грудь, брюшко, шесть ног, у многих есть крылья. Расширить представление о способах передвижения этих животных, их пит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ть детям знания о правилах поведения при встрече с разными насекомыми, воспитывать интерес и бережное отношение к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репить у детей понятие сообщества “Луг” и названия луговых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азать взаимосвязь существования в природе разных сооб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сунки на тему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Насекомы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403884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елка из пластилина на тему: «Насекомы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ятница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«Путешествие в ле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репить у детей знания о растениях леса, съедобных и несъедобных гриб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ширить представления о растениях леса: деревья, ягоды; о животных обитателях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ать формировать логическое мышление у детей, умение быстро отгадывать загадки, закреплять навыки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казать зависимость существования всех объектов природного мира, воспитывать добрые отношения ко всему живому, желание ухаживать и защищ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репить у детей знания о том, что деревня (дача) расположена в близи лесного массива. И это не безопас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учится ориентироваться на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та в груп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сунки на тему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Ле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29620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жидаемый результа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знанное отношение к вопросам личной безопасности и безопасности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ие предвидеть возможную опасность, находить способы избегать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явление выдержки, самостоятельности , сообразительности, дисциплинированности в соблюдении правил поведения в сельско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ение компетентности родителей в вопросах воспитания безопасного поведения детей в деревне и на да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опасности формула есть:                                                                                   Надо видеть, предвидеть, у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возможно – все избежать,                                                                                       А где надо – на помощь по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.Г.Хром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ект должен стать рулевым управлением в развитии познавательной инициативы дошкольных педагогических коллективов, занимающимися проблемами дет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ытно экспериментальная работа, изобразительная деятельность, художественное слово очень значимо для детей дошкольников 5 – 6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сследуя, ребенок проявляет свое стремление к познанию окружающего мира, и по продуктивной деятельности определенной степени можно выяснить уровень этого познания. Чем более развито у детей восприятие, наблюдательность, чем шире запас их представлений, тем полнее и точнее отражают они действительность в своих «продукта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занятиях познавательной деятельности осуществляются задачи всестороннего развития личности ребенка: умственное развитие и эстетическое отношение к действительности, нравственное воспитание. Процесс познания формирует навыки работы в коллективе и для коллектива, умение согласовать свои действия с товарищ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ект должен стать мощным импульсом к развитию творческой инициативы дошкольных педагогических коллективов, занимающимся проблемами дет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целом проект с детьми и родителями, с моей точки зрения, имеет прогрессивный харак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спорт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и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информационный, практико – ориентирован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дети, воспитатели, родит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должитель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 нед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раст дет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5 – 6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ктуальность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ое ценное в нашей жизни –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изнь, здоровье и безопасность дошкольников полностью зависит от окружающих их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дставленный мною проект по ОБЖ «Лето в деревне!» актуален в наше время, т.к. в нашей стране очень любим отдых в деревне, на да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адая из города в деревню, ребенок оказывается в новых жизненных условиях, к которым он должен быть подготовл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ногда, мы даже не задумываемся, сколько надо знать ребенку, чтобы уверенно действовать в разных ситуациях, которые происходят в его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нания эти ребенок должен получить от родителей и воспитателей. В моем случае, воспитатель обогащает знания детей об их безопасности во время отдыха в сельской мес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ль: познакомить детей с элементарными правилами безопасного поведения в сельской местности; сформировать умение самостоятельно применять их в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ть понятие о том, что место проживания в деревне – это сельский деревянный дом, который имеет свои плюсы и мину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ть у дошкольников представление об опасностях, возникающих при контакте с насекомыми и животными, и о правилах поведения при встрече с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ть у дошкольников представление об опасностях во время природных катакл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ть представление об опасностях, которые могут подстерегать детей в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ы реализаци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с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посредственно образовательн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тское художественное творче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дактические иг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нинг – соревн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ота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апы реализаци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125360"/>
          <a:ext cx="8229600" cy="4730760"/>
        </p:xfrm>
        <a:graphic>
          <a:graphicData uri="http://schemas.openxmlformats.org/drawingml/2006/table">
            <a:tbl>
              <a:tblPr/>
              <a:tblGrid>
                <a:gridCol w="874800"/>
                <a:gridCol w="1295280"/>
                <a:gridCol w="4454640"/>
                <a:gridCol w="160488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о – проектировочный эта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ать грамотность детей о правилах безопасного поведения в сельской местно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5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ий эта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. Художественное творчество. Беседы. Работа с детьми на протяжении всей недели. Каждый день недели имеет свою общую структуру: название, цель дня, в конце дня подводятся итог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ающе – результативный эта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ить знания детей о ОБЖ в сельской местности. Беседы, игры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ить оценку проекта, внести коррективы, обогатить новыми фактам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недельник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Мой дом - моя крепос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еда с детьми об летних каникулах в общих чертах. Узнать у детей, где принято отдыхать в их семь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еда о деревне и деревенском до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бенности устройства быта в деревенском доме (рукомойник, русская печ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держание личной гигиены в деревенском доме. Рассказ про колодец, баню, скотный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ожение сельского дома в селе или на даче, близость к лесному масси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сунок на тему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Мой дом в дерев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3356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8T20:45:53Z</dcterms:created>
  <dc:creator>123</dc:creator>
  <dc:description/>
  <dc:language>en-US</dc:language>
  <cp:lastModifiedBy>123</cp:lastModifiedBy>
  <dcterms:modified xsi:type="dcterms:W3CDTF">2015-10-29T08:49:26Z</dcterms:modified>
  <cp:revision>50</cp:revision>
  <dc:subject/>
  <dc:title>Проект по ОБЖ тема: «Лето в деревне, на даче»</dc:title>
</cp:coreProperties>
</file>