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8FA-6036-405E-8BA7-B0418BD1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9A2-14B7-4353-BA63-DBDC728F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BBD-49CA-46F5-A7FB-3A5951C8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486-B4C5-4200-87E9-E1F5508E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A46-AEAD-473E-B52B-6E799C4A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AFE-7A59-4E61-A021-BF5E5F57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66C-6131-44C3-B1CF-492BD1AB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9B5-0EC4-42EC-8D68-D34D5560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B0B-EFCC-4A30-8769-8FB5A75B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5BF-9CF9-4DE2-8A38-FB3E50AB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B79-79B3-452C-83A7-05438D18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20B-AF19-4C66-BD50-965CEBE9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6883-8E7E-44B1-B782-A708CF35F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ект по ОБЖ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Лето в деревне, на даче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06480" y="5444640"/>
            <a:ext cx="553716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саткина М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торник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Домашние животны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ожить детям вместе с родителями сделать альбом с фотографиями их домашних животных и приготовить небольшие рассказы о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сти занятие по ознакомлению с окружающим, тема “Домашние и дикие животные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сти занятие по рисованию, тема “Я люблю свою собаку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ь детей понимать состояние и поведение животных, как обращаться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ь детям, что контакты с животными иногда могут быть опа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исунок на тему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Домашние животны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76908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а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Гроз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ть детям элементарные научные знания о том, что такое гроза, гром, молния, рад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знакомить детей с правилами поведения во время грозы. Привести пример из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должать учить детей анализировать, сравнивать, делать выводы и умозаклю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питывать умение слушать и понимать литературный текст художественного произ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формировать понятия о том, как вести себя во время грозы, что делать, чтобы остаться в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исунки на тему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Гроз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038480" cy="291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4257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тверг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Насекомы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ть детям элементарные знания о насекомых: сформировать понятие о том, что насекомые это маленькие животные, у которых есть голова, грудь, брюшко, шесть ног, у многих есть крылья. Расширить представление о способах передвижения этих животных, их пит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ть детям знания о правилах поведения при встрече с разными насекомыми, воспитывать интерес и бережное отношение к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репить у детей понятие сообщества “Луг” и названия луговых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азать взаимосвязь существования в природе разных сооб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исунки на тему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Насекомы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403884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елка из пластилина на тему: «Насекомы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ятница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«Путешествие в ле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репить у детей знания о растениях леса, съедобных и несъедобных гриб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ширить представления о растениях леса: деревья, ягоды; о животных обитателях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должать формировать логическое мышление у детей, умение быстро отгадывать загадки, закреплять навыки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казать зависимость существования всех объектов природного мира, воспитывать добрые отношения ко всему живому, желание ухаживать и защищ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репить у детей знания о том, что деревня (дача) расположена в близи лесного массива. И это не безопас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учится ориентироваться на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та в груп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исунки на тему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Ле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29620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жидаемый результа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ознанное отношение к вопросам личной безопасности и безопасности окруж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ие предвидеть возможную опасность, находить способы избегать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явление выдержки, самостоятельности , сообразительности, дисциплинированности в соблюдении правил поведения в сельской мес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ышение компетентности родителей в вопросах воспитания безопасного поведения детей в деревне и на да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опасности формула есть:                                                                                   Надо видеть, предвидеть, у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возможно – все избежать,                                                                                       А где надо – на помощь по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.Г.Хромц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ект должен стать рулевым управлением в развитии познавательной инициативы дошкольных педагогических коллективов, занимающимися проблемами дет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ытно экспериментальная работа, изобразительная деятельность, художественное слово очень значимо для детей дошкольников 5 – 6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сследуя, ребенок проявляет свое стремление к познанию окружающего мира, и по продуктивной деятельности определенной степени можно выяснить уровень этого познания. Чем более развито у детей восприятие, наблюдательность, чем шире запас их представлений, тем полнее и точнее отражают они действительность в своих «продуктах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занятиях познавательной деятельности осуществляются задачи всестороннего развития личности ребенка: умственное развитие и эстетическое отношение к действительности, нравственное воспитание. Процесс познания формирует навыки работы в коллективе и для коллектива, умение согласовать свои действия с товарищ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ект должен стать мощным импульсом к развитию творческой инициативы дошкольных педагогических коллективов, занимающимся проблемами дет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целом проект с детьми и родителями, с моей точки зрения, имеет прогрессивный характ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спорт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и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информационный, практико – ориентирован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астни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дети, воспитатели, родит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должитель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1 нед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зраст дет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5 – 6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ктуальность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ое ценное в нашей жизни –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Жизнь, здоровье и безопасность дошкольников полностью зависит от окружающих их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дставленный мною проект по ОБЖ «Лето в деревне!» актуален в наше время, т.к. в нашей стране очень любим отдых в деревне, на дач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падая из города в деревню, ребенок оказывается в новых жизненных условиях, к которым он должен быть подготовл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ногда, мы даже не задумываемся, сколько надо знать ребенку, чтобы уверенно действовать в разных ситуациях, которые происходят в его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нания эти ребенок должен получить от родителей и воспитателей. В моем случае, воспитатель обогащает знания детей об их безопасности во время отдыха в сельской мест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ль: познакомить детей с элементарными правилами безопасного поведения в сельской местности; сформировать умение самостоятельно применять их в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ть понятие о том, что место проживания в деревне – это сельский деревянный дом, который имеет свои плюсы и мину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ть у дошкольников представление об опасностях, возникающих при контакте с насекомыми и животными, и о правилах поведения при встрече с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ть у дошкольников представление об опасностях во время природных катаклиз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ть представление об опасностях, которые могут подстерегать детей в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ормы реализаци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с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посредственно образовательная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тское художественное творче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дактические иг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нинг – соревн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бота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апы реализаци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125360"/>
          <a:ext cx="8229600" cy="4730760"/>
        </p:xfrm>
        <a:graphic>
          <a:graphicData uri="http://schemas.openxmlformats.org/drawingml/2006/table">
            <a:tbl>
              <a:tblPr/>
              <a:tblGrid>
                <a:gridCol w="874800"/>
                <a:gridCol w="1295280"/>
                <a:gridCol w="4454640"/>
                <a:gridCol w="160488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о – проектировочный эта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ать грамотность детей о правилах безопасного поведения в сельской местност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-5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ий эта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. Художественное творчество. Беседы. Работа с детьми на протяжении всей недели. Каждый день недели имеет свою общую структуру: название, цель дня, в конце дня подводятся итог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ающе – результативный эта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ить знания детей о ОБЖ в сельской местности. Беседы, игры и т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ация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ить оценку проекта, внести коррективы, обогатить новыми фактам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недельник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Мой дом - моя крепост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еда с детьми об летних каникулах в общих чертах. Узнать у детей, где принято отдыхать в их семь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еда о деревне и деревенском до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обенности устройства быта в деревенском доме (рукомойник, русская печ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держание личной гигиены в деревенском доме. Рассказ про колодец, баню, скотный д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ожение сельского дома в селе или на даче, близость к лесному масси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исунок на тему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Мой дом в дерев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33564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8T20:45:53Z</dcterms:created>
  <dc:creator>123</dc:creator>
  <dc:description/>
  <dc:language>en-US</dc:language>
  <cp:lastModifiedBy>123</cp:lastModifiedBy>
  <dcterms:modified xsi:type="dcterms:W3CDTF">2015-10-29T08:49:26Z</dcterms:modified>
  <cp:revision>50</cp:revision>
  <dc:subject/>
  <dc:title>Проект по ОБЖ тема: «Лето в деревне, на даче»</dc:title>
</cp:coreProperties>
</file>