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6E2-0AA7-46D3-B8B6-1D6750D4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5EB7-3D04-4411-9DEF-2E85AEAF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FBA-B990-49B5-B625-D89D0A59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598B-0343-44F6-B61F-5A627ED0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8940-563C-427F-9935-B02689BD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B0ED-842F-4D99-9110-FED9A6A5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2B98-F6F5-42E1-A5BE-34A4AA5E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30F5-C96C-40B7-A30B-4D91BB08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6E46-9BF6-4871-8324-92E5BE3B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406B-F47C-49E2-B851-7AED9523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BB50-20AF-4994-BDE3-C8A16DA3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38E-F58C-4A97-8D0A-A6335C37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FAB5-58DA-461B-9630-25E34343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9168-4706-415D-9E9C-699E144F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55D9-3BDD-42C6-8D95-5E4EF2D1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9FB4-7472-4101-8D40-EBFF5B26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DBE9-47F9-46D1-AFD5-5466FA83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00BA1-305A-4E73-A056-5DDC0C65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C0C37-A7CD-4685-BB6D-18AD920C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EF5B1-351B-44B1-8971-86C18EDB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498AC-3C38-4851-9D2E-0D377C24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95212-57B9-4879-8B3B-C6A98DAD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8174-3015-4E0E-B5F8-4C8A7403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188CD-47A2-4218-B8FF-20C40951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530E6-0E5E-4E64-9468-F56C0809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B42A6-2E25-4CA4-B240-93EB3211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E63BE-1C06-44F5-9717-CB3F5D1B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F0805-FA61-4C69-B8C1-81235C5B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641B1-E4F3-4313-84AB-8A34FCB7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56DDD-DC07-4633-B920-E6DB6CAF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5DC91-1515-4058-99FE-A5D88632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4264A-0EC6-4EB9-B160-AA72413C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017A7-CEB0-4496-B11E-A2E686A3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5FB-E584-4AD1-92C4-368C9988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12840-1BAC-4209-87A9-3A4C1CD2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A1466-56BA-4494-B16C-078B787D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20030-1AA0-4893-A6AE-95F929D1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72BD3-B795-40D8-9601-0AAEDAFB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0F9C3-09CE-4360-BB83-F24D489C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A24FB-13E4-4C18-9A1D-0F1BA828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98426-2F56-4C48-95F1-2DDF4E8B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3A847-BAA2-4B17-9989-B771A626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01B76-3D49-4821-AAD5-F0BF39D4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0DCE-54CE-4C2B-87DF-FC745C08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4E1-9F74-43AF-9D6D-33497875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B5B2-83B6-4ACD-97D9-E6F0136C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E8D-D668-4C98-A823-07DCDC67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686C-49B3-44A0-938B-B497654B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9EB7-0160-400C-B268-9E316EC8B25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BDE6-713A-4485-9485-69078184080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A227-2268-4B65-945F-ADD4E0B55D6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4C78-B503-4C83-8C7E-1659DE20C33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vk.com/topic-87173778_35402885" TargetMode="External"/><Relationship Id="rId2" Type="http://schemas.openxmlformats.org/officeDocument/2006/relationships/hyperlink" Target="https://vk.com/topic-87173778_35402885" TargetMode="External"/><Relationship Id="rId3" Type="http://schemas.openxmlformats.org/officeDocument/2006/relationships/hyperlink" Target="https://vk.com/topic-87173778_35402885" TargetMode="External"/><Relationship Id="rId4" Type="http://schemas.openxmlformats.org/officeDocument/2006/relationships/hyperlink" Target="https://vk.com/topic-87173778_35402885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Comic Sans MS"/>
              </a:rPr>
              <a:t>Развивающие материалы и задания на тему «Космос»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1"/>
          <p:cNvSpPr/>
          <p:nvPr/>
        </p:nvSpPr>
        <p:spPr>
          <a:xfrm>
            <a:off x="609480" y="990720"/>
            <a:ext cx="784872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Беседа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беседуйте с ребёнком по данной теме, расскажите почему 12 апреля во всём мире отмечают День космонавт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смотрите картинки по данной теме в книгах, энциклопед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скажите о первом космонавте – Юрии Гагар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знакомьте с такими понятиями,  как «земля», «планеты», «ракета», «скафандр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2. Пройдя по данной ссылк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ы сможете в увлекательной форме познакомить ребенка с развивающим материалом на тему «Космос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https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vk.com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4"/>
              </a:rPr>
              <a:t>/topic-87173778_354028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1"/>
          <p:cNvSpPr/>
          <p:nvPr/>
        </p:nvSpPr>
        <p:spPr>
          <a:xfrm>
            <a:off x="2514600" y="2286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838080" y="1523880"/>
            <a:ext cx="7696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ЗАГАДКИ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лнце: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а желтая звезда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гревает нас всегда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е планеты освещает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 других звезд защищает.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ланеты: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гают вкруг огонечка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есть сыночков и две дочки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мелькнут года и дни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 не встретятся он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играйте!</a:t>
            </a: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 (пальчиковая игра «Ракета»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ы ладони вместе сложим, чтоб ракета получилас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ракету дуй сильнее, чтобы в путь она пустилас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т летит ракета влево – ярко звезды там сияют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зки тоже не ленятся – в путь ракету провожаю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переди по курсу месяц, отправляемся ту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 ракетой следом глазки, нам не трудно, ерун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рава видим мы ракету, в ней друзья наши летя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ы летим за ними следом. И обратно, в детский сад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смонавты, выходите, руки, ноги разомнит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 – поднялись, потянулись, два – нагнулись, разогнулис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д макушкой три хлопка, а потом и два прыж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дох и выдох, вдох и выдох – подышали глубоко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ели тихо и легк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ff3300"/>
                </a:solidFill>
                <a:latin typeface="Constantia"/>
              </a:rPr>
              <a:t>Проведите с ребенком физкульт. минутку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«Полет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сейчас мы с вами, дети,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               (маршировать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летаем на ракете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                           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(потянуться, подняв руки над головой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носки поднимись,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                       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(подняться на носки, руки сомкнуть над головой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теперь руки вниз.                         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(опустить руки вниз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, два, три, потянись                     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(потянуться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т летит ракета ввысь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                  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(кружиться на мест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ложите ребенку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нарисовать ракет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затем  звезды) и отправиться на них в космос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казать способ рисования ракеты поэтапно из простейших геометрических фигур (прямоугольник – корпус, треугольники – «нос» и «ножки», круг - иллюминатор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Молодцы, запустили свои ракеты в космос. Представляем, что мы видим в космосе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Планеты, звезд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2541600"/>
            <a:ext cx="8388360" cy="1152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D:\Учеба\Мама\Анимация\Цветы\Элементы\62ef46cc930e7ccc80b30ec024ad76db.gif"/>
          <p:cNvPicPr/>
          <p:nvPr/>
        </p:nvPicPr>
        <p:blipFill>
          <a:blip r:embed="rId2"/>
          <a:stretch/>
        </p:blipFill>
        <p:spPr>
          <a:xfrm>
            <a:off x="2819520" y="3962520"/>
            <a:ext cx="33908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7:03:16Z</dcterms:created>
  <dc:creator>Home</dc:creator>
  <dc:description/>
  <dc:language>en-US</dc:language>
  <cp:lastModifiedBy>Оля</cp:lastModifiedBy>
  <dcterms:modified xsi:type="dcterms:W3CDTF">2020-04-07T12:16:13Z</dcterms:modified>
  <cp:revision>134</cp:revision>
  <dc:subject/>
  <dc:title>Слайд 1</dc:title>
</cp:coreProperties>
</file>