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814-90C0-495B-B5AF-14750ECB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6DE-FA2D-405E-8688-C85D9D10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811-1915-42FB-AC61-4B128B92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AB7-1A56-4D49-B13E-F30D7DE3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AA72-4019-46E4-B1F0-FB66B05F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59A5-B9F2-43C6-A7E6-86C614AE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A7DE-38C3-4578-9EA6-A919A9D4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A056-817C-4EA5-AAD3-58A52635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54CA-82D6-4289-8E83-4C36CD35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3020-DF45-4128-A250-02FF8ED5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F80B-521F-43ED-8187-1289A280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568-FD45-4AD9-B48F-E5464EF1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CB1-57DE-4621-86FD-275B1AB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F0B4-E250-4341-80B5-642A507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24A2-1E69-4C5E-97F3-BE4CC047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373-2206-47A1-9532-52339FD9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3114-DD94-49B2-9EA6-14ACB6DF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A58A-9069-433F-98F7-65B62920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45F1-B409-43D7-9553-92A05F3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0212-F2C9-4445-B5DC-66D0B636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41C7-FF0F-414E-BDF8-7BF854DC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CA08-B747-45A3-8BF5-69D3E42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46B-9E01-450D-A25F-C6FFF87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F9A0-AB9D-441A-BF7D-8033BADE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E585-CE5F-401E-ABB9-2351659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63B2-372F-4286-BE06-5543B7A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C990-6B71-4954-846A-6DDE8D6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7E2E-DF44-4A18-BF9F-66E709B1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37B0-E2C3-4F59-90D6-3F7AE7D7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9311-8D08-427D-B11F-7F9CB73D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9D95-849B-4D52-A260-0F3F17D1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BE2C-4916-421E-BD26-2A7300C2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7FD3-0B3B-4B08-A667-98B3EC05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2EC-EC15-41FF-B515-4F23B156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F43E-08F1-469A-900C-C61BE117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EF73-EBDE-4019-AD8B-F04FAB01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BE04-5E21-45D5-A33B-5491CC8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74E0-B126-46CA-876A-7BA9F6F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3EE2-68D3-49FB-B943-AB93B16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EFB8-9524-4A42-A36F-07205F4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3098-C88F-44DA-A68C-F66A267A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7CE4-E03D-46F4-AC0D-6F52AA38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C499-3D58-4C0C-9CC4-FDBB734D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8B5-2CA6-49A3-A972-7C3F402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448-CBB7-4B02-AE8F-B0568009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6BD-1EC6-48B1-840C-8240CA6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AA4-7D3C-44E4-B070-3B86185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26E-6295-4EA4-A545-DC9CF2E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E58-CD31-4857-86EA-DE1B55204E0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C7D2-EDF9-4474-9F55-0363754A65E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F215-DA76-49F8-B542-3CB0F7A9DA7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CA03-6D22-41A9-93A5-A1C6FDB219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vk.com/topic-87173778_35402885" TargetMode="External"/><Relationship Id="rId2" Type="http://schemas.openxmlformats.org/officeDocument/2006/relationships/hyperlink" Target="https://vk.com/topic-87173778_35402885" TargetMode="External"/><Relationship Id="rId3" Type="http://schemas.openxmlformats.org/officeDocument/2006/relationships/hyperlink" Target="https://vk.com/topic-87173778_35402885" TargetMode="External"/><Relationship Id="rId4" Type="http://schemas.openxmlformats.org/officeDocument/2006/relationships/hyperlink" Target="https://vk.com/topic-87173778_35402885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omic Sans MS"/>
              </a:rPr>
              <a:t>Развивающие материалы и задания на тему «Космос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609480" y="990720"/>
            <a:ext cx="78487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Беседа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беседуйте с ребёнком по данной теме, расскажите почему 12 апреля во всём мире отмечают День космонав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мотрите картинки по данной теме в книгах, энциклопед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кажите о первом космонавте – Юрии Гагар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ьте с такими понятиями,  как «земля», «планеты», «ракета», «скафанд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2. Пройдя по данной ссылк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ы сможете в увлекательной форме познакомить ребенка с развивающим материалом на тему «Космос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vk.com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/topic-87173778_35402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2514600" y="228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838080" y="1523880"/>
            <a:ext cx="769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ЗАГАДКИ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нце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а желтая звезд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гревает нас всегда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планеты освещает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 других звезд защищает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ланеты: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гают вкруг огонечк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есть сыночков и две дочк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мелькнут года и дн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не встретятся он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играйте!</a:t>
            </a: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 (пальчиковая игра «Ракет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 ладони вместе сложим, чтоб ракета получила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ракету дуй сильнее, чтобы в путь она пустила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летит ракета влево – ярко звезды там сияю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ки тоже не ленятся – в путь ракету провожаю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переди по курсу месяц, отправляемся т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ракетой следом глазки, нам не трудно, ерун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рава видим мы ракету, в ней друзья наши летя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 летим за ними следом. И обратно, в детский са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смонавты, выходите, руки, ноги разомни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 – поднялись, потянулись, два – нагнулись, разогнули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д макушкой три хлопка, а потом и два прыж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дох и выдох, вдох и выдох – подышали глубок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ли тихо и легк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ff3300"/>
                </a:solidFill>
                <a:latin typeface="Constantia"/>
              </a:rPr>
              <a:t>Проведите с ребенком физкульт. минутку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олет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сейчас мы с вами, дети,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               (маршировать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летаем на ракете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                         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потянуться, подняв руки над голово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носки поднимись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                     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подняться на носки, руки сомкнуть над голово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теперь руки вниз.                        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опустить руки вниз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, два, три, потянись                    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потянутьс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т летит ракета ввысь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                  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(кружиться на мест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ите ребенку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нарисовать ракет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затем  звезды) и отправиться на них в космос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казать способ рисования ракеты поэтапно из простейших геометрических фигур (прямоугольник – корпус, треугольники – «нос» и «ножки», круг - иллюминатор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Молодцы, запустили свои ракеты в космос. Представляем, что мы видим в космос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ланеты, звез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2541600"/>
            <a:ext cx="8388360" cy="1152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:\Учеба\Мама\Анимация\Цветы\Элементы\62ef46cc930e7ccc80b30ec024ad76db.gif"/>
          <p:cNvPicPr/>
          <p:nvPr/>
        </p:nvPicPr>
        <p:blipFill>
          <a:blip r:embed="rId2"/>
          <a:stretch/>
        </p:blipFill>
        <p:spPr>
          <a:xfrm>
            <a:off x="2819520" y="3962520"/>
            <a:ext cx="33908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7:03:16Z</dcterms:created>
  <dc:creator>Home</dc:creator>
  <dc:description/>
  <dc:language>en-US</dc:language>
  <cp:lastModifiedBy>Оля</cp:lastModifiedBy>
  <dcterms:modified xsi:type="dcterms:W3CDTF">2020-04-07T12:16:13Z</dcterms:modified>
  <cp:revision>134</cp:revision>
  <dc:subject/>
  <dc:title>Слайд 1</dc:title>
</cp:coreProperties>
</file>