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E2D-3FA0-480B-BC29-56CD3D82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199-E53D-4BA7-8FE3-3C834A3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605-74BF-46A0-82B7-310DB91D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5F6-206E-4B2F-B909-06A40E89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123-ABD7-42AF-AF5E-2C74D11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A2E-9605-4CD3-AA57-DDD1381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3EAB-F2B5-4D07-9E02-5ACF897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1ED1-A974-47CA-8071-1CE3D0F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B8B5-FFD9-4C38-B67C-F5B1642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E36-20C9-4151-A2E3-CAAF920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CEA-F147-4A28-8C2B-636C093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54B-6969-4C72-89BD-F0939CAB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5813-4A7C-420A-B368-57EE49B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876-0485-40F0-A9AB-FA586A8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42C4-29A4-4C3E-817C-9B2C245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F66B-02E6-488A-9D03-50A926F3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EA32-2866-4F41-96FC-B465B885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ECE34-1CA4-406D-BEA8-4DB70910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5D691-D999-4C89-BE6A-15FFD821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80BB7-13BD-47A6-A5F9-1FBEBEB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A30C2-8A4A-4707-93B6-CE00F1F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99EBF-7206-45DA-B6B1-9859D066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CFD-6ECA-4B30-961D-7D579E43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A4E0F-67F8-44CD-BE25-84FA01E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FB4B9-6CCE-4D20-BD4D-BC49684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93183-56F6-4AB7-A4BA-18177D4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15028-443B-4B6B-B949-638A80D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71127-B24C-4B7D-A55B-4DE86B4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F316F-6851-418B-85DA-8C1A452C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3D4DF-825A-4288-9F65-71424F47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CF70-44C5-43B1-8EC4-872F92E8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3A79A-C894-4F1A-BEBE-8845DD96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064F-0E3A-4AFE-9FCC-3F68B48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24B-C4F3-4435-8EA6-CCDE33E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044B-3FA6-46A8-AA01-711231F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760F-92D6-4BFC-A77A-E48A498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5809-99E4-4EC7-8791-7592DC6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3E30-D8BF-48A4-9E11-55D8AD5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3437-AF1C-4264-A588-4740AC8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31F2-36F9-4D08-B205-FA73ECE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476E-DD94-49D7-8840-F6205B5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8A75-4956-4A91-B3B9-F9D2384B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12CD-29B2-4C90-AE9D-05DA95D4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E7E7F-B287-4AC4-A207-5A6498D7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B80-F94B-4A1D-92D9-35C1D8AF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173DF-B072-4ACE-B2B4-00DC5F03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512E7-930F-4227-8C90-8CCA640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BD6A7-24E4-411C-AEB0-A9ABB92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4F2F8-6EEA-4A84-B500-11D3758B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DCCE2-4ABC-46D8-9CCB-96979D7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58298-DE60-4778-8913-B5BA029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E0FDC-9102-4835-9711-145D802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A433A-C01B-4AC4-B19D-BC69BAA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628B2-DF28-4251-B330-C3FCB3E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4F391-3098-4EF8-9675-A43B54E9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5ED-916C-4F1F-834A-29CF691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17C49-4CDA-4158-8F98-30622852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90A6F-B91E-463A-86A8-528FD33A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67F6F-EC4B-49E5-8B9C-1C2D14E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238C6-CD46-4F0D-AEF4-DA9C833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4E12D-BF65-4B62-A1D1-30AD5D64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1B8F9-D5F6-481A-BDBF-6CDC519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2470E-66E5-4BE1-B81F-6BF6C55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502CA-AAD3-49E1-B45A-F00080C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3DD89-7BBD-4D0A-B99F-287A51C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46DD5-8DE7-4B8B-B8C5-EC8A484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A2A-229A-4A9E-8748-93B3FC95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0490E-6A93-4F4F-8986-27AA3FA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55F2C-89FA-47CD-9533-2D7039C7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685DF-A0AD-4D15-A4BD-5F926ABD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9B8CE-C7CB-4AC6-B8A0-8ADFFA6D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08207-4710-4B3D-A785-9B08A2FF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1ECDD-2C93-4F49-8E05-7F6C9EA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FE4DE-E5CE-4B72-87BF-F16C34ED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3B546-A3E8-460D-8CF7-D56AF0DB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3195C-EE21-4655-A8C8-F6965CB0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41B56-6D42-4F14-B029-71E7446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63E-9375-46DD-89FF-E7AD988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883F9-A2A0-44E8-A90C-965B63F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AF1FD-817F-47D2-A89D-D90CDE48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66A26-E3A3-4495-9839-C4407F34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326EF-0628-41E7-80D5-5ED1D673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17784-CF2F-4313-A405-88DECAF2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944-9CBC-48ED-BD1F-7C75F63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A00-E7AB-4F2A-AC02-55E27C1DB0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D5B4-8314-411A-80D7-14C73E2FF2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D87-BF2C-43A3-B779-341EF233B7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6095-184F-4615-9478-9835C42186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3E0-44CC-457D-AEC5-4DC427D548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597-BEE5-456F-B05A-7CF05AC1F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6416-7009-482A-908D-DE7F353FD7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56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РЕБУСЫ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43040" y="1928880"/>
            <a:ext cx="66009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ЗДРАВСТВУЙ, МОЙ ЮНЫЙ ДРУГ!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ДЛЯ ТЕБЯ Я ПОДГОТОВИЛА НЕСКОЛЬКО РЕБУСОВ. РЕШИ ИХ И СПРАВА ПОЯВИТСЯ ВЕРНЫЙ ОТВЕТ. </a:t>
            </a:r>
            <a:br>
              <a:rPr sz="3000"/>
            </a:br>
            <a:r>
              <a:rPr b="1" lang="ru-RU" sz="3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ЖЕЛАЮ УДАЧИ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7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3755880" cy="19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https://www.utkonos.ru/images/photo/3258/3258404H.jpg"/>
          <p:cNvPicPr/>
          <p:nvPr/>
        </p:nvPicPr>
        <p:blipFill>
          <a:blip r:embed="rId2"/>
          <a:stretch/>
        </p:blipFill>
        <p:spPr>
          <a:xfrm>
            <a:off x="6357960" y="428760"/>
            <a:ext cx="1928880" cy="1751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3"/>
          <a:stretch/>
        </p:blipFill>
        <p:spPr>
          <a:xfrm>
            <a:off x="428760" y="3571920"/>
            <a:ext cx="3857400" cy="2146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https://ds05.infourok.ru/uploads/ex/0a02/0004ff89-aad53a04/hello_html_m1a45cc0d.jpg"/>
          <p:cNvPicPr/>
          <p:nvPr/>
        </p:nvPicPr>
        <p:blipFill>
          <a:blip r:embed="rId4"/>
          <a:stretch/>
        </p:blipFill>
        <p:spPr>
          <a:xfrm>
            <a:off x="6357960" y="3714840"/>
            <a:ext cx="1952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s://tehnikaportal.ru/wp-content/uploads/2018/02/E%60kran-dlya-proektora-49.jpg"/>
          <p:cNvPicPr/>
          <p:nvPr/>
        </p:nvPicPr>
        <p:blipFill>
          <a:blip r:embed="rId1"/>
          <a:stretch/>
        </p:blipFill>
        <p:spPr>
          <a:xfrm>
            <a:off x="5715000" y="642960"/>
            <a:ext cx="2374920" cy="1900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357120" y="685800"/>
            <a:ext cx="3786120" cy="1849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428760" y="3929040"/>
            <a:ext cx="3714480" cy="2089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Users\user\Desktop\загружено.jpg"/>
          <p:cNvPicPr/>
          <p:nvPr/>
        </p:nvPicPr>
        <p:blipFill>
          <a:blip r:embed="rId4"/>
          <a:stretch/>
        </p:blipFill>
        <p:spPr>
          <a:xfrm>
            <a:off x="5867280" y="4003560"/>
            <a:ext cx="2090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1"/>
          <a:stretch/>
        </p:blipFill>
        <p:spPr>
          <a:xfrm>
            <a:off x="500040" y="3929040"/>
            <a:ext cx="3868920" cy="2000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https://vignette.wikia.nocookie.net/dynastywarriors/images/1/18/Knight_Unit_4_%28BS%29.png/revision/latest?cb=20130414081039"/>
          <p:cNvPicPr/>
          <p:nvPr/>
        </p:nvPicPr>
        <p:blipFill>
          <a:blip r:embed="rId2"/>
          <a:stretch/>
        </p:blipFill>
        <p:spPr>
          <a:xfrm>
            <a:off x="6286680" y="3286080"/>
            <a:ext cx="1684080" cy="2882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3"/>
          <a:stretch/>
        </p:blipFill>
        <p:spPr>
          <a:xfrm>
            <a:off x="428760" y="857160"/>
            <a:ext cx="3913200" cy="2000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s://images.zakupka.com/i3/categories/bulavki_42ae72859981652_800x600.jpg"/>
          <p:cNvPicPr/>
          <p:nvPr/>
        </p:nvPicPr>
        <p:blipFill>
          <a:blip r:embed="rId4"/>
          <a:stretch/>
        </p:blipFill>
        <p:spPr>
          <a:xfrm>
            <a:off x="5357880" y="571680"/>
            <a:ext cx="3033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14360" y="22147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МОЛОДЕЦ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5:02:28Z</dcterms:created>
  <dc:creator>вася</dc:creator>
  <dc:description/>
  <dc:language>en-US</dc:language>
  <cp:lastModifiedBy>user</cp:lastModifiedBy>
  <dcterms:modified xsi:type="dcterms:W3CDTF">2020-04-07T14:46:12Z</dcterms:modified>
  <cp:revision>20</cp:revision>
  <dc:subject/>
  <dc:title>Презентация PowerPoint</dc:title>
</cp:coreProperties>
</file>