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7672-DB63-44CD-822C-A1D61E3F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647D-90B4-4EE2-B0F9-1281CC59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7297-5DCF-478A-98E0-281D7473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7A1E-9BEE-40AF-BDD1-4685FF177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8BC7-FE67-4BC2-8CDA-5D478EAB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D375-A6C7-4B46-B471-0DE4FC81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0F22-EC5C-45DD-AA5E-100C70B8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FB7C-97AE-4A3F-98B8-EB89B6F1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ACBE-75C3-40C7-8DD3-CCA69370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76F3-538E-4169-9F86-7876683B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2588-F3CB-489E-B1FD-B7FD1165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B04F-587D-4210-91FB-551B2F8C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CBAF-2D6F-40B8-933E-771C09AB204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72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 государства в экономике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-36360" y="152280"/>
            <a:ext cx="8991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…Каждый осознает, что рынок нуждается в правилах, чтобы избежать таких опасностей, как монополии и олигополии. Но для монополии богатства настолько же пагубны. Государство не должно отказываться от своей роли перераспределения; оно также не может отдать рынку свою роль в развитии... Главный вызов состоит в установлении равноправия, и для этого государство… является жизненно необходимым. Только оно может установить прогрессивное налогообложение, адекватное регулирование приватизированных общественных услуг, поддержку малых и средних компаний, большую эффективность общественных расходов и значительное улучшение образования и здравоохранения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 Альфонс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ооблож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838080"/>
            <a:ext cx="410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ый платеж, взимаемый государством с юридических и физических лиц, имеющих доходы или имущество, в государственный бюджет различных уровн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800600" y="609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6" descr="http://kaifolog.ru/uploads/posts/2014-10/1412588419_047.jpg"/>
          <p:cNvPicPr/>
          <p:nvPr/>
        </p:nvPicPr>
        <p:blipFill>
          <a:blip r:embed="rId1"/>
          <a:stretch/>
        </p:blipFill>
        <p:spPr>
          <a:xfrm>
            <a:off x="4267080" y="1676520"/>
            <a:ext cx="4724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те историю появления налогов в русском государст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532800" y="6396120"/>
            <a:ext cx="32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юдье. (К. Лебедев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" name="Picture 4" descr="http://ic.pics.livejournal.com/7dogs/31502364/605815/605815_900.jpg"/>
          <p:cNvPicPr/>
          <p:nvPr/>
        </p:nvPicPr>
        <p:blipFill>
          <a:blip r:embed="rId1"/>
          <a:stretch/>
        </p:blipFill>
        <p:spPr>
          <a:xfrm>
            <a:off x="115920" y="984240"/>
            <a:ext cx="4402080" cy="53341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8"/>
          <p:cNvSpPr/>
          <p:nvPr/>
        </p:nvSpPr>
        <p:spPr>
          <a:xfrm>
            <a:off x="5272200" y="6369120"/>
            <a:ext cx="31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ясака казак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" name="Picture 2" descr="http://fb.ru/misc/i/gallery/39080/1983872.jpg"/>
          <p:cNvPicPr/>
          <p:nvPr/>
        </p:nvPicPr>
        <p:blipFill>
          <a:blip r:embed="rId2"/>
          <a:stretch/>
        </p:blipFill>
        <p:spPr>
          <a:xfrm>
            <a:off x="4800600" y="984240"/>
            <a:ext cx="40384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9"/>
          <p:cNvSpPr/>
          <p:nvPr/>
        </p:nvSpPr>
        <p:spPr>
          <a:xfrm>
            <a:off x="543240" y="6095880"/>
            <a:ext cx="301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 на бород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" name="Picture 6" descr="https://68.media.tumblr.com/51f1584ea9dc0c799f8866d1ec293cf0/tumblr_inline_opx1uqECD61rfhznf_540.jpg"/>
          <p:cNvPicPr/>
          <p:nvPr/>
        </p:nvPicPr>
        <p:blipFill>
          <a:blip r:embed="rId1"/>
          <a:stretch/>
        </p:blipFill>
        <p:spPr>
          <a:xfrm>
            <a:off x="125280" y="622440"/>
            <a:ext cx="3608640" cy="518148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20"/>
          <p:cNvSpPr/>
          <p:nvPr/>
        </p:nvSpPr>
        <p:spPr>
          <a:xfrm>
            <a:off x="4713480" y="5575320"/>
            <a:ext cx="422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ча оброка помещик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9" name="Picture 4" descr="http://kropotkin.ru/wp-content/uploads/2017/03/zaicevkrepost.jpg"/>
          <p:cNvPicPr/>
          <p:nvPr/>
        </p:nvPicPr>
        <p:blipFill>
          <a:blip r:embed="rId2"/>
          <a:stretch/>
        </p:blipFill>
        <p:spPr>
          <a:xfrm>
            <a:off x="3809880" y="914400"/>
            <a:ext cx="518184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осельский А. А. Сбор недоимок. 1869 г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Объект 6" descr=""/>
          <p:cNvPicPr/>
          <p:nvPr/>
        </p:nvPicPr>
        <p:blipFill>
          <a:blip r:embed="rId1"/>
          <a:stretch/>
        </p:blipFill>
        <p:spPr>
          <a:xfrm>
            <a:off x="838080" y="425520"/>
            <a:ext cx="7467840" cy="59752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7"/>
          <p:cNvSpPr/>
          <p:nvPr/>
        </p:nvSpPr>
        <p:spPr>
          <a:xfrm>
            <a:off x="1082520" y="6273720"/>
            <a:ext cx="722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полагалось за неуплату налогов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51920" y="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18 году Н. И. Тургенев  издает труд "Опыт теории налогов», в котором озвучивает принципы налогообло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"Равномерное распределение налогов"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логи должны соответствовать доходам налогоплательщи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"Определенность налога"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ясность в отношении количества налогов и времени платежа обрекает налогоплательщика на зависимость от произвола сборщика;  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"Собирание налогов в удобнейшее время"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еньшение налоговой нагрузки предполагает не только снижение ее количественной величины, но и ее перераспределение по времен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"Ориентация большей части налогового бремени на чистый доход"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ледует взимать больше с дохода, притом с чистого дохода, а не с самого капитала;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"Дешевое собирание налогов"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ремление к наименьшим затратам на издержки собирания налог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063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ые                                      Косвен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2004840"/>
            <a:ext cx="4389480" cy="33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имаются непосредственно с доходов и имущества граждан и организаци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3760" y="1905120"/>
            <a:ext cx="49528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 на прибыль (доход) организа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 на доходы физических лиц (НДФ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 на имущество организац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 на имущество физических ли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ный нало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 на наследство, дар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а за недра: земля, вода, лесопользов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й налог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57800" y="1604880"/>
            <a:ext cx="3773520" cy="16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2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имаются в сфере реализации или потребления товаров, не зависят от доходов, существуют в виде надбавок к цене товара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35200" y="3581280"/>
            <a:ext cx="3699000" cy="26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оженные пошли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из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 на добавленную стоимость (НД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1"/>
          <p:cNvSpPr/>
          <p:nvPr/>
        </p:nvSpPr>
        <p:spPr>
          <a:xfrm>
            <a:off x="2948400" y="-34920"/>
            <a:ext cx="30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налогов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ы налогообло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27360" y="487440"/>
            <a:ext cx="589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ердый налог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авливается в единой сумме на единицу облож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орциональный налог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 налога пропорциональна доход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ессивный налог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выше доходы, тем больше налог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рессивный налог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выше доход, тем ниже нало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http://www.project-syndicate.org/default/library/774b12f139d6ce60e04b5b6ba0b9a6d8.landscape.jpg"/>
          <p:cNvPicPr/>
          <p:nvPr/>
        </p:nvPicPr>
        <p:blipFill>
          <a:blip r:embed="rId1"/>
          <a:stretch/>
        </p:blipFill>
        <p:spPr>
          <a:xfrm>
            <a:off x="6012000" y="3505320"/>
            <a:ext cx="3132000" cy="2760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http://www.zaksobr-chita.ru/img/news/7af41b65f55b5cd0a34020ae0237d005.png"/>
          <p:cNvPicPr/>
          <p:nvPr/>
        </p:nvPicPr>
        <p:blipFill>
          <a:blip r:embed="rId2"/>
          <a:stretch/>
        </p:blipFill>
        <p:spPr>
          <a:xfrm>
            <a:off x="5867280" y="609480"/>
            <a:ext cx="2724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бюдже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53352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бюджет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финансовый план государства на год, объединяющий главные доходы и расходы государства, имеющий силу зако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http://zuzino.mos.ru/upload/medialibrary/d03/byudzhet3.jpg"/>
          <p:cNvPicPr/>
          <p:nvPr/>
        </p:nvPicPr>
        <p:blipFill>
          <a:blip r:embed="rId1"/>
          <a:stretch/>
        </p:blipFill>
        <p:spPr>
          <a:xfrm>
            <a:off x="5943600" y="762120"/>
            <a:ext cx="3124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3040" y="198360"/>
            <a:ext cx="822960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 государственного бюджет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837720"/>
            <a:ext cx="3497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ная част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ые платежи и сб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рафы, возмещение ущерб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 от продажи государственного имущества, от внешнеэкономическ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йм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52320" y="83808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ная част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ы на содержание госаппар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ые расх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ирование науки, культуры, образования, здравоохранения, соцобеспе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ирование отдельных отрас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ы на субсидии и кредиты друг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 государственного дол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нешнего и внутреннег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91880" y="2286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жно ли управлять экономико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то оплачивает предоставляемую нам бесплатно медицинскую помощь, образование и другие благ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куда берутся средства на эти услуг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1981080" y="3290760"/>
            <a:ext cx="518184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дии бюджетного процесса в Российской Федерации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920" y="11430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проекта бюджет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тельств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ние проект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дум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ом Федер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ие бюджета, принятие закона о бюджет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м Собранием, подписание его президент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органами исполнительной власти с 1 января по 31 декабр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отчета об исполнении бюджета и его утверждение в течение 5 месяце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2" name="Прямая со стрелкой 37"/>
          <p:cNvCxnSpPr/>
          <p:nvPr/>
        </p:nvCxnSpPr>
        <p:spPr>
          <a:xfrm flipH="1">
            <a:off x="1746000" y="4281120"/>
            <a:ext cx="2160" cy="762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3" name="TextBox 6"/>
          <p:cNvSpPr/>
          <p:nvPr/>
        </p:nvSpPr>
        <p:spPr>
          <a:xfrm>
            <a:off x="704880" y="2846520"/>
            <a:ext cx="198108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4" name="Прямая со стрелкой 7"/>
          <p:cNvCxnSpPr>
            <a:endCxn id="103" idx="0"/>
          </p:cNvCxnSpPr>
          <p:nvPr/>
        </p:nvCxnSpPr>
        <p:spPr>
          <a:xfrm flipH="1">
            <a:off x="1694880" y="2173320"/>
            <a:ext cx="2594520" cy="673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Прямая со стрелкой 12"/>
          <p:cNvCxnSpPr/>
          <p:nvPr/>
        </p:nvCxnSpPr>
        <p:spPr>
          <a:xfrm>
            <a:off x="5149440" y="2190600"/>
            <a:ext cx="2699640" cy="496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6" name="Прямая со стрелкой 27"/>
          <p:cNvCxnSpPr/>
          <p:nvPr/>
        </p:nvCxnSpPr>
        <p:spPr>
          <a:xfrm flipH="1">
            <a:off x="4717440" y="2206440"/>
            <a:ext cx="6840" cy="90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7" name="TextBox 5"/>
          <p:cNvSpPr/>
          <p:nvPr/>
        </p:nvSpPr>
        <p:spPr>
          <a:xfrm>
            <a:off x="1905120" y="1185840"/>
            <a:ext cx="5638680" cy="94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БЮДЖ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Box 34"/>
          <p:cNvSpPr/>
          <p:nvPr/>
        </p:nvSpPr>
        <p:spPr>
          <a:xfrm>
            <a:off x="380880" y="5043600"/>
            <a:ext cx="2743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цитн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Box 35"/>
          <p:cNvSpPr/>
          <p:nvPr/>
        </p:nvSpPr>
        <p:spPr>
          <a:xfrm>
            <a:off x="6267600" y="4876920"/>
            <a:ext cx="25905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н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Box 36"/>
          <p:cNvSpPr/>
          <p:nvPr/>
        </p:nvSpPr>
        <p:spPr>
          <a:xfrm>
            <a:off x="3124080" y="6086520"/>
            <a:ext cx="35053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алансированн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11" name="Прямая со стрелкой 51"/>
          <p:cNvCxnSpPr/>
          <p:nvPr/>
        </p:nvCxnSpPr>
        <p:spPr>
          <a:xfrm flipH="1">
            <a:off x="7562520" y="4190760"/>
            <a:ext cx="2160" cy="610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2" name="Прямая со стрелкой 52"/>
          <p:cNvCxnSpPr/>
          <p:nvPr/>
        </p:nvCxnSpPr>
        <p:spPr>
          <a:xfrm flipH="1">
            <a:off x="4722480" y="4572000"/>
            <a:ext cx="2160" cy="144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3" name="TextBox 8"/>
          <p:cNvSpPr/>
          <p:nvPr/>
        </p:nvSpPr>
        <p:spPr>
          <a:xfrm>
            <a:off x="3722760" y="3068640"/>
            <a:ext cx="198108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а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6615000" y="2762280"/>
            <a:ext cx="198144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ьш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Прямоугольник 1"/>
          <p:cNvSpPr/>
          <p:nvPr/>
        </p:nvSpPr>
        <p:spPr>
          <a:xfrm>
            <a:off x="3016440" y="149400"/>
            <a:ext cx="34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 бюджета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 государств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-19080" y="772920"/>
            <a:ext cx="4952880" cy="27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читайте общие функции государства по А. Сми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ведите конкретные приме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8" descr="http://www.metallos.be/sites/default/files/imagecache/full640x480/images/adam_smith.jpg"/>
          <p:cNvPicPr/>
          <p:nvPr/>
        </p:nvPicPr>
        <p:blipFill>
          <a:blip r:embed="rId1"/>
          <a:stretch/>
        </p:blipFill>
        <p:spPr>
          <a:xfrm>
            <a:off x="5867280" y="746280"/>
            <a:ext cx="2987640" cy="327636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1"/>
          <p:cNvSpPr/>
          <p:nvPr/>
        </p:nvSpPr>
        <p:spPr>
          <a:xfrm>
            <a:off x="5334120" y="4114800"/>
            <a:ext cx="3657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отландский экономист, философ, один из основоположников современной экономической теории. Автор работ - «Исследование о природе и причинах богатства народов», «Мысли о состоянии соревнования с Америкой», «Лекции по риторике и написанию писем» и др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171360" y="38862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еликие нации никогда не беднеют из-за расточительства и неблагоразумия частных лиц, но они нередко беднеют в результате расточительства и неблагоразумия государственной власти»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Сми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28600" y="1522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гласно системе естественной свободы, государю надлежит выполнять только три обязанности, они действительно весьма важного значения, но ясные и понятные для обычного разумения: во-первых, обязанность ограждать общество от насилия и вторжения других независимых обществ; во-вторых, обязанность ограждать по мере возможности каждого члена общества от несправедливости и угнетения со стороны других его членов, или обязанность установить строгое отправление правосудия, и, в-третьих, обязанность создавать и содержать определенные общественные сооружения и учреждения, создание и содержание которых не может быть в интересах отдельных лиц или небольших групп, потому что прибыль от них не сможет никогда оплатить издержки отдельному лицу или небольшой группе, хотя и сможет часто с излишком оплатить их большому обществу.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А. Сми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23760"/>
            <a:ext cx="477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национальной оборо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равление правосуд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общественных работ, невыгодных для частного предпринимательства, но необходимых граждан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юноше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налогов для оплаты нужд государ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s://realguy.ru/wp-content/uploads/05519460.jpg"/>
          <p:cNvPicPr/>
          <p:nvPr/>
        </p:nvPicPr>
        <p:blipFill>
          <a:blip r:embed="rId1"/>
          <a:stretch/>
        </p:blipFill>
        <p:spPr>
          <a:xfrm>
            <a:off x="5423040" y="179280"/>
            <a:ext cx="312408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"/>
          <p:cNvPicPr/>
          <p:nvPr/>
        </p:nvPicPr>
        <p:blipFill>
          <a:blip r:embed="rId2"/>
          <a:stretch/>
        </p:blipFill>
        <p:spPr>
          <a:xfrm>
            <a:off x="5308560" y="4786200"/>
            <a:ext cx="3352680" cy="1981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funlib.ru/cimg/2014/101612/5605257"/>
          <p:cNvPicPr/>
          <p:nvPr/>
        </p:nvPicPr>
        <p:blipFill>
          <a:blip r:embed="rId3"/>
          <a:stretch/>
        </p:blipFill>
        <p:spPr>
          <a:xfrm>
            <a:off x="5105520" y="2568600"/>
            <a:ext cx="35557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0" y="-360"/>
            <a:ext cx="4114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анах Запада и США до конца 19 века государство почти не вмешивалось в экономические процесс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http://www.mapfre.com/fundacion/html/revistas/seguridad/nEspecial2011/img/portada.jpg"/>
          <p:cNvPicPr/>
          <p:nvPr/>
        </p:nvPicPr>
        <p:blipFill>
          <a:blip r:embed="rId1"/>
          <a:stretch/>
        </p:blipFill>
        <p:spPr>
          <a:xfrm>
            <a:off x="5029200" y="228600"/>
            <a:ext cx="3962520" cy="3124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https://naroborona.info/wp-content/uploads/2013/09/spravedlivost_.jpg"/>
          <p:cNvPicPr/>
          <p:nvPr/>
        </p:nvPicPr>
        <p:blipFill>
          <a:blip r:embed="rId2"/>
          <a:stretch/>
        </p:blipFill>
        <p:spPr>
          <a:xfrm>
            <a:off x="5181480" y="378612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-360" y="0"/>
            <a:ext cx="545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ие кризис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 глобальных проблем ( политических, экологических, этнических, религиозных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астание социальных противореч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2" descr=""/>
          <p:cNvPicPr/>
          <p:nvPr/>
        </p:nvPicPr>
        <p:blipFill>
          <a:blip r:embed="rId1"/>
          <a:stretch/>
        </p:blipFill>
        <p:spPr>
          <a:xfrm>
            <a:off x="5459400" y="457200"/>
            <a:ext cx="3587760" cy="26319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"/>
          <p:cNvPicPr/>
          <p:nvPr/>
        </p:nvPicPr>
        <p:blipFill>
          <a:blip r:embed="rId2"/>
          <a:stretch/>
        </p:blipFill>
        <p:spPr>
          <a:xfrm>
            <a:off x="4851360" y="3546360"/>
            <a:ext cx="4195800" cy="30830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3"/>
          <a:stretch/>
        </p:blipFill>
        <p:spPr>
          <a:xfrm>
            <a:off x="254160" y="3886200"/>
            <a:ext cx="434340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81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ие задачи государств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240" y="6094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пишите основные экономические задачи государства и основные механизмы их реал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3" descr=""/>
          <p:cNvPicPr/>
          <p:nvPr/>
        </p:nvPicPr>
        <p:blipFill>
          <a:blip r:embed="rId1"/>
          <a:stretch/>
        </p:blipFill>
        <p:spPr>
          <a:xfrm>
            <a:off x="946080" y="2438280"/>
            <a:ext cx="725184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680" y="3808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распределение доходов граждан и организац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прав собствен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распределение ресурсов страны в интересах общества в цел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трудоустройства и регулирования трудовых отнош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производства общественных благ, предоставляемых всем гражданам на равных начал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за внешнеэкономической деятельность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ирование денежного обра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ы реализа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ооблож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ирование доходов и расход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1"/>
          <p:cNvSpPr/>
          <p:nvPr/>
        </p:nvSpPr>
        <p:spPr>
          <a:xfrm>
            <a:off x="3277080" y="-792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veta</dc:creator>
  <dc:description/>
  <dc:language>en-US</dc:language>
  <cp:lastModifiedBy>школа</cp:lastModifiedBy>
  <dcterms:modified xsi:type="dcterms:W3CDTF">2020-04-07T12:22:39Z</dcterms:modified>
  <cp:revision>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