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08594-B8AC-4859-8519-E62209A0710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9F045-CA7A-4E9C-A968-61D56FB5DF6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C3540-5BE1-4060-916C-67AC822ADC0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26A61-DFEE-44E3-A0B5-9AD05DC62FA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F95BC-6FA1-4E0C-B144-4DB734E2758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5D36D-3D51-4E51-ABC8-1957111ADC7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D1F10-06E9-417A-9B09-E73C4C81D78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F5D2F-B371-49FA-BBFB-9925A4D2BE2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1D478-B7BB-4113-8E6E-4912C77CE6A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EA6BC-226C-47E4-9E90-4DB5ACD80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28BCB-E7AC-4D5C-ADB1-38208AF8F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BD7B3-F617-4DAB-B771-73086FE7E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6E98C-D472-4A80-A386-1C0D5AB67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E3961-E23C-483E-AA60-30D2B95CF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0E809-EF47-40B3-BFF4-4441520A3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7E0DE-347D-4455-A3C5-EC37262A3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715E1-988E-413D-9198-5A43C35D4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79AFA-921C-462A-A0AA-19C48BE41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C1612-1845-4D08-9961-DD1046052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4DC24-853F-499E-8EB5-04F3215B9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D2106-762D-463B-9E15-6B27EB8C0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C1638-F828-4828-BCA4-0B07C4941B0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85480" y="356760"/>
            <a:ext cx="8643960" cy="171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айкина </a:t>
            </a:r>
            <a:br>
              <a:rPr sz="4400"/>
            </a:b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лександра Васильевн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00360" y="3286080"/>
            <a:ext cx="421452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f7f7f"/>
                </a:solidFill>
                <a:latin typeface="Times New Roman"/>
                <a:ea typeface="Times New Roman"/>
              </a:rPr>
              <a:t>Заслуженный художник Российской Федераци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Рисунок 3" descr="автопортрет.jpg"/>
          <p:cNvPicPr/>
          <p:nvPr/>
        </p:nvPicPr>
        <p:blipFill>
          <a:blip r:embed="rId1"/>
          <a:srcRect l="11991" t="1868" r="8538" b="2534"/>
          <a:stretch/>
        </p:blipFill>
        <p:spPr>
          <a:xfrm>
            <a:off x="214200" y="2571840"/>
            <a:ext cx="3786480" cy="36432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500040" y="214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ПОРТАЖ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— (франц. reportage от англ. report сообщать), жанр журналистики, оперативно сообщающий для печати, радио, телевидения о каком либо событии, очевидцем или участником которого является корреспондент …   </a:t>
            </a: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Большой Энциклопедический словар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портаж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— информационный жанр, отличающийся оперативностью, завершенностью и событийностью. В репортаже сообщается о новом, еще неизвестном ярком событии, свидетелем, или участником которого был журналис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heel spokes="8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357120" y="500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 algn="ctr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рный план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Краткое вступление – общая картина. (Я захожу в гимнастический зал и вижу… Или: Вы бывали когда-нибудь на тренировке в гимнастическом зале?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Описание групп девочек: как расположены, чем занимаются, каково их настроение и т.д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Выбор объекта для интервью, объяснение этого выбора (тренер, одна из девочек, групповое интервью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Заключение, где выражаются чувства автора, которые он хочет передать читателям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Сайкина Александра Васильевн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Содержимое 6" descr="38.jpg"/>
          <p:cNvPicPr/>
          <p:nvPr/>
        </p:nvPicPr>
        <p:blipFill>
          <a:blip r:embed="rId1"/>
          <a:stretch/>
        </p:blipFill>
        <p:spPr>
          <a:xfrm>
            <a:off x="285840" y="1785960"/>
            <a:ext cx="4038480" cy="40798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 txBox="1"/>
          <p:nvPr/>
        </p:nvSpPr>
        <p:spPr>
          <a:xfrm>
            <a:off x="4571640" y="1371240"/>
            <a:ext cx="4429080" cy="50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дилась в деревне Меленково Ивановской област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ончила Пензенское художественное училище (1945 — 1949) и Харьковский государственный художественный институт (1949 —1955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ает преимущественно в области жанровой картины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лен Союза художников России с 1960 год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85840" y="142560"/>
            <a:ext cx="8534160" cy="98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Расцвет творчества пришелся </a:t>
            </a:r>
            <a:br>
              <a:rPr sz="4000"/>
            </a:b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на 1970-1980-е год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142920" y="1371240"/>
            <a:ext cx="4857840" cy="52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ьшой успех выпал на долю таких ее произведений, как "Грибная пора" (1967), "Юные мушкетеры" (1974), "Гаврила Поляков - мастер городецкой росписи" (1976), "Детская спортивная школа" (1979), "Девчата сороковых" (1984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1978 году состоялась первая персональная выставка в Горьковском государственном художественном музее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1980 г. А.В.Сайкиной  было присвоено почетное звание "Заслуженный художник РСФСР"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Содержимое 4" descr="Saikina_A_f.jpg"/>
          <p:cNvPicPr/>
          <p:nvPr/>
        </p:nvPicPr>
        <p:blipFill>
          <a:blip r:embed="rId1"/>
          <a:stretch/>
        </p:blipFill>
        <p:spPr>
          <a:xfrm>
            <a:off x="5072040" y="1674720"/>
            <a:ext cx="3483000" cy="428328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17375e"/>
                </a:solidFill>
                <a:latin typeface="Calibri"/>
              </a:rPr>
              <a:t>"Грибная пора" (1967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Содержимое 3" descr="грибник.jpg"/>
          <p:cNvPicPr/>
          <p:nvPr/>
        </p:nvPicPr>
        <p:blipFill>
          <a:blip r:embed="rId1"/>
          <a:stretch/>
        </p:blipFill>
        <p:spPr>
          <a:xfrm>
            <a:off x="1928880" y="905040"/>
            <a:ext cx="5429160" cy="576576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5712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10253f"/>
                </a:solidFill>
                <a:latin typeface="Calibri"/>
              </a:rPr>
              <a:t>"Гаврила Поляков - мастер городецкой росписи" (1976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Содержимое 4" descr="06.jpg"/>
          <p:cNvPicPr/>
          <p:nvPr/>
        </p:nvPicPr>
        <p:blipFill>
          <a:blip r:embed="rId1"/>
          <a:stretch/>
        </p:blipFill>
        <p:spPr>
          <a:xfrm>
            <a:off x="2143080" y="1571760"/>
            <a:ext cx="4702320" cy="483048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0040" y="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Лето.  1985 г. </a:t>
            </a:r>
            <a:br>
              <a:rPr sz="28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Чувашский государственный художественный музе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Содержимое 3" descr="3946.jpg"/>
          <p:cNvPicPr/>
          <p:nvPr/>
        </p:nvPicPr>
        <p:blipFill>
          <a:blip r:embed="rId1"/>
          <a:stretch/>
        </p:blipFill>
        <p:spPr>
          <a:xfrm>
            <a:off x="1428840" y="928800"/>
            <a:ext cx="6529320" cy="57150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17375e"/>
                </a:solidFill>
                <a:latin typeface="Calibri"/>
              </a:rPr>
              <a:t>"Юные мушкетеры" (1974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Содержимое 3" descr="юные мушкетеры.jpg"/>
          <p:cNvPicPr/>
          <p:nvPr/>
        </p:nvPicPr>
        <p:blipFill>
          <a:blip r:embed="rId1"/>
          <a:stretch/>
        </p:blipFill>
        <p:spPr>
          <a:xfrm>
            <a:off x="428760" y="1000080"/>
            <a:ext cx="8310600" cy="542916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85840" y="-360"/>
            <a:ext cx="885816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10253f"/>
                </a:solidFill>
                <a:latin typeface="Calibri"/>
              </a:rPr>
              <a:t>"Детская спортивная школа" (1979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Содержимое 3" descr="детская спортивная школа.jpg"/>
          <p:cNvPicPr/>
          <p:nvPr/>
        </p:nvPicPr>
        <p:blipFill>
          <a:blip r:embed="rId1"/>
          <a:srcRect l="1030" t="0" r="0" b="0"/>
          <a:stretch/>
        </p:blipFill>
        <p:spPr>
          <a:xfrm>
            <a:off x="1143000" y="642960"/>
            <a:ext cx="6858000" cy="57420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78588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урналист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от фр. journal – дневник, jour – день; восходит к лат. diurna – ежедневный) – сотрудник периодического издания, обязанности которого состоят в том, чтобы оперативно собрать, обработать, грамотно и доступно изложить актуальную информацию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5T18:44:39Z</dcterms:created>
  <dc:creator>Елена Евгеньевна</dc:creator>
  <dc:description/>
  <dc:language>en-US</dc:language>
  <cp:lastModifiedBy>хозяин</cp:lastModifiedBy>
  <dcterms:modified xsi:type="dcterms:W3CDTF">2020-03-31T18:43:55Z</dcterms:modified>
  <cp:revision>12</cp:revision>
  <dc:subject/>
  <dc:title>Сайкина Александра Васильевна</dc:title>
</cp:coreProperties>
</file>