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EFC8-5318-496B-98E0-0B5EB44C6F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3470-7F0E-45E1-99F0-2E8C537A48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DBF9-F4C7-484E-9282-0842C11850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A15A-56BD-4833-8B6B-F8FC3DE7AB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DC85-ECD7-403E-B4C9-4089D7E286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BD1B-3456-4513-93F4-E65F5DB186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3419-25D0-43BD-AF86-975B74917C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31B4-EEFE-42A2-83FB-C9395C37F1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A967-6324-4CA5-9196-D75E105E5A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ACE-4F6D-420F-9757-33ED3A0D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8E2-BEEC-4161-9DDA-B171F4A6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894-B48E-41C8-A232-945D1D11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D25-1B0C-4EB5-B455-5CCD02F3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B6D-D7C0-4DE6-8D7D-127CED90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21A-53BF-4A67-95CC-01FFE42D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2DA-A586-4514-BB19-839469B4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DD8-56F1-4AAA-BE49-4BD6A98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B39-9869-49DD-9DDC-ABA9A18F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011-BF37-4599-B95F-86E0F88F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832-72D8-498B-989A-8BD77197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1D2-B3AC-477E-8559-6AAFDA55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066D-ECE6-46D4-A71D-FF21F64F8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йки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00360" y="3286080"/>
            <a:ext cx="42145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Заслуженный художник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автопортрет.jpg"/>
          <p:cNvPicPr/>
          <p:nvPr/>
        </p:nvPicPr>
        <p:blipFill>
          <a:blip r:embed="rId1"/>
          <a:srcRect l="11991" t="1868" r="8538" b="2534"/>
          <a:stretch/>
        </p:blipFill>
        <p:spPr>
          <a:xfrm>
            <a:off x="214200" y="2571840"/>
            <a:ext cx="37864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ОРТАЖ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(франц. reportage от англ. report сообщать), жанр журналистики, оперативно сообщающий для печати, радио, телевидения о каком либо событии, очевидцем или участником которого является корреспондент …  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льшой Энциклопедический словар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ортаж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информационный жанр, отличающийся оперативностью, завершенностью и событийностью. В репортаже сообщается о новом, еще неизвестном ярком событии, свидетелем, или участником которого был журнали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12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й пла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раткое вступление – общая картина. (Я захожу в гимнастический зал и вижу… Или: Вы бывали когда-нибудь на тренировке в гимнастическом зале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исание групп девочек: как расположены, чем занимаются, каково их настроение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ыбор объекта для интервью, объяснение этого выбора (тренер, одна из девочек, групповое интервью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ключение, где выражаются чувства автора, которые он хочет передать читателя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айкина Александр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38.jpg"/>
          <p:cNvPicPr/>
          <p:nvPr/>
        </p:nvPicPr>
        <p:blipFill>
          <a:blip r:embed="rId1"/>
          <a:stretch/>
        </p:blipFill>
        <p:spPr>
          <a:xfrm>
            <a:off x="285840" y="1785960"/>
            <a:ext cx="4038480" cy="407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1640" y="1371240"/>
            <a:ext cx="442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ась в деревне Меленково Ивановской обл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а Пензенское художественное училище (1945 — 1949) и Харьковский государственный художественный институт (1949 —1955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преимущественно в области жанровой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 Союза художников России с 1960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Расцвет творчества пришелся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 1970-1980-е г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1371240"/>
            <a:ext cx="485784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успех выпал на долю таких ее произведений, как "Грибная пора" (1967), "Юные мушкетеры" (1974), "Гаврила Поляков - мастер городецкой росписи" (1976), "Детская спортивная школа" (1979), "Девчата сороковых" (198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8 году состоялась первая персональная выставка в Горьковском государственном художественном муз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0 г. А.В.Сайкиной  было присвоено почетное звание "Заслуженный художник РСФСР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Saikina_A_f.jpg"/>
          <p:cNvPicPr/>
          <p:nvPr/>
        </p:nvPicPr>
        <p:blipFill>
          <a:blip r:embed="rId1"/>
          <a:stretch/>
        </p:blipFill>
        <p:spPr>
          <a:xfrm>
            <a:off x="5072040" y="1674720"/>
            <a:ext cx="3483000" cy="428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"Грибная пора" (196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грибник.jpg"/>
          <p:cNvPicPr/>
          <p:nvPr/>
        </p:nvPicPr>
        <p:blipFill>
          <a:blip r:embed="rId1"/>
          <a:stretch/>
        </p:blipFill>
        <p:spPr>
          <a:xfrm>
            <a:off x="1928880" y="905040"/>
            <a:ext cx="5429160" cy="5765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"Гаврила Поляков - мастер городецкой росписи" (197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06.jpg"/>
          <p:cNvPicPr/>
          <p:nvPr/>
        </p:nvPicPr>
        <p:blipFill>
          <a:blip r:embed="rId1"/>
          <a:stretch/>
        </p:blipFill>
        <p:spPr>
          <a:xfrm>
            <a:off x="2143080" y="1571760"/>
            <a:ext cx="4702320" cy="483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ето.  1985 г.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ашский государственный художественный м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3946.jpg"/>
          <p:cNvPicPr/>
          <p:nvPr/>
        </p:nvPicPr>
        <p:blipFill>
          <a:blip r:embed="rId1"/>
          <a:stretch/>
        </p:blipFill>
        <p:spPr>
          <a:xfrm>
            <a:off x="1428840" y="928800"/>
            <a:ext cx="65293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"Юные мушкетеры" (197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юные мушкетеры.jpg"/>
          <p:cNvPicPr/>
          <p:nvPr/>
        </p:nvPicPr>
        <p:blipFill>
          <a:blip r:embed="rId1"/>
          <a:stretch/>
        </p:blipFill>
        <p:spPr>
          <a:xfrm>
            <a:off x="428760" y="1000080"/>
            <a:ext cx="831060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"Детская спортивная школа" (197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детская спортивная школа.jpg"/>
          <p:cNvPicPr/>
          <p:nvPr/>
        </p:nvPicPr>
        <p:blipFill>
          <a:blip r:embed="rId1"/>
          <a:srcRect l="1030" t="0" r="0" b="0"/>
          <a:stretch/>
        </p:blipFill>
        <p:spPr>
          <a:xfrm>
            <a:off x="1143000" y="642960"/>
            <a:ext cx="6858000" cy="574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ис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фр. journal – дневник, jour – день; восходит к лат. diurna – ежедневный) – сотрудник периодического издания, обязанности которого состоят в том, чтобы оперативно собрать, обработать, грамотно и доступно изложить актуальную информацию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44:39Z</dcterms:created>
  <dc:creator>Елена Евгеньевна</dc:creator>
  <dc:description/>
  <dc:language>en-US</dc:language>
  <cp:lastModifiedBy>хозяин</cp:lastModifiedBy>
  <dcterms:modified xsi:type="dcterms:W3CDTF">2020-03-31T18:43:55Z</dcterms:modified>
  <cp:revision>12</cp:revision>
  <dc:subject/>
  <dc:title>Сайкина Александра Васильевна</dc:title>
</cp:coreProperties>
</file>