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3BA-3E3D-4E1D-9FF5-0D568762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28880" y="4156560"/>
            <a:ext cx="720072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1CA-D117-465F-A443-CF084F49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28880" y="415656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520" y="415656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B74-2DCE-4D5F-AA69-44132441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28880" y="415656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3560" y="415656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8240" y="415656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690-5740-4DF2-94DB-E4DDB02F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D0DD-4488-4DC2-98A3-D30B0C37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2661-B540-4743-AFE6-43248B00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A345-DB2D-4E10-B983-082FAA6D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AA08-4862-48DF-8EFF-5E4346C0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6270-9E26-401A-88E8-7B5C41C1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194F-D1B8-4CA7-AA80-D8CCA806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28880" y="415656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05EE-574D-4EDB-86AD-9513EF5C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479-8312-422A-A387-50F7F2EB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8520" y="415656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49D6-A163-44D8-AD70-6E9907FE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28880" y="4156560"/>
            <a:ext cx="720072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695D-8A53-41C7-92D6-D290DAB5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28880" y="4156560"/>
            <a:ext cx="720072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CDE7-9214-4E79-8F80-2295B59C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28880" y="415656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8520" y="415656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CEB4-C129-4A2F-AF0F-84B23D57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28880" y="415656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63560" y="415656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98240" y="4156560"/>
            <a:ext cx="23184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6FAE-E8C3-46AF-910B-55753664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2A0-FE3A-4C52-9397-41B48153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932-C71D-4E17-8E2F-7E5A8C42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B7E-036B-4845-BA9A-A23BF2BD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55A-745E-4B5C-9805-B866635F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28880" y="415656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3E6-AE0F-4BBD-A8A7-70DD0A60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520" y="415656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C3A-4415-40CE-9B08-C7312D64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880" y="4156560"/>
            <a:ext cx="7200720" cy="17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1D3-63D5-45AD-91B8-340043CE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358560" y="360"/>
            <a:ext cx="17100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358560" y="360"/>
            <a:ext cx="17100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36400" y="1788480"/>
            <a:ext cx="6270480" cy="209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</a:pPr>
            <a:r>
              <a:rPr b="0" lang="ru-RU" sz="6000" spc="-1" strike="noStrike" cap="all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64480" y="6453360"/>
            <a:ext cx="120564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937880" y="6453360"/>
            <a:ext cx="52671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373160" y="6453360"/>
            <a:ext cx="11970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D97474-7CB1-466A-8F0A-38E48F8ADFC8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564120" y="744120"/>
            <a:ext cx="8005680" cy="5349600"/>
            <a:chOff x="564120" y="744120"/>
            <a:chExt cx="8005680" cy="5349600"/>
          </a:xfrm>
        </p:grpSpPr>
        <p:sp>
          <p:nvSpPr>
            <p:cNvPr id="7" name="Freeform 6"/>
            <p:cNvSpPr/>
            <p:nvPr/>
          </p:nvSpPr>
          <p:spPr>
            <a:xfrm>
              <a:off x="6113880" y="1685520"/>
              <a:ext cx="2455920" cy="4408200"/>
            </a:xfrm>
            <a:custGeom>
              <a:avLst/>
              <a:gdLst>
                <a:gd name="textAreaLeft" fmla="*/ 0 w 2455920"/>
                <a:gd name="textAreaRight" fmla="*/ 2456280 w 2455920"/>
                <a:gd name="textAreaTop" fmla="*/ 0 h 4408200"/>
                <a:gd name="textAreaBottom" fmla="*/ 4408560 h 44082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6"/>
            <p:cNvSpPr/>
            <p:nvPr/>
          </p:nvSpPr>
          <p:spPr>
            <a:xfrm flipH="1" flipV="1">
              <a:off x="563400" y="743760"/>
              <a:ext cx="2456280" cy="4408200"/>
            </a:xfrm>
            <a:custGeom>
              <a:avLst/>
              <a:gdLst>
                <a:gd name="textAreaLeft" fmla="*/ -360 w 2456280"/>
                <a:gd name="textAreaRight" fmla="*/ 2456280 w 2456280"/>
                <a:gd name="textAreaTop" fmla="*/ -360 h 4408200"/>
                <a:gd name="textAreaBottom" fmla="*/ 4408200 h 4408200"/>
              </a:gdLst>
              <a:ahLst/>
              <a:rect l="textAreaLeft" t="textAreaTop" r="textAreaRight" b="textAreaBottom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4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864000" indent="-324000">
              <a:lnSpc>
                <a:spcPct val="94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ru-RU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296000" indent="-288000">
              <a:lnSpc>
                <a:spcPct val="94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i="1" lang="ru-RU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728000" indent="-216000">
              <a:lnSpc>
                <a:spcPct val="94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160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592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3024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358560" y="360"/>
            <a:ext cx="17100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8560" y="360"/>
            <a:ext cx="17100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44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ru-RU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042920" y="6453360"/>
            <a:ext cx="90324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170080" y="6453360"/>
            <a:ext cx="471024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104600" y="6453360"/>
            <a:ext cx="11970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78EDF4-41F5-43CB-82B0-9027F9CCD245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2997000"/>
            <a:ext cx="6912360" cy="216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lnSpc>
                <a:spcPct val="89000"/>
              </a:lnSpc>
              <a:buNone/>
            </a:pPr>
            <a:r>
              <a:rPr b="0" lang="ru-RU" sz="6000" spc="-1" strike="noStrike" cap="all">
                <a:solidFill>
                  <a:srgbClr val="191b0e"/>
                </a:solidFill>
                <a:latin typeface="Times New Roman"/>
              </a:rPr>
              <a:t>Презентация </a:t>
            </a:r>
            <a:br>
              <a:rPr sz="6000"/>
            </a:br>
            <a:r>
              <a:rPr b="0" lang="ru-RU" sz="6000" spc="-1" strike="noStrike" cap="all">
                <a:solidFill>
                  <a:srgbClr val="191b0e"/>
                </a:solidFill>
                <a:latin typeface="Times New Roman"/>
              </a:rPr>
              <a:t>На тему: Шахматы и история развития</a:t>
            </a:r>
            <a:endParaRPr b="0" lang="ru-RU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1115640" y="4725000"/>
            <a:ext cx="77720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00280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Собрав воедино все 3 игры: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макруг, сянци и сёги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, можно восстановить варианты древних шахмат. Они появились благодаря обмену между странами, так как в то время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Япония, Малайские острова и Индия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были соединены морским торговым путем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112" name="Picture 2" descr="C:\Users\Гости ОЙУ\Desktop\Шахматы\iBDK1B57T.jpg"/>
          <p:cNvPicPr/>
          <p:nvPr/>
        </p:nvPicPr>
        <p:blipFill>
          <a:blip r:embed="rId1"/>
          <a:stretch/>
        </p:blipFill>
        <p:spPr>
          <a:xfrm>
            <a:off x="2994480" y="3717000"/>
            <a:ext cx="55573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buNone/>
            </a:pPr>
            <a:r>
              <a:rPr b="0" i="1" lang="ru-RU" sz="3200" spc="-1" strike="noStrike">
                <a:solidFill>
                  <a:srgbClr val="191b0e"/>
                </a:solidFill>
                <a:latin typeface="Times New Roman"/>
              </a:rPr>
              <a:t>Малайзия и Бирма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Родоначальником современных шахмат мог стать любой вариант древней игры в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Бирме или Малайзии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. В первом ее называют </a:t>
            </a:r>
            <a:r>
              <a:rPr b="1" i="1" lang="ru-RU" sz="2000" spc="-1" strike="noStrike">
                <a:solidFill>
                  <a:srgbClr val="191b0e"/>
                </a:solidFill>
                <a:latin typeface="Times New Roman"/>
              </a:rPr>
              <a:t>ситтуйин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(война 4 родов), а во второй – </a:t>
            </a:r>
            <a:r>
              <a:rPr b="1" i="1" lang="ru-RU" sz="2000" spc="-1" strike="noStrike">
                <a:solidFill>
                  <a:srgbClr val="191b0e"/>
                </a:solidFill>
                <a:latin typeface="Times New Roman"/>
              </a:rPr>
              <a:t>майн чатор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. В Бирме принято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играть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</a:rPr>
              <a:t>красными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 и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</a:rPr>
              <a:t>черными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91b0e"/>
                </a:solidFill>
                <a:latin typeface="Times New Roman"/>
              </a:rPr>
              <a:t>фигурками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, которые внешне напоминают доисламских воинов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Итак, основные особенности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бирманских шахмат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: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Доска одного цвета с клетками 8 на 8, но с двумя диагоналями Сит-Ке-Мьин или линии генерала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Расположение пешек на 3-4 горизонтали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Первыми расставляют красные фигуры, и только после этого черные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Все остальные фигуры располагают в любом месте за пешками, кроме ладьи (стоят только на двух первых горизонталях)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Черная ладья не может стоят напротив красного ферзя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829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Красные фигуры ходят после того, как расставлены фигуры черного цвета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1" i="1" lang="ru-RU" sz="2000" spc="-1" strike="noStrike">
                <a:solidFill>
                  <a:srgbClr val="191b0e"/>
                </a:solidFill>
                <a:latin typeface="Times New Roman"/>
              </a:rPr>
              <a:t>Цель игры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– поставить мат, но пат ставить не разрешалось, нет там и прямого шаха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1" i="1" lang="ru-RU" sz="2000" spc="-1" strike="noStrike">
                <a:solidFill>
                  <a:srgbClr val="191b0e"/>
                </a:solidFill>
                <a:latin typeface="Times New Roman"/>
              </a:rPr>
              <a:t>Малазийские шахматы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по большей степени носят названия фигур, взятых из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санскрита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, кроме названия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пешки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 (пошло от арабского «байдак»). У них была одна интересная особенность, ведь местные короли племен играли прямо на поле возле своих домов огромными каменными глыбами. Длительность иногда достигала целого года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116" name="Picture 2" descr="C:\Users\Гости ОЙУ\Desktop\Шахматы\i09UCWS7T.jpg"/>
          <p:cNvPicPr/>
          <p:nvPr/>
        </p:nvPicPr>
        <p:blipFill>
          <a:blip r:embed="rId1"/>
          <a:stretch/>
        </p:blipFill>
        <p:spPr>
          <a:xfrm>
            <a:off x="4140000" y="3141000"/>
            <a:ext cx="4302360" cy="330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89000"/>
              </a:lnSpc>
              <a:buNone/>
            </a:pPr>
            <a:r>
              <a:rPr b="0" i="1" lang="ru-RU" sz="4400" spc="-1" strike="noStrike">
                <a:solidFill>
                  <a:srgbClr val="191b0e"/>
                </a:solidFill>
                <a:latin typeface="Times New Roman"/>
              </a:rPr>
              <a:t>Шахматы на Руси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83444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364680" indent="-364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4500" spc="-1" strike="noStrike">
                <a:solidFill>
                  <a:srgbClr val="191b0e"/>
                </a:solidFill>
                <a:latin typeface="Times New Roman"/>
              </a:rPr>
              <a:t>К нам игра пришла в 820 году. Это был вариант арабского шатранджа под названием шахмат. Для благозвучия их стали называть привычным для всех словом – шахматы. Получается, что путь движения начинается в Персии, после чего они проникли на Кавказ и Хазарский каганат, а оттуда уже к нам. Если рассмотреть названия фигур, можно заметить разительное сходство с арабскими и персидскими названиями. Так, название слона и коня является арабским, а ферзь происходит от персидского слова фарзин.</a:t>
            </a:r>
            <a:endParaRPr b="0" lang="ru-RU" sz="4500" spc="-1" strike="noStrike">
              <a:solidFill>
                <a:srgbClr val="191b0e"/>
              </a:solidFill>
              <a:latin typeface="Franklin Gothic Book"/>
            </a:endParaRPr>
          </a:p>
          <a:p>
            <a:pPr marL="364680" indent="-364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4500" spc="-1" strike="noStrike">
                <a:solidFill>
                  <a:srgbClr val="191b0e"/>
                </a:solidFill>
                <a:latin typeface="Times New Roman"/>
              </a:rPr>
              <a:t>Но международная европейская терминология и вариация игры была привезена из Польши, в которую шахматы проникли через Италию. Поэтому начало шахмат на Руси датируется X-XI веком. Параллельно ига просочилась в Европу, где и приобрела вид современных шахмат. Но все-таки еще многие года в каждом городке и селении были свои особенности, правила и методики.</a:t>
            </a:r>
            <a:endParaRPr b="0" lang="ru-RU" sz="45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119" name="Рисунок 3" descr="3"/>
          <p:cNvPicPr/>
          <p:nvPr/>
        </p:nvPicPr>
        <p:blipFill>
          <a:blip r:embed="rId1"/>
          <a:stretch/>
        </p:blipFill>
        <p:spPr>
          <a:xfrm>
            <a:off x="5436000" y="2781000"/>
            <a:ext cx="3433320" cy="324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i="1" lang="ru-RU" sz="4400" spc="-1" strike="noStrike">
                <a:solidFill>
                  <a:srgbClr val="191b0e"/>
                </a:solidFill>
                <a:latin typeface="Times New Roman"/>
              </a:rPr>
              <a:t>Долгий путь шахмат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08640"/>
            <a:ext cx="82292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1600" indent="-3816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Полноценно теория игры в шахматы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начала развиваться лишь в XV-XVI веке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, когда правила устоялись и все страны играли более-менее одинаково. В то время было выделено 3 главных этапа партии: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1600" indent="-3816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1" i="1" lang="ru-RU" sz="2000" spc="-1" strike="noStrike">
                <a:solidFill>
                  <a:srgbClr val="191b0e"/>
                </a:solidFill>
                <a:latin typeface="Times New Roman"/>
              </a:rPr>
              <a:t>дебют (отдельная часть – гамбит);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1600" indent="-3816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1" i="1" lang="ru-RU" sz="2000" spc="-1" strike="noStrike">
                <a:solidFill>
                  <a:srgbClr val="191b0e"/>
                </a:solidFill>
                <a:latin typeface="Times New Roman"/>
              </a:rPr>
              <a:t>миттельшпиль;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1600" indent="-3816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1" i="1" lang="ru-RU" sz="2000" spc="-1" strike="noStrike">
                <a:solidFill>
                  <a:srgbClr val="191b0e"/>
                </a:solidFill>
                <a:latin typeface="Times New Roman"/>
              </a:rPr>
              <a:t>эндшпиль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1600" indent="-3816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Это подробно описано в учебнике шахмат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Руи Лопесом в 1561 году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. До XVIII века итальянские мастера считали массированную атаку на короля всеми средствами и применение пешки в качестве вспомогательного материала наилучшим стилем этой логической игры. Но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Филидор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 значительно изменил эту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мысль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. Он указывал на безрассудность таких атак, ведь можно постепенно выстраивать сильную позицию без потерь, используя размены и упрощения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1600" indent="-3816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Основная мысль игры должна сводиться к правильному выставлению пешек, так как они являются отличной защитой и способом для ведения атаки.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Филидор придумал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специальную цепь </a:t>
            </a:r>
            <a:r>
              <a:rPr b="1" i="1" lang="ru-RU" sz="2000" spc="-1" strike="noStrike">
                <a:solidFill>
                  <a:srgbClr val="191b0e"/>
                </a:solidFill>
                <a:latin typeface="Times New Roman"/>
              </a:rPr>
              <a:t>пешек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, которая двигалась по определенной тактике. У него даже был специальный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пешечный центр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. Эти разработки стали основой для теории шахматной игры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следующего века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buNone/>
            </a:pPr>
            <a:r>
              <a:rPr b="0" i="1" lang="ru-RU" sz="4400" spc="-1" strike="noStrike">
                <a:solidFill>
                  <a:srgbClr val="191b0e"/>
                </a:solidFill>
                <a:latin typeface="Times New Roman"/>
              </a:rPr>
              <a:t>Шахматы как вид спорт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4744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Немного позже люди начали объединяться в шахматные клубы, где они играли на деньги. Популярность шахмат настолько возросла, что в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1575 году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был проведен первый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международный турнир по шахматам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. Его провели при дворе </a:t>
            </a:r>
            <a:r>
              <a:rPr b="1" i="1" lang="ru-RU" sz="2000" spc="-1" strike="noStrike">
                <a:solidFill>
                  <a:srgbClr val="191b0e"/>
                </a:solidFill>
                <a:latin typeface="Times New Roman"/>
              </a:rPr>
              <a:t>короля Филиппа II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 в Мадриде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. Правда, участие в игре принимало только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4 человека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 (2 итальянца и испанца)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124" name="Рисунок 3" descr="5"/>
          <p:cNvPicPr/>
          <p:nvPr/>
        </p:nvPicPr>
        <p:blipFill>
          <a:blip r:embed="rId1"/>
          <a:stretch/>
        </p:blipFill>
        <p:spPr>
          <a:xfrm>
            <a:off x="5004000" y="2709000"/>
            <a:ext cx="3853800" cy="295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640" y="260640"/>
            <a:ext cx="4320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250" spc="-1" strike="noStrike">
                <a:solidFill>
                  <a:srgbClr val="191b0e"/>
                </a:solidFill>
                <a:latin typeface="Times New Roman"/>
              </a:rPr>
              <a:t>После этого значительного события национальные турниры проводили практически во всех </a:t>
            </a:r>
            <a:r>
              <a:rPr b="0" i="1" lang="ru-RU" sz="2250" spc="-1" strike="noStrike">
                <a:solidFill>
                  <a:srgbClr val="191b0e"/>
                </a:solidFill>
                <a:latin typeface="Times New Roman"/>
              </a:rPr>
              <a:t>европейских странах</a:t>
            </a:r>
            <a:r>
              <a:rPr b="0" lang="ru-RU" sz="2250" spc="-1" strike="noStrike">
                <a:solidFill>
                  <a:srgbClr val="191b0e"/>
                </a:solidFill>
                <a:latin typeface="Times New Roman"/>
              </a:rPr>
              <a:t>, а в </a:t>
            </a:r>
            <a:r>
              <a:rPr b="0" i="1" lang="ru-RU" sz="2250" spc="-1" strike="noStrike">
                <a:solidFill>
                  <a:srgbClr val="191b0e"/>
                </a:solidFill>
                <a:latin typeface="Times New Roman"/>
              </a:rPr>
              <a:t>1836 году мир увидел первый журнал о шахматах – «Полимед». </a:t>
            </a:r>
            <a:r>
              <a:rPr b="0" lang="ru-RU" sz="2250" spc="-1" strike="noStrike">
                <a:solidFill>
                  <a:srgbClr val="191b0e"/>
                </a:solidFill>
                <a:latin typeface="Times New Roman"/>
              </a:rPr>
              <a:t>Его издателем был </a:t>
            </a:r>
            <a:r>
              <a:rPr b="1" i="1" lang="ru-RU" sz="2250" spc="-1" strike="noStrike">
                <a:solidFill>
                  <a:srgbClr val="191b0e"/>
                </a:solidFill>
                <a:latin typeface="Times New Roman"/>
              </a:rPr>
              <a:t>француз Луи Шарль Лабурдонне</a:t>
            </a:r>
            <a:r>
              <a:rPr b="0" lang="ru-RU" sz="2250" spc="-1" strike="noStrike">
                <a:solidFill>
                  <a:srgbClr val="191b0e"/>
                </a:solidFill>
                <a:latin typeface="Times New Roman"/>
              </a:rPr>
              <a:t>. В </a:t>
            </a:r>
            <a:r>
              <a:rPr b="0" i="1" lang="ru-RU" sz="2250" spc="-1" strike="noStrike">
                <a:solidFill>
                  <a:srgbClr val="191b0e"/>
                </a:solidFill>
                <a:latin typeface="Times New Roman"/>
              </a:rPr>
              <a:t>1821 году </a:t>
            </a:r>
            <a:r>
              <a:rPr b="0" lang="ru-RU" sz="2250" spc="-1" strike="noStrike">
                <a:solidFill>
                  <a:srgbClr val="191b0e"/>
                </a:solidFill>
                <a:latin typeface="Times New Roman"/>
              </a:rPr>
              <a:t>начали постоянно проводить </a:t>
            </a:r>
            <a:r>
              <a:rPr b="1" i="1" lang="ru-RU" sz="2250" spc="-1" strike="noStrike">
                <a:solidFill>
                  <a:srgbClr val="191b0e"/>
                </a:solidFill>
                <a:latin typeface="Times New Roman"/>
              </a:rPr>
              <a:t>международные матчи и турниры</a:t>
            </a:r>
            <a:r>
              <a:rPr b="0" lang="ru-RU" sz="2250" spc="-1" strike="noStrike">
                <a:solidFill>
                  <a:srgbClr val="191b0e"/>
                </a:solidFill>
                <a:latin typeface="Times New Roman"/>
              </a:rPr>
              <a:t>. В это же время мир узнал имя самого сильного </a:t>
            </a:r>
            <a:r>
              <a:rPr b="1" i="1" lang="ru-RU" sz="2250" spc="-1" strike="noStrike">
                <a:solidFill>
                  <a:srgbClr val="191b0e"/>
                </a:solidFill>
                <a:latin typeface="Times New Roman"/>
              </a:rPr>
              <a:t>шахматиста – Адольфа Андерсена</a:t>
            </a:r>
            <a:r>
              <a:rPr b="0" lang="ru-RU" sz="2250" spc="-1" strike="noStrike">
                <a:solidFill>
                  <a:srgbClr val="191b0e"/>
                </a:solidFill>
                <a:latin typeface="Times New Roman"/>
              </a:rPr>
              <a:t>. Позже его опередил </a:t>
            </a:r>
            <a:r>
              <a:rPr b="1" i="1" lang="ru-RU" sz="2250" spc="-1" strike="noStrike">
                <a:solidFill>
                  <a:srgbClr val="191b0e"/>
                </a:solidFill>
                <a:latin typeface="Times New Roman"/>
              </a:rPr>
              <a:t>американский Пол Морфи</a:t>
            </a:r>
            <a:r>
              <a:rPr b="0" lang="ru-RU" sz="2250" spc="-1" strike="noStrike">
                <a:solidFill>
                  <a:srgbClr val="191b0e"/>
                </a:solidFill>
                <a:latin typeface="Times New Roman"/>
              </a:rPr>
              <a:t>, после чего </a:t>
            </a:r>
            <a:r>
              <a:rPr b="0" i="1" lang="ru-RU" sz="2250" spc="-1" strike="noStrike">
                <a:solidFill>
                  <a:srgbClr val="191b0e"/>
                </a:solidFill>
                <a:latin typeface="Times New Roman"/>
              </a:rPr>
              <a:t>Андерсен</a:t>
            </a:r>
            <a:r>
              <a:rPr b="0" lang="ru-RU" sz="2250" spc="-1" strike="noStrike">
                <a:solidFill>
                  <a:srgbClr val="191b0e"/>
                </a:solidFill>
                <a:latin typeface="Times New Roman"/>
              </a:rPr>
              <a:t> снова вернул себе звание.</a:t>
            </a:r>
            <a:endParaRPr b="0" lang="ru-RU" sz="225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25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126" name="Picture 2" descr="C:\Users\Гости ОЙУ\Desktop\Шахматы\iQ3SOY3QC.jpg"/>
          <p:cNvPicPr/>
          <p:nvPr/>
        </p:nvPicPr>
        <p:blipFill>
          <a:blip r:embed="rId1"/>
          <a:stretch/>
        </p:blipFill>
        <p:spPr>
          <a:xfrm>
            <a:off x="4860000" y="1412640"/>
            <a:ext cx="4088880" cy="404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7930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В современном виде турнир проводился намного позже. В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XIX веке появились шахматные часы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, которые придумал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англичанин </a:t>
            </a:r>
            <a:r>
              <a:rPr b="1" i="1" lang="ru-RU" sz="2000" spc="-1" strike="noStrike">
                <a:solidFill>
                  <a:srgbClr val="191b0e"/>
                </a:solidFill>
                <a:latin typeface="Times New Roman"/>
              </a:rPr>
              <a:t>Томас Брайт Уилсон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. Это дало толчок развитию новых укороченных партий под названием –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«быстрые» (30 минут) и «блицтурнир» длительностью 5-10 минут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Эта игра настолько понравилась людям всего мира, что о ней было написано много художественных произведений. Шахматная доска навеяла мотив не для одной картины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128" name="Picture 2" descr="C:\Users\Гости ОЙУ\Desktop\Шахматы\iZGP2UMTU.jpg"/>
          <p:cNvPicPr/>
          <p:nvPr/>
        </p:nvPicPr>
        <p:blipFill>
          <a:blip r:embed="rId1"/>
          <a:stretch/>
        </p:blipFill>
        <p:spPr>
          <a:xfrm>
            <a:off x="3348000" y="3357000"/>
            <a:ext cx="4863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i="1" lang="ru-RU" sz="4400" spc="-1" strike="noStrike">
                <a:solidFill>
                  <a:srgbClr val="191b0e"/>
                </a:solidFill>
                <a:latin typeface="Times New Roman"/>
              </a:rPr>
              <a:t>Заключение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1" i="1" lang="ru-RU" sz="2000" spc="-1" strike="noStrike">
                <a:solidFill>
                  <a:srgbClr val="191b0e"/>
                </a:solidFill>
                <a:latin typeface="Times New Roman"/>
              </a:rPr>
              <a:t>Шахматы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- это очень интересная игра, которая одновременно является и спортом, увлечением и отличным развитием умственных способностей. 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В </a:t>
            </a: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процессе игры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развивается логическое мышление, умение рассуждать и думать на несколько ходов вперед, разрабатывать стратегию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buNone/>
            </a:pPr>
            <a:r>
              <a:rPr b="1" i="1" lang="ru-RU" sz="4800" spc="-1" strike="noStrike">
                <a:solidFill>
                  <a:srgbClr val="191b0e"/>
                </a:solidFill>
                <a:latin typeface="Times New Roman"/>
              </a:rPr>
              <a:t>Спасибо за внимание!!!</a:t>
            </a: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2" name="Picture 2" descr="C:\Users\Гости ОЙУ\Desktop\Шахматы\Chess_512263_1920x1080.jpg"/>
          <p:cNvPicPr/>
          <p:nvPr/>
        </p:nvPicPr>
        <p:blipFill>
          <a:blip r:embed="rId1"/>
          <a:stretch/>
        </p:blipFill>
        <p:spPr>
          <a:xfrm>
            <a:off x="1445760" y="2286000"/>
            <a:ext cx="6366600" cy="35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i="1" lang="ru-RU" sz="4400" spc="-1" strike="noStrike">
                <a:solidFill>
                  <a:srgbClr val="191b0e"/>
                </a:solidFill>
                <a:latin typeface="Times New Roman"/>
              </a:rPr>
              <a:t>Что такое шахматы?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640" y="1700640"/>
            <a:ext cx="3970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1600" indent="-3816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i="1" lang="ru-RU" sz="4000" spc="-1" strike="noStrike">
                <a:solidFill>
                  <a:srgbClr val="191b0e"/>
                </a:solidFill>
                <a:latin typeface="Times New Roman"/>
              </a:rPr>
              <a:t>Шахматы</a:t>
            </a:r>
            <a:r>
              <a:rPr b="0" lang="ru-RU" sz="4000" spc="-1" strike="noStrike">
                <a:solidFill>
                  <a:srgbClr val="191b0e"/>
                </a:solidFill>
                <a:latin typeface="Times New Roman"/>
              </a:rPr>
              <a:t>- настольная логическая игра, сочетающая в себе элементы искусства </a:t>
            </a:r>
            <a:r>
              <a:rPr b="0" i="1" lang="ru-RU" sz="4000" spc="-1" strike="noStrike">
                <a:solidFill>
                  <a:srgbClr val="191b0e"/>
                </a:solidFill>
                <a:latin typeface="Times New Roman"/>
              </a:rPr>
              <a:t>науки и спорта</a:t>
            </a:r>
            <a:r>
              <a:rPr b="0" lang="ru-RU" sz="4000" spc="-1" strike="noStrike">
                <a:solidFill>
                  <a:srgbClr val="191b0e"/>
                </a:solidFill>
                <a:latin typeface="Times New Roman"/>
              </a:rPr>
              <a:t>.</a:t>
            </a:r>
            <a:endParaRPr b="0" lang="ru-RU" sz="4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93" name="Picture 2" descr="C:\Users\Гости ОЙУ\Desktop\Шахматы\shahmati.jpg"/>
          <p:cNvPicPr/>
          <p:nvPr/>
        </p:nvPicPr>
        <p:blipFill>
          <a:blip r:embed="rId1"/>
          <a:stretch/>
        </p:blipFill>
        <p:spPr>
          <a:xfrm>
            <a:off x="5055840" y="1412640"/>
            <a:ext cx="3836160" cy="36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6840" y="21600"/>
            <a:ext cx="8229240" cy="10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89000"/>
              </a:lnSpc>
              <a:buNone/>
            </a:pPr>
            <a:r>
              <a:rPr b="1" i="1" lang="ru-RU" sz="4000" spc="-1" strike="noStrike">
                <a:solidFill>
                  <a:srgbClr val="191b0e"/>
                </a:solidFill>
                <a:latin typeface="Times New Roman"/>
              </a:rPr>
              <a:t>История шахмат – кто придумал и как возникли шахматы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640" y="1304640"/>
            <a:ext cx="425844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6760" indent="-3567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400" spc="-1" strike="noStrike">
                <a:solidFill>
                  <a:srgbClr val="191b0e"/>
                </a:solidFill>
                <a:latin typeface="Times New Roman"/>
              </a:rPr>
              <a:t>Одна из самых древних и увлекательных игр – </a:t>
            </a:r>
            <a:r>
              <a:rPr b="0" i="1" lang="ru-RU" sz="2400" spc="-1" strike="noStrike">
                <a:solidFill>
                  <a:srgbClr val="191b0e"/>
                </a:solidFill>
                <a:latin typeface="Times New Roman"/>
              </a:rPr>
              <a:t>шахматы</a:t>
            </a:r>
            <a:r>
              <a:rPr b="0" lang="ru-RU" sz="2400" spc="-1" strike="noStrike">
                <a:solidFill>
                  <a:srgbClr val="191b0e"/>
                </a:solidFill>
                <a:latin typeface="Times New Roman"/>
              </a:rPr>
              <a:t>. Она известна в любом уголке земного шара, поэтому в мире есть десятки ее вариаций. Это не просто игра, ведь шахматы давно являются видом спорта и искусства. Шахматную разметку используют практически во всех сферах жизни, а алгоритм игры применяют в научных целях. Но где же находится ее родина и кто ее придумал? Однозначного и правдоподобного мнения до сих пор нет. Ученые спорят, выдвигая свои версии.</a:t>
            </a:r>
            <a:endParaRPr b="0" lang="ru-RU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96" name="Рисунок 3" descr="1"/>
          <p:cNvPicPr/>
          <p:nvPr/>
        </p:nvPicPr>
        <p:blipFill>
          <a:blip r:embed="rId1"/>
          <a:stretch/>
        </p:blipFill>
        <p:spPr>
          <a:xfrm>
            <a:off x="4654440" y="1700640"/>
            <a:ext cx="4211640" cy="255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640" y="404640"/>
            <a:ext cx="361044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4760" indent="-3747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800" spc="-1" strike="noStrike">
                <a:solidFill>
                  <a:srgbClr val="191b0e"/>
                </a:solidFill>
                <a:latin typeface="Times New Roman"/>
              </a:rPr>
              <a:t>Некоторые издания с уверенностью заявляют, что шахматы появились в </a:t>
            </a:r>
            <a:r>
              <a:rPr b="0" i="1" lang="ru-RU" sz="2800" spc="-1" strike="noStrike">
                <a:solidFill>
                  <a:srgbClr val="191b0e"/>
                </a:solidFill>
                <a:latin typeface="Times New Roman"/>
              </a:rPr>
              <a:t>Индии где-то в VI веке н. э. Об </a:t>
            </a:r>
            <a:r>
              <a:rPr b="0" lang="ru-RU" sz="2800" spc="-1" strike="noStrike">
                <a:solidFill>
                  <a:srgbClr val="191b0e"/>
                </a:solidFill>
                <a:latin typeface="Times New Roman"/>
              </a:rPr>
              <a:t>этом еще в начале</a:t>
            </a:r>
            <a:r>
              <a:rPr b="0" i="1" lang="ru-RU" sz="2800" spc="-1" strike="noStrike">
                <a:solidFill>
                  <a:srgbClr val="191b0e"/>
                </a:solidFill>
                <a:latin typeface="Times New Roman"/>
              </a:rPr>
              <a:t> XX века </a:t>
            </a:r>
            <a:r>
              <a:rPr b="0" lang="ru-RU" sz="2800" spc="-1" strike="noStrike">
                <a:solidFill>
                  <a:srgbClr val="191b0e"/>
                </a:solidFill>
                <a:latin typeface="Times New Roman"/>
              </a:rPr>
              <a:t>можно было прочесть в книге </a:t>
            </a:r>
            <a:r>
              <a:rPr b="0" i="1" lang="ru-RU" sz="2800" spc="-1" strike="noStrike">
                <a:solidFill>
                  <a:srgbClr val="191b0e"/>
                </a:solidFill>
                <a:latin typeface="Times New Roman"/>
              </a:rPr>
              <a:t>Гарольда Мюррея «История шахмат»</a:t>
            </a:r>
            <a:r>
              <a:rPr b="0" lang="ru-RU" sz="2800" spc="-1" strike="noStrike">
                <a:solidFill>
                  <a:srgbClr val="191b0e"/>
                </a:solidFill>
                <a:latin typeface="Times New Roman"/>
              </a:rPr>
              <a:t>. Да, изобрели игру именно там и в то время, но придумали ее намного раньше. Ученые всерьез взялись за исследование этой темы и нашли много самых разных версий, которые порой удивляют фактами.</a:t>
            </a:r>
            <a:endParaRPr b="0" lang="ru-RU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98" name="Рисунок 3" descr="297634_original"/>
          <p:cNvPicPr/>
          <p:nvPr/>
        </p:nvPicPr>
        <p:blipFill>
          <a:blip r:embed="rId1"/>
          <a:stretch/>
        </p:blipFill>
        <p:spPr>
          <a:xfrm>
            <a:off x="4140000" y="908640"/>
            <a:ext cx="4752000" cy="4099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7640" y="332640"/>
            <a:ext cx="82292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65760" indent="-3657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900" spc="-1" strike="noStrike">
                <a:solidFill>
                  <a:srgbClr val="191b0e"/>
                </a:solidFill>
                <a:latin typeface="Times New Roman"/>
              </a:rPr>
              <a:t>Есть и другой вариант – </a:t>
            </a:r>
            <a:r>
              <a:rPr b="0" i="1" lang="ru-RU" sz="2900" spc="-1" strike="noStrike">
                <a:solidFill>
                  <a:srgbClr val="191b0e"/>
                </a:solidFill>
                <a:latin typeface="Times New Roman"/>
              </a:rPr>
              <a:t>корейская легенда</a:t>
            </a:r>
            <a:r>
              <a:rPr b="0" lang="ru-RU" sz="2900" spc="-1" strike="noStrike">
                <a:solidFill>
                  <a:srgbClr val="191b0e"/>
                </a:solidFill>
                <a:latin typeface="Times New Roman"/>
              </a:rPr>
              <a:t>. Когда-то 4500 лет назад прототипом современных шахмат стала игра, которую придумал грозный царь Месопотамии Раван для своей любимой жены Мандодари. Ему приходилось долгое время отсутствовать из-за многочисленных походов, поэтому его супруга часто грустила. Шахматы настолько заинтересовали всех жителей дворца, что они распространились по всему миру (Индия, Китай, Корея).</a:t>
            </a:r>
            <a:endParaRPr b="0" lang="ru-RU" sz="2900" spc="-1" strike="noStrike">
              <a:solidFill>
                <a:srgbClr val="191b0e"/>
              </a:solidFill>
              <a:latin typeface="Franklin Gothic Book"/>
            </a:endParaRPr>
          </a:p>
          <a:p>
            <a:pPr marL="365760" indent="-3657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900" spc="-1" strike="noStrike">
                <a:solidFill>
                  <a:srgbClr val="191b0e"/>
                </a:solidFill>
                <a:latin typeface="Times New Roman"/>
              </a:rPr>
              <a:t>Любопытно, но этому есть реальное документальное подтверждение. В начале </a:t>
            </a:r>
            <a:r>
              <a:rPr b="0" i="1" lang="ru-RU" sz="2900" spc="-1" strike="noStrike">
                <a:solidFill>
                  <a:srgbClr val="191b0e"/>
                </a:solidFill>
                <a:latin typeface="Times New Roman"/>
              </a:rPr>
              <a:t>XX века фон Борк </a:t>
            </a:r>
            <a:r>
              <a:rPr b="0" lang="ru-RU" sz="2900" spc="-1" strike="noStrike">
                <a:solidFill>
                  <a:srgbClr val="191b0e"/>
                </a:solidFill>
                <a:latin typeface="Times New Roman"/>
              </a:rPr>
              <a:t>доказал наличие прототипа игры. По его сведениям она появилась в 1250 году до </a:t>
            </a:r>
            <a:r>
              <a:rPr b="0" i="1" lang="ru-RU" sz="2900" spc="-1" strike="noStrike">
                <a:solidFill>
                  <a:srgbClr val="191b0e"/>
                </a:solidFill>
                <a:latin typeface="Times New Roman"/>
              </a:rPr>
              <a:t>н. э. в Индостане</a:t>
            </a:r>
            <a:r>
              <a:rPr b="0" lang="ru-RU" sz="2900" spc="-1" strike="noStrike">
                <a:solidFill>
                  <a:srgbClr val="191b0e"/>
                </a:solidFill>
                <a:latin typeface="Times New Roman"/>
              </a:rPr>
              <a:t>. В нее играли представители местного племени, позаимствовавшие древнюю забаву в Эламе (нынешний юго-запад Ирана).</a:t>
            </a:r>
            <a:endParaRPr b="0" lang="ru-RU" sz="2900" spc="-1" strike="noStrike">
              <a:solidFill>
                <a:srgbClr val="191b0e"/>
              </a:solidFill>
              <a:latin typeface="Franklin Gothic Book"/>
            </a:endParaRPr>
          </a:p>
          <a:p>
            <a:pPr marL="365760" indent="-3657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900" spc="-1" strike="noStrike">
                <a:solidFill>
                  <a:srgbClr val="191b0e"/>
                </a:solidFill>
                <a:latin typeface="Times New Roman"/>
              </a:rPr>
              <a:t>Теперь точно установить это невозможно, ведь в то время под словом шахматы люди могли объединить разные игры: кости, нарды, </a:t>
            </a:r>
            <a:r>
              <a:rPr b="0" i="1" lang="ru-RU" sz="2900" spc="-1" strike="noStrike">
                <a:solidFill>
                  <a:srgbClr val="191b0e"/>
                </a:solidFill>
                <a:latin typeface="Times New Roman"/>
              </a:rPr>
              <a:t>чаупара</a:t>
            </a:r>
            <a:r>
              <a:rPr b="0" lang="ru-RU" sz="2900" spc="-1" strike="noStrike">
                <a:solidFill>
                  <a:srgbClr val="191b0e"/>
                </a:solidFill>
                <a:latin typeface="Times New Roman"/>
              </a:rPr>
              <a:t> или </a:t>
            </a:r>
            <a:r>
              <a:rPr b="0" i="1" lang="ru-RU" sz="2900" spc="-1" strike="noStrike">
                <a:solidFill>
                  <a:srgbClr val="191b0e"/>
                </a:solidFill>
                <a:latin typeface="Times New Roman"/>
              </a:rPr>
              <a:t>пачизи</a:t>
            </a:r>
            <a:r>
              <a:rPr b="0" lang="ru-RU" sz="2900" spc="-1" strike="noStrike">
                <a:solidFill>
                  <a:srgbClr val="191b0e"/>
                </a:solidFill>
                <a:latin typeface="Times New Roman"/>
              </a:rPr>
              <a:t>. У всех этих вариантов есть одно общее – квадратная или крестообразная доска. Нам остается только угадывать, что из них было первым.</a:t>
            </a:r>
            <a:endParaRPr b="0" lang="ru-RU" sz="29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buNone/>
            </a:pPr>
            <a:r>
              <a:rPr b="0" i="1" lang="ru-RU" sz="4400" spc="-1" strike="noStrike">
                <a:solidFill>
                  <a:srgbClr val="191b0e"/>
                </a:solidFill>
                <a:latin typeface="Times New Roman"/>
              </a:rPr>
              <a:t>Известная чатуранг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640" y="908640"/>
            <a:ext cx="4824000" cy="59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9360" indent="-3693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Это самый близкий вариант, который похож на современные шахматы. В нее начали играть все в той же северной части Индии, но где-то в VI веке. До наших дней точные правила игры не дошли, хотя ученые представили миру несколько своих вариантов. Основная схожесть: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9360" indent="-3693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доска в форме квадрата и размера 8 на 8 клеток;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9360" indent="-3693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фигурки внешне схожи с шахматными;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9360" indent="-3693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всего 32 фигуры (одна половина основных, вторая – пешки);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9360" indent="-3693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король и конь ходят одинаково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9360" indent="-36936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Разница между этими играми в количестве игроков: в чатуранге их должно было 4, причем у каждого было по 4 фигуры (король, слон, ладья и конь). Играть нужно 2 на 2. Ходить начинал человек, бросивший игральные кости. А вот ферзя у чатуранги не было вовсе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102" name="Рисунок 3" descr="695293_600"/>
          <p:cNvPicPr/>
          <p:nvPr/>
        </p:nvPicPr>
        <p:blipFill>
          <a:blip r:embed="rId1"/>
          <a:stretch/>
        </p:blipFill>
        <p:spPr>
          <a:xfrm>
            <a:off x="4860000" y="1917000"/>
            <a:ext cx="3960000" cy="309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89000"/>
              </a:lnSpc>
              <a:buNone/>
            </a:pPr>
            <a:r>
              <a:rPr b="0" i="1" lang="ru-RU" sz="4400" spc="-1" strike="noStrike">
                <a:solidFill>
                  <a:srgbClr val="191b0e"/>
                </a:solidFill>
                <a:latin typeface="Times New Roman"/>
              </a:rPr>
              <a:t>Дальнейшее движение игры по миру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52800" indent="-3528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3500" spc="-1" strike="noStrike">
                <a:solidFill>
                  <a:srgbClr val="191b0e"/>
                </a:solidFill>
                <a:latin typeface="Times New Roman"/>
              </a:rPr>
              <a:t>Поддерживая теорию о появлении шахмат в Индии, можно с уверенностью сказать, что из этой страны чатуранга попала в </a:t>
            </a:r>
            <a:r>
              <a:rPr b="0" i="1" lang="ru-RU" sz="3500" spc="-1" strike="noStrike">
                <a:solidFill>
                  <a:srgbClr val="191b0e"/>
                </a:solidFill>
                <a:latin typeface="Times New Roman"/>
              </a:rPr>
              <a:t>Иран</a:t>
            </a:r>
            <a:r>
              <a:rPr b="0" lang="ru-RU" sz="3500" spc="-1" strike="noStrike">
                <a:solidFill>
                  <a:srgbClr val="191b0e"/>
                </a:solidFill>
                <a:latin typeface="Times New Roman"/>
              </a:rPr>
              <a:t> и </a:t>
            </a:r>
            <a:r>
              <a:rPr b="0" i="1" lang="ru-RU" sz="3500" spc="-1" strike="noStrike">
                <a:solidFill>
                  <a:srgbClr val="191b0e"/>
                </a:solidFill>
                <a:latin typeface="Times New Roman"/>
              </a:rPr>
              <a:t>Среднюю Азию</a:t>
            </a:r>
            <a:r>
              <a:rPr b="0" lang="ru-RU" sz="3500" spc="-1" strike="noStrike">
                <a:solidFill>
                  <a:srgbClr val="191b0e"/>
                </a:solidFill>
                <a:latin typeface="Times New Roman"/>
              </a:rPr>
              <a:t>. Но называли ее там – </a:t>
            </a:r>
            <a:r>
              <a:rPr b="0" i="1" lang="ru-RU" sz="3500" spc="-1" strike="noStrike">
                <a:solidFill>
                  <a:srgbClr val="191b0e"/>
                </a:solidFill>
                <a:latin typeface="Times New Roman"/>
              </a:rPr>
              <a:t>чатранг</a:t>
            </a:r>
            <a:r>
              <a:rPr b="0" lang="ru-RU" sz="3500" spc="-1" strike="noStrike">
                <a:solidFill>
                  <a:srgbClr val="191b0e"/>
                </a:solidFill>
                <a:latin typeface="Times New Roman"/>
              </a:rPr>
              <a:t>. Об этом есть и документальное подтверждение в древнеперсидской летописи «</a:t>
            </a:r>
            <a:r>
              <a:rPr b="0" i="1" lang="ru-RU" sz="3500" spc="-1" strike="noStrike">
                <a:solidFill>
                  <a:srgbClr val="191b0e"/>
                </a:solidFill>
                <a:latin typeface="Times New Roman"/>
              </a:rPr>
              <a:t>Чатранг-Намак</a:t>
            </a:r>
            <a:r>
              <a:rPr b="0" lang="ru-RU" sz="3500" spc="-1" strike="noStrike">
                <a:solidFill>
                  <a:srgbClr val="191b0e"/>
                </a:solidFill>
                <a:latin typeface="Times New Roman"/>
              </a:rPr>
              <a:t>», которая датируется</a:t>
            </a:r>
            <a:r>
              <a:rPr b="0" i="1" lang="ru-RU" sz="3500" spc="-1" strike="noStrike">
                <a:solidFill>
                  <a:srgbClr val="191b0e"/>
                </a:solidFill>
                <a:latin typeface="Times New Roman"/>
              </a:rPr>
              <a:t> 750-850 гг. до н. э. В середине VII века Иран</a:t>
            </a:r>
            <a:r>
              <a:rPr b="0" lang="ru-RU" sz="3500" spc="-1" strike="noStrike">
                <a:solidFill>
                  <a:srgbClr val="191b0e"/>
                </a:solidFill>
                <a:latin typeface="Times New Roman"/>
              </a:rPr>
              <a:t> завоевали </a:t>
            </a:r>
            <a:r>
              <a:rPr b="0" i="1" lang="ru-RU" sz="3500" spc="-1" strike="noStrike">
                <a:solidFill>
                  <a:srgbClr val="191b0e"/>
                </a:solidFill>
                <a:latin typeface="Times New Roman"/>
              </a:rPr>
              <a:t>арабы</a:t>
            </a:r>
            <a:r>
              <a:rPr b="0" lang="ru-RU" sz="3500" spc="-1" strike="noStrike">
                <a:solidFill>
                  <a:srgbClr val="191b0e"/>
                </a:solidFill>
                <a:latin typeface="Times New Roman"/>
              </a:rPr>
              <a:t>, которые снова переименовали </a:t>
            </a:r>
            <a:r>
              <a:rPr b="0" i="1" lang="ru-RU" sz="3500" spc="-1" strike="noStrike">
                <a:solidFill>
                  <a:srgbClr val="191b0e"/>
                </a:solidFill>
                <a:latin typeface="Times New Roman"/>
              </a:rPr>
              <a:t>чатранг</a:t>
            </a:r>
            <a:r>
              <a:rPr b="0" lang="ru-RU" sz="3500" spc="-1" strike="noStrike">
                <a:solidFill>
                  <a:srgbClr val="191b0e"/>
                </a:solidFill>
                <a:latin typeface="Times New Roman"/>
              </a:rPr>
              <a:t> в </a:t>
            </a:r>
            <a:r>
              <a:rPr b="0" i="1" lang="ru-RU" sz="3500" spc="-1" strike="noStrike">
                <a:solidFill>
                  <a:srgbClr val="191b0e"/>
                </a:solidFill>
                <a:latin typeface="Times New Roman"/>
              </a:rPr>
              <a:t>шатрандж</a:t>
            </a:r>
            <a:r>
              <a:rPr b="0" lang="ru-RU" sz="3500" spc="-1" strike="noStrike">
                <a:solidFill>
                  <a:srgbClr val="191b0e"/>
                </a:solidFill>
                <a:latin typeface="Times New Roman"/>
              </a:rPr>
              <a:t>. Именно под этим именем игра проникла в </a:t>
            </a:r>
            <a:r>
              <a:rPr b="0" i="1" lang="ru-RU" sz="3500" spc="-1" strike="noStrike">
                <a:solidFill>
                  <a:srgbClr val="191b0e"/>
                </a:solidFill>
                <a:latin typeface="Times New Roman"/>
              </a:rPr>
              <a:t>Европу</a:t>
            </a:r>
            <a:r>
              <a:rPr b="0" lang="ru-RU" sz="3500" spc="-1" strike="noStrike">
                <a:solidFill>
                  <a:srgbClr val="191b0e"/>
                </a:solidFill>
                <a:latin typeface="Times New Roman"/>
              </a:rPr>
              <a:t>.</a:t>
            </a:r>
            <a:endParaRPr b="0" lang="ru-RU" sz="35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9000"/>
              </a:lnSpc>
              <a:buNone/>
            </a:pPr>
            <a:r>
              <a:rPr b="0" i="1" lang="ru-RU" sz="4400" spc="-1" strike="noStrike">
                <a:solidFill>
                  <a:srgbClr val="191b0e"/>
                </a:solidFill>
                <a:latin typeface="Times New Roman"/>
              </a:rPr>
              <a:t>Проникновение шахмат на восток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124640"/>
            <a:ext cx="3826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Times New Roman"/>
              </a:rPr>
              <a:t>В Китае в нынешнее время есть своя система шахмат, которая значительно отличается от международной. Такую игру там называют – </a:t>
            </a:r>
            <a:r>
              <a:rPr b="0" i="1" lang="ru-RU" sz="1800" spc="-1" strike="noStrike">
                <a:solidFill>
                  <a:srgbClr val="191b0e"/>
                </a:solidFill>
                <a:latin typeface="Times New Roman"/>
              </a:rPr>
              <a:t>сянци</a:t>
            </a:r>
            <a:r>
              <a:rPr b="0" lang="ru-RU" sz="1800" spc="-1" strike="noStrike">
                <a:solidFill>
                  <a:srgbClr val="191b0e"/>
                </a:solidFill>
                <a:latin typeface="Times New Roman"/>
              </a:rPr>
              <a:t>. Вместо фигурок там используют деревянные диски, но играть в них без знания иероглифов нереально. Даже после перевода картинок, знатоки отмечают несоответствие правилам, ведь теряется та магия игры, которая привлекает к себе всех любителей интеллектуальных задач.</a:t>
            </a:r>
            <a:endParaRPr b="0" lang="ru-RU" sz="18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107" name="Рисунок 3" descr="ae5c6eb913bea8e8b8054eee2317d374_RSZ_690"/>
          <p:cNvPicPr/>
          <p:nvPr/>
        </p:nvPicPr>
        <p:blipFill>
          <a:blip r:embed="rId1"/>
          <a:stretch/>
        </p:blipFill>
        <p:spPr>
          <a:xfrm>
            <a:off x="4356000" y="4149000"/>
            <a:ext cx="4536000" cy="2406240"/>
          </a:xfrm>
          <a:prstGeom prst="rect">
            <a:avLst/>
          </a:prstGeom>
          <a:ln w="9525">
            <a:noFill/>
          </a:ln>
        </p:spPr>
      </p:pic>
      <p:sp>
        <p:nvSpPr>
          <p:cNvPr id="108" name="Содержимое 2"/>
          <p:cNvSpPr/>
          <p:nvPr/>
        </p:nvSpPr>
        <p:spPr>
          <a:xfrm>
            <a:off x="5076000" y="980640"/>
            <a:ext cx="3826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23000"/>
          </a:bodyPr>
          <a:p>
            <a:pPr marL="315360" indent="-31536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Дошла игра и до Кореи, о чем есть документальное подтверждение, датированное XVI веком. Правила игры похожи на современные, но есть сходство с китайскими </a:t>
            </a:r>
            <a:r>
              <a:rPr b="0" i="1" lang="ru-RU" sz="6200" spc="-1" strike="noStrike">
                <a:solidFill>
                  <a:srgbClr val="000000"/>
                </a:solidFill>
                <a:latin typeface="Times New Roman"/>
              </a:rPr>
              <a:t>сянци</a:t>
            </a: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, но исторических записей мало. Доска 9 на 10 клеток, а в центре находится дворец, но расчерчены только вертикали. Фигурки не объемные, а плоские с иероглифами. </a:t>
            </a:r>
            <a:r>
              <a:rPr b="0" i="1" lang="ru-RU" sz="6200" spc="-1" strike="noStrike">
                <a:solidFill>
                  <a:srgbClr val="000000"/>
                </a:solidFill>
                <a:latin typeface="Times New Roman"/>
              </a:rPr>
              <a:t>Чанга</a:t>
            </a: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 имеет свою особенность, которая отличает ее от других вариантов шахматных игр – 16 способов разложения фигур в начале матча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2292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buNone/>
            </a:pPr>
            <a:r>
              <a:rPr b="0" i="1" lang="ru-RU" sz="3200" spc="-1" strike="noStrike">
                <a:solidFill>
                  <a:srgbClr val="191b0e"/>
                </a:solidFill>
                <a:latin typeface="Times New Roman"/>
              </a:rPr>
              <a:t>Тайский и камбоджийский 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640" y="836640"/>
            <a:ext cx="8352720" cy="57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5040" indent="-3650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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Эти разновидности практически идентичны, но все же внешние различия между ними есть. Тайский тип – макрук, в Камбоджии игру называют оук-чатранг (она древнее). Первые документальные записи об этой игре можно встретить в XVII веке, когда игру описал посол франции Ла Любере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5040" indent="-3650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Доска в игре макрук привычная – 8 на 8, одноцветная. На ней уже нет характерных индийских перекрестков аштапады. Играет уже 2 игрока, а не 4. Основное отличие игры – использование ракушек вместо фигур, хотя и фигуры здесь, но они похожи между собой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5040" indent="-3650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i="1" lang="ru-RU" sz="2000" spc="-1" strike="noStrike">
                <a:solidFill>
                  <a:srgbClr val="191b0e"/>
                </a:solidFill>
                <a:latin typeface="Times New Roman"/>
              </a:rPr>
              <a:t>Сёги </a:t>
            </a: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произошли от игры сянци и, возможно, у них есть родственные связи с макруком, так как есть схожие черты. Эта игра несколько проще предыдущих и больше напоминает современные шахматы: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5040" indent="-3650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доска 9 на 9 клеток;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5040" indent="-3650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расположение фигур на полях;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5040" indent="-3650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превращение фигур по достижении горизонтали;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5040" indent="-3650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пленники противника можно на следующий ход поставить в любое место доски в качестве своей фигуры;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5040" indent="-3650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фигуры одноцветные;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65040" indent="-3650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Times New Roman"/>
              </a:rPr>
              <a:t>начальная расстановка и ходы напоминают макрук.</a:t>
            </a: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8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rop">
  <a:themeElements>
    <a:clrScheme name="Crop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rop">
  <a:themeElements>
    <a:clrScheme name="Crop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10001105[[fn=Урожай]]</Template>
  <TotalTime>149</TotalTime>
  <Application>LibreOffice/7.4.7.2$Linux_X86_64 LibreOffice_project/40$Build-2</Application>
  <AppVersion>15.0000</AppVersion>
  <Words>1711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12:22:55Z</dcterms:created>
  <dc:creator>Гости ОЙУ</dc:creator>
  <dc:description/>
  <dc:language>en-US</dc:language>
  <cp:lastModifiedBy>Hewlett-Packard Company</cp:lastModifiedBy>
  <dcterms:modified xsi:type="dcterms:W3CDTF">2020-04-07T14:47:57Z</dcterms:modified>
  <cp:revision>15</cp:revision>
  <dc:subject/>
  <dc:title>Презентация  На тему: Шахматы и история разви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