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C8F-7BD8-4DB8-B6DB-8CC72A28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7A2-73CC-4230-A6E1-7D6FF9D6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E5246-0B2B-4693-A57F-BCF9392A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92230-ED86-41EC-9DDB-C22C2A36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E317D-E70C-4E76-BB54-DBA84209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46B4C-4FA8-4CA9-AEA9-D063CE46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10297-F0F1-45C7-8236-DF086816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DB0DD-7780-469D-A8C4-4239D041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4DF68-6A37-4583-AF87-86B67A84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19716-81C5-4167-9CD6-42CE7CDF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D3508-189C-4726-A70B-968BB540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93176-8458-449C-A8C4-5B576ECC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927-B854-4010-AD42-14CB34A1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76877-657F-4986-A624-C0B51E50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FE83D-1DA8-4B5A-8290-3447216A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48789-0299-4A14-BE86-7D373A8F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6E4BB-A22F-4716-80C5-B6DD885A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E3FCE-3110-4E87-9665-925AE46C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92E4E-0D38-4854-AE0F-71ED3A1E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C1B00-D95D-4955-8D5F-9F8A937D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2F19E-9A12-48FB-AA00-752B65DA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80E2C-EC89-486C-BEB9-E22EC1EC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CBEFE-3AB1-45F8-A923-E2E274AA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F24-074B-47CD-BE2D-D5DFAFF4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94F8F-399A-40AB-9A53-4E906585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07334-FEA8-458F-B87A-2C74A3FA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84592-6E9C-4593-ABA1-0871311F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07BDF-24C4-4267-B63F-BF5CF2F2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EEF1E-8AAB-41F3-ACB9-2E5E295C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273B9-1777-4187-BC53-CA4E08CC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11D8F-633A-4742-A7B0-2729842D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7B8C1-DDE3-4CF7-808D-EE628430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424BE-C78F-4F5D-87EF-782BB686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69699-1721-4D6E-B25A-5477562E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3081-46BC-4199-A362-4187031A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A48E3-1B41-4299-B4E9-4D7B5039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E506F-626C-477B-B710-46A16933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0DCCB-07E2-4620-ADDF-60737A58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BEE40-E153-4AE7-AE85-AD23D3F9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99850-A629-4415-8D74-3B2209FE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DD8AF-9A28-4F48-8DC7-A4C417F1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12F26-BA4E-464E-90C5-5232CC14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FEC3B-AD1E-477F-991B-5110D8A4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92B27-A215-4CA0-A819-2F0CA3F0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58FEC-250D-446B-96CC-EED100D4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342A-5CF0-46D2-BB5B-C2810390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EB17A-04FC-4BBB-9DEF-4792376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1B847-15DC-4B27-935A-DAD69EFF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7E9AB-8098-43D9-9E78-B4BC441B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EEF4E-D8CC-4D28-B1B4-B482B42A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1FDC3-C7FF-4477-A17D-7367876A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2CA7F-7D66-4415-88A6-3843D2AC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C59FC-F041-4E18-A4F9-D7CD20DD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DE904-338A-4779-9E28-49599680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EBE93-E224-4E0D-B903-2FFDDAD0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6CEEE-1672-4110-B377-0D2073D2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F6B1-F37B-4DD9-BF03-57A0772C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A911A-FD67-4F81-9543-47887D9D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E2F33-8CC1-4CC0-9466-E2919FEC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244C2-A7BD-423D-B8C9-5F3854FD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A746F-0582-4D4A-98A8-7976066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62CB4-E114-4E34-85CD-C4533E66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46D14-6DCE-4DB7-AF6B-A63D7AC7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E3003-E109-4A3E-BF0E-4F6ADCFD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C5E4-483D-463B-906D-5A7FB17B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94E1-EB57-4A50-802D-62D7BFBF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DFD8-08DA-4934-8A07-AF28F81B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0316-9152-41D4-AB21-AAC8D075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B95-0A19-4722-831E-B2B2FD78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7956-3CB8-463C-8527-C13DE2C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62AE-49B9-4BB4-8DC7-30C65C70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7642-4893-4A02-AB7D-7A2449C8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E8F9-CF01-4B43-91EC-93D3E856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DDFE-F40C-4D8A-A678-0CFE3E5D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EB8D-4133-4C12-9619-23B194F3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AA4A-D3B6-4647-8122-2C091C5D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5082-60CE-4BF3-8C18-7A26C434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D50E-640A-4C3C-8454-A5A687D5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F4DA4-AE3D-4054-B34C-8B3A89E8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163-A704-4A02-AF6C-0B503553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75135-7C5B-4DA3-BC93-FA5EA9B5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A249-CA76-4052-BCA5-376F2498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48B2-833D-432B-BEF2-011FEEE9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2080E-D8BA-4B94-A380-E55E437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AF332-92EA-48E5-BED1-E5A27ED4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43D0-F7E5-4238-9C23-1CB7C7FB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6D1C-8E80-4C9D-ADC5-5BD9B282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485F0-49EE-405F-A2D0-80691B3A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37C9E-D643-4600-B56F-45B197D1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47B1-9006-4FEE-999B-69555AC0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FF7-2861-4936-915C-AEA72A99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0969-1D4F-49CA-AD6D-1737B788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19C37-70BC-49C6-8BFD-E1D384FD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0A54A-BA8A-4193-A3A7-DBA501E3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64358-E868-4CAD-845C-26574F35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8B43-464A-434C-9BE3-C3A795AD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0EEF-8264-44AE-8322-43CF81F7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26B2C-1CE3-4FE9-95AB-320BA1ED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DE37-A260-4231-BDD7-E9C5AE5D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E62FC-4EE9-4CD7-8737-A47E0A56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63AD-21C1-462C-9326-567CEEA3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A99-2710-4C3A-B549-157D2692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E78A4-52DE-4FD5-9027-24DEF029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F13A6-4C04-42AE-8BA2-80B835C4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FE97A-3FBB-4000-8329-07076248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F7593-DFCC-4D19-9DC5-4B193F2D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24FB-14AE-4DC5-A17F-A3D73249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4FD0B-4792-4EF0-9C97-22CD6E82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2A24F-9E33-4D96-824F-A861043B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199B-A0B1-463B-8002-53AC4619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92610-5520-4156-BC91-4D608EFF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1BA97-7286-4805-AB4E-DBD4DF2B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D32-1679-4D0C-A336-A005F607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9DAC2-5785-4265-BA19-9B798089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82523-F540-4789-95BD-91AEE334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8BD20-0F4B-4807-BB64-71222F63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0726D-4AFE-4D80-9777-6779A60E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BDCD-496B-4263-9196-3F9B97BD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F2DFC-B0C6-4074-BCD8-39583C71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70025-9DEF-4F10-B291-8D1430F2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5BC87-8141-4216-AF49-D45BFAD9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ECA08-62A3-45CC-A64D-8F7C180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57C3D-4DA9-4AEB-8EEA-5117358D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604-D1A7-41EC-A05F-BC953A61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85B15-71DC-44B9-9E6A-219D1211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5ABE3-BF89-4881-B1DE-165F80A9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EA5CB-00ED-4D15-BC38-46E6F4D9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67BFD-029C-4A35-996D-B3F9CD73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34734-F42C-43DE-9B7C-4D1A06B0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99732-A532-4BE6-99E6-C76A0E67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346F9-1D7A-42B2-9B2E-57245569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D2A82-B013-4198-AEA5-ED6E2413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5EE06-58AD-4937-8AE9-64F22C1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DE2EC-57DF-4F0E-AA67-4424C8F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F72-CEEB-4DA8-9D65-D51E7F18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61C15-202C-4DA8-9AD7-0E87641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306E6-BCB2-42BC-A6F0-037D3305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001B6-4DFF-4188-A3CA-64D6DD8F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4FC48-D4FD-4815-BB0D-D7702B11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FA638-AB39-4400-875A-65ADA2B3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00395-CA2E-4E2E-A05F-4ACF721C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62BDB-1D42-4658-82EB-1D092B30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6C6B0-54C4-4E5F-8E02-7643DB83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651A3-582C-4175-BDC0-22B61C0F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BAA9D-C8A4-4225-A2C2-073A06C9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88A-4ADE-425C-BEB6-46667876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B7408-9A83-4224-8A05-FE34A68D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16C81-7777-4B15-B6A1-4A5C5855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D9816-BF32-4C2B-8E8C-B56A61B3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CCB10-193A-436E-8A16-04DC9EEF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16EC3-6D3A-40E0-84B9-8B105FE1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1C847-F123-41B6-BBC3-D7A2C7DD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E84CC-1AF8-41C4-97C5-373CF875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F219E-2454-4066-84CA-5E604562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72450-A076-444F-8DAA-7AA66116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B18F6-17E9-450D-8349-8C672D80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0C2F-8E1C-4307-BEF7-30891683B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48CA-CFF5-4223-8B74-CAFF63754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4E82-9244-4A33-BC12-649DD0407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91B6-6E18-49B0-BB19-15E2A579C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236A-911B-4EE7-980B-2860A65385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B04C-4DD0-4B7D-9D7C-5AA081A88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939B-AEFF-467D-BC7F-DA5E0A3E7C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9A1D-C0D0-43EE-B80A-92395BA4DB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2543-4EC7-408B-AD39-D5457639D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4C62-0938-472A-AE23-7215348D1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9640-68DF-4DD0-A9F3-928E644F6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4E72-DE36-489D-927D-867AE1080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FAAD-90D1-4346-97D1-37B7009DF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193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3399"/>
                </a:solidFill>
                <a:latin typeface="Wooden Ship Decorated"/>
              </a:rPr>
              <a:t>Сравнение.</a:t>
            </a:r>
            <a:br>
              <a:rPr sz="8800"/>
            </a:br>
            <a:r>
              <a:rPr b="0" lang="ru-RU" sz="8800" spc="-1" strike="noStrike">
                <a:solidFill>
                  <a:srgbClr val="333399"/>
                </a:solidFill>
                <a:latin typeface="Wooden Ship Decorated"/>
              </a:rPr>
              <a:t>Результат сравнен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"/>
          <p:cNvSpPr/>
          <p:nvPr/>
        </p:nvSpPr>
        <p:spPr>
          <a:xfrm>
            <a:off x="3814200" y="117324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ок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Прямоугольник 7" descr=""/>
          <p:cNvPicPr/>
          <p:nvPr/>
        </p:nvPicPr>
        <p:blipFill>
          <a:blip r:embed="rId2"/>
          <a:stretch/>
        </p:blipFill>
        <p:spPr>
          <a:xfrm>
            <a:off x="2835360" y="487440"/>
            <a:ext cx="486396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4" name="j021293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5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8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7-7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4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5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75341E-006 L -0.06285 0.27782 E">
                                      <p:cBhvr>
                                        <p:cTn id="175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780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j02129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5" name="Object 2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8" name="Picture 2" descr="C:\Users\админ\Desktop\ирина\1442370_e91d2f0137a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D:\Школьные файлы\ПАПКА  ДЛЯ  СКАЧИВАНИЯ\nezn.jpg"/>
          <p:cNvPicPr/>
          <p:nvPr/>
        </p:nvPicPr>
        <p:blipFill>
          <a:blip r:embed="rId4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дор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0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31552E-006 L -0.06285 0.28823 E">
                                      <p:cBhvr>
                                        <p:cTn id="200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4745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j02129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5" name="Object 2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8" name="Picture 2" descr="C:\Users\админ\Desktop\ирина\1442370_e91d2f0137a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D:\Школьные файлы\ПАПКА  ДЛЯ  СКАЧИВАНИЯ\nezn.jpg"/>
          <p:cNvPicPr/>
          <p:nvPr/>
        </p:nvPicPr>
        <p:blipFill>
          <a:blip r:embed="rId4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-7+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-9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5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1.09108E-006 L 0.38594 0.26213 E">
                                      <p:cBhvr>
                                        <p:cTn id="225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4745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j021295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5" name="Object 2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8" name="Picture 2" descr="C:\Users\админ\Desktop\ирина\1442370_e91d2f0137a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" descr="D:\Школьные файлы\ПАПКА  ДЛЯ  СКАЧИВАНИЯ\nezn.jpg"/>
          <p:cNvPicPr/>
          <p:nvPr/>
        </p:nvPicPr>
        <p:blipFill>
          <a:blip r:embed="rId4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8-8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9-9+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лич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1.09108E-006 L 0.38594 0.26213 E">
                                      <p:cBhvr>
                                        <p:cTn id="25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4745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5" name="j021295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6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9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61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+4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+8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Скругленный прямоугольник 13"/>
          <p:cNvSpPr/>
          <p:nvPr/>
        </p:nvSpPr>
        <p:spPr>
          <a:xfrm>
            <a:off x="3924360" y="765000"/>
            <a:ext cx="3384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5" dur="1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913E-006 L -0.06285 0.26718 E">
                                      <p:cBhvr>
                                        <p:cTn id="275" dur="1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780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j0212966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6" name="j02129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7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0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72" name="Выноска-облако 12"/>
          <p:cNvSpPr/>
          <p:nvPr/>
        </p:nvSpPr>
        <p:spPr>
          <a:xfrm>
            <a:off x="3492360" y="0"/>
            <a:ext cx="5651640" cy="249228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4"/>
          <p:cNvSpPr/>
          <p:nvPr/>
        </p:nvSpPr>
        <p:spPr>
          <a:xfrm>
            <a:off x="4284720" y="404640"/>
            <a:ext cx="42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пасибо за помощ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ам пора прощ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о скорых встреч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 0.075 -0.08255 0.125 -0.08255 C 0.175 -0.08255 0.22 -0.0506 0.25 0 C 0.22 0.0506 0.175 0.08255 0.125 0.08255 C 0.075 0.08255 0.03 0.0506 0 0 Z">
                                      <p:cBhvr>
                                        <p:cTn id="288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4745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по учебнику стр. 95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шаем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Объект 3" descr=""/>
          <p:cNvPicPr/>
          <p:nvPr/>
        </p:nvPicPr>
        <p:blipFill>
          <a:blip r:embed="rId1"/>
          <a:srcRect l="52910" t="35260" r="0" b="42345"/>
          <a:stretch/>
        </p:blipFill>
        <p:spPr>
          <a:xfrm>
            <a:off x="609480" y="1447920"/>
            <a:ext cx="8305920" cy="287172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ая соединительная линия 2"/>
          <p:cNvSpPr/>
          <p:nvPr/>
        </p:nvSpPr>
        <p:spPr>
          <a:xfrm flipV="1">
            <a:off x="5029200" y="2171520"/>
            <a:ext cx="3657600" cy="37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ая соединительная линия 6"/>
          <p:cNvSpPr/>
          <p:nvPr/>
        </p:nvSpPr>
        <p:spPr>
          <a:xfrm>
            <a:off x="1752480" y="2570040"/>
            <a:ext cx="83844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1771920" y="434988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пили – 12 б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1"/>
          <p:cNvSpPr/>
          <p:nvPr/>
        </p:nvSpPr>
        <p:spPr>
          <a:xfrm>
            <a:off x="1758960" y="475452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ли – 4 м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"/>
          <p:cNvSpPr/>
          <p:nvPr/>
        </p:nvSpPr>
        <p:spPr>
          <a:xfrm>
            <a:off x="1771200" y="513072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шли в цирк- ? д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3"/>
          <p:cNvSpPr/>
          <p:nvPr/>
        </p:nvSpPr>
        <p:spPr>
          <a:xfrm>
            <a:off x="5253480" y="47242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 – 4 = 8 (де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4"/>
          <p:cNvSpPr/>
          <p:nvPr/>
        </p:nvSpPr>
        <p:spPr>
          <a:xfrm>
            <a:off x="1786680" y="563868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8 детей пошли в цир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по учебнику стр. 95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шаем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Объект 3" descr=""/>
          <p:cNvPicPr/>
          <p:nvPr/>
        </p:nvPicPr>
        <p:blipFill>
          <a:blip r:embed="rId1"/>
          <a:srcRect l="53986" t="57663" r="1169" b="32537"/>
          <a:stretch/>
        </p:blipFill>
        <p:spPr>
          <a:xfrm>
            <a:off x="571680" y="1447920"/>
            <a:ext cx="8458200" cy="1342800"/>
          </a:xfrm>
          <a:prstGeom prst="rect">
            <a:avLst/>
          </a:prstGeom>
          <a:ln w="0">
            <a:noFill/>
          </a:ln>
        </p:spPr>
      </p:pic>
      <p:sp>
        <p:nvSpPr>
          <p:cNvPr id="685" name="Улыбающееся лицо 1"/>
          <p:cNvSpPr/>
          <p:nvPr/>
        </p:nvSpPr>
        <p:spPr>
          <a:xfrm>
            <a:off x="1365120" y="30780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Улыбающееся лицо 4"/>
          <p:cNvSpPr/>
          <p:nvPr/>
        </p:nvSpPr>
        <p:spPr>
          <a:xfrm>
            <a:off x="1947960" y="3084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Улыбающееся лицо 5"/>
          <p:cNvSpPr/>
          <p:nvPr/>
        </p:nvSpPr>
        <p:spPr>
          <a:xfrm>
            <a:off x="4343400" y="30733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Улыбающееся лицо 6"/>
          <p:cNvSpPr/>
          <p:nvPr/>
        </p:nvSpPr>
        <p:spPr>
          <a:xfrm>
            <a:off x="2560680" y="3084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Улыбающееся лицо 7"/>
          <p:cNvSpPr/>
          <p:nvPr/>
        </p:nvSpPr>
        <p:spPr>
          <a:xfrm>
            <a:off x="3124080" y="3084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Улыбающееся лицо 8"/>
          <p:cNvSpPr/>
          <p:nvPr/>
        </p:nvSpPr>
        <p:spPr>
          <a:xfrm>
            <a:off x="3733920" y="3084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Улыбающееся лицо 9"/>
          <p:cNvSpPr/>
          <p:nvPr/>
        </p:nvSpPr>
        <p:spPr>
          <a:xfrm>
            <a:off x="4967280" y="30718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Улыбающееся лицо 10"/>
          <p:cNvSpPr/>
          <p:nvPr/>
        </p:nvSpPr>
        <p:spPr>
          <a:xfrm>
            <a:off x="5638680" y="30718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Улыбающееся лицо 11"/>
          <p:cNvSpPr/>
          <p:nvPr/>
        </p:nvSpPr>
        <p:spPr>
          <a:xfrm>
            <a:off x="6248520" y="30718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Улыбающееся лицо 12"/>
          <p:cNvSpPr/>
          <p:nvPr/>
        </p:nvSpPr>
        <p:spPr>
          <a:xfrm>
            <a:off x="6851520" y="3084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2"/>
          <p:cNvSpPr/>
          <p:nvPr/>
        </p:nvSpPr>
        <p:spPr>
          <a:xfrm>
            <a:off x="838080" y="3895560"/>
            <a:ext cx="60984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14"/>
          <p:cNvSpPr/>
          <p:nvPr/>
        </p:nvSpPr>
        <p:spPr>
          <a:xfrm>
            <a:off x="1338120" y="4029120"/>
            <a:ext cx="60984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15"/>
          <p:cNvSpPr/>
          <p:nvPr/>
        </p:nvSpPr>
        <p:spPr>
          <a:xfrm>
            <a:off x="1814400" y="4226040"/>
            <a:ext cx="609840" cy="3045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оугольник 16"/>
          <p:cNvSpPr/>
          <p:nvPr/>
        </p:nvSpPr>
        <p:spPr>
          <a:xfrm>
            <a:off x="2255760" y="4073400"/>
            <a:ext cx="60984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17"/>
          <p:cNvSpPr/>
          <p:nvPr/>
        </p:nvSpPr>
        <p:spPr>
          <a:xfrm>
            <a:off x="2682720" y="3895560"/>
            <a:ext cx="60984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18"/>
          <p:cNvSpPr/>
          <p:nvPr/>
        </p:nvSpPr>
        <p:spPr>
          <a:xfrm>
            <a:off x="5638680" y="3876840"/>
            <a:ext cx="609840" cy="3045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19"/>
          <p:cNvSpPr/>
          <p:nvPr/>
        </p:nvSpPr>
        <p:spPr>
          <a:xfrm>
            <a:off x="6186600" y="4071960"/>
            <a:ext cx="60948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0"/>
          <p:cNvSpPr/>
          <p:nvPr/>
        </p:nvSpPr>
        <p:spPr>
          <a:xfrm>
            <a:off x="6699240" y="3921120"/>
            <a:ext cx="60948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21"/>
          <p:cNvSpPr/>
          <p:nvPr/>
        </p:nvSpPr>
        <p:spPr>
          <a:xfrm>
            <a:off x="7102440" y="3768840"/>
            <a:ext cx="609480" cy="3045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22"/>
          <p:cNvSpPr/>
          <p:nvPr/>
        </p:nvSpPr>
        <p:spPr>
          <a:xfrm>
            <a:off x="7543800" y="3581280"/>
            <a:ext cx="60948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3"/>
          <p:cNvSpPr/>
          <p:nvPr/>
        </p:nvSpPr>
        <p:spPr>
          <a:xfrm>
            <a:off x="3121200" y="43308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+ 4 = 10 (де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24"/>
          <p:cNvSpPr/>
          <p:nvPr/>
        </p:nvSpPr>
        <p:spPr>
          <a:xfrm>
            <a:off x="3142800" y="4816440"/>
            <a:ext cx="27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дет. = 10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25"/>
          <p:cNvSpPr/>
          <p:nvPr/>
        </p:nvSpPr>
        <p:spPr>
          <a:xfrm>
            <a:off x="830880" y="5265720"/>
            <a:ext cx="82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чтобы рассадить всех детей, стул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ва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по учебнику стр. 95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шаем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Объект 3" descr=""/>
          <p:cNvPicPr/>
          <p:nvPr/>
        </p:nvPicPr>
        <p:blipFill>
          <a:blip r:embed="rId1"/>
          <a:srcRect l="53639" t="67670" r="0" b="6337"/>
          <a:stretch/>
        </p:blipFill>
        <p:spPr>
          <a:xfrm>
            <a:off x="533520" y="1447920"/>
            <a:ext cx="8542080" cy="3483000"/>
          </a:xfrm>
          <a:prstGeom prst="rect">
            <a:avLst/>
          </a:prstGeom>
          <a:ln w="0">
            <a:noFill/>
          </a:ln>
        </p:spPr>
      </p:pic>
      <p:sp>
        <p:nvSpPr>
          <p:cNvPr id="710" name="TextBox 1"/>
          <p:cNvSpPr/>
          <p:nvPr/>
        </p:nvSpPr>
        <p:spPr>
          <a:xfrm>
            <a:off x="922680" y="485460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шка+шоко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4"/>
          <p:cNvSpPr/>
          <p:nvPr/>
        </p:nvSpPr>
        <p:spPr>
          <a:xfrm>
            <a:off x="925200" y="524196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шка+мя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5"/>
          <p:cNvSpPr/>
          <p:nvPr/>
        </p:nvSpPr>
        <p:spPr>
          <a:xfrm>
            <a:off x="6639840" y="48657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чик+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6"/>
          <p:cNvSpPr/>
          <p:nvPr/>
        </p:nvSpPr>
        <p:spPr>
          <a:xfrm>
            <a:off x="3818520" y="524196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околад+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7"/>
          <p:cNvSpPr/>
          <p:nvPr/>
        </p:nvSpPr>
        <p:spPr>
          <a:xfrm>
            <a:off x="3817080" y="485460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околад+мя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8"/>
          <p:cNvSpPr/>
          <p:nvPr/>
        </p:nvSpPr>
        <p:spPr>
          <a:xfrm>
            <a:off x="926280" y="56023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шка+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8" name="Picture 2" descr="C:\Users\админ\Desktop\ирина\1442370_e91d2f0137a4.jpg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1584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8"/>
          <p:cNvSpPr/>
          <p:nvPr/>
        </p:nvSpPr>
        <p:spPr>
          <a:xfrm>
            <a:off x="103320" y="15238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  <a:ea typeface="Arial"/>
              </a:rPr>
              <a:t>Незнайка учится счит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9"/>
          <p:cNvSpPr/>
          <p:nvPr/>
        </p:nvSpPr>
        <p:spPr>
          <a:xfrm>
            <a:off x="404640" y="25401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Игра-тренажер по матема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3" name="Picture 2" descr="C:\Users\админ\Desktop\ирина\1442370_e91d2f0137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D:\Школьные файлы\ПАПКА  ДЛЯ  СКАЧИВАНИЯ\nezn.jpg"/>
          <p:cNvPicPr/>
          <p:nvPr/>
        </p:nvPicPr>
        <p:blipFill>
          <a:blip r:embed="rId2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45" name="Выноска-облако 6"/>
          <p:cNvSpPr/>
          <p:nvPr/>
        </p:nvSpPr>
        <p:spPr>
          <a:xfrm>
            <a:off x="1476360" y="1484280"/>
            <a:ext cx="4175280" cy="1657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7"/>
          <p:cNvSpPr/>
          <p:nvPr/>
        </p:nvSpPr>
        <p:spPr>
          <a:xfrm>
            <a:off x="1908000" y="184464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рузья, помогите мне справиться с пример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8" name="молодец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9" name="j021288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0" name="Object 2" descr=""/>
          <p:cNvPicPr/>
          <p:nvPr/>
        </p:nvPicPr>
        <p:blipFill>
          <a:blip r:embed="rId4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3" name="Picture 2" descr="C:\Users\админ\Desktop\ирина\1442370_e91d2f0137a4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D:\Школьные файлы\ПАПКА  ДЛЯ  СКАЧИВАНИЯ\nezn.jpg"/>
          <p:cNvPicPr/>
          <p:nvPr/>
        </p:nvPicPr>
        <p:blipFill>
          <a:blip r:embed="rId6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2-2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2-2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молодец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95003E-006 L -0.05504 0.25145 E">
                                      <p:cBhvr>
                                        <p:cTn id="25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80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1" name="j021290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2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5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5-5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4-4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75341E-006 L -0.05503 0.25677 E">
                                      <p:cBhvr>
                                        <p:cTn id="38" dur="1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780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2" name="j021290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3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6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9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4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5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68978E-006 L 0.42518 0.28316 E">
                                      <p:cBhvr>
                                        <p:cTn id="75" dur="1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780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j02129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3" name="Object 2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6" name="Picture 2" descr="C:\Users\админ\Desktop\ирина\1442370_e91d2f0137a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D:\Школьные файлы\ПАПКА  ДЛЯ  СКАЧИВАНИЯ\nezn.jpg"/>
          <p:cNvPicPr/>
          <p:nvPr/>
        </p:nvPicPr>
        <p:blipFill>
          <a:blip r:embed="rId4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7-7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3-3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лич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31552E-006 L -0.06285 0.28823 E">
                                      <p:cBhvr>
                                        <p:cTn id="100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745" fill="hold"/>
                                        <p:tgtEl>
                                          <p:spTgt spid="5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j02129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2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6" name="Picture 2" descr="C:\Users\админ\Desktop\ирина\1442370_e91d2f0137a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D:\Школьные файлы\ПАПКА  ДЛЯ  СКАЧИВАНИЯ\nezn.jpg"/>
          <p:cNvPicPr/>
          <p:nvPr/>
        </p:nvPicPr>
        <p:blipFill>
          <a:blip r:embed="rId4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98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8-8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1-1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0.02637 L 0.38577 0.26209 E">
                                      <p:cBhvr>
                                        <p:cTn id="125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4745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3" name="j021292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4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7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9-9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9" dur="1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0" dur="1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6.68978E-006 L 0.40157 0.27253 E">
                                      <p:cBhvr>
                                        <p:cTn id="150" dur="1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780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уковкины</dc:creator>
  <dc:description/>
  <dc:language>en-US</dc:language>
  <cp:lastModifiedBy>саша</cp:lastModifiedBy>
  <dcterms:modified xsi:type="dcterms:W3CDTF">2020-04-07T07:43:14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