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29B-EBFD-400C-9A23-7127FA12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ACE-5660-4675-BC50-12A1C7A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4A7CD-907E-4435-967E-12B1AE8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BEF1F-6CB3-4FBC-85D7-1FA49DE7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E916C-E99A-48AA-B088-DDFB9C7F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53A7-1C3F-463D-990C-BE3D6F2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8628-494B-49B0-9F23-D4D0009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5EAA0-4A79-4E5A-BC0D-41B2CE3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8F497-D058-4615-8C46-0476D33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A498-FD30-4CD8-83F4-6464B8E5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1B11B-83A6-4D21-8D6C-9BA50182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1D85-094D-46DA-9186-6C5524F6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66B-84CF-48F7-8162-C4084EDA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EBE27-D46F-4547-B87A-6DE5A91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484E4-37B6-498F-A1BB-64DF74F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E385-F4E0-4AF3-9DE5-FAEB2F7D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49D06-EE08-4AE2-86C6-A011696D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550C3-2A95-4E6D-8E3A-F4C21A6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8DF9-3D85-4CEB-BA61-70C49E5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05E53-DF3B-4B02-BA28-7776B0F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928CA-3332-43E2-94B7-D0F2655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4A0D3-BCCE-490A-AE19-660B5196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F5592-F0E2-44F8-868B-042FB005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8FE-FC08-466E-8A41-688A4D92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87667-2ED1-4ED6-A3D8-EE2BCB43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193D0-8D31-4D3F-BE45-0C4F93C5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3E7D-6FDF-4956-B666-4670B7B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B7352-7CE4-46BD-A50A-5CA14AA7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DA9BB-747C-4EC5-9A41-0BC56AA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12AE-AFD3-4A48-A4DC-FB77C08C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BE4E3-593E-4CC4-874A-58CB956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AEE4-DDA1-47A7-BDE9-857394E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590EC-61A8-439D-9E1A-1388F0A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D428-061B-4975-BF7C-C72B9172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7893-5B3C-4893-9A48-180BBAF2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D95D-49F5-4B19-A22C-53E953B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3DB71-95D4-4BF2-BA1D-09BAA63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A8CF-80D1-477B-A115-1AC26C84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773DC-85FE-4E1F-9125-B1DE8B52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BEF3-93BF-4514-B190-77B3F40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338D7-533D-4B84-8695-B8494AC8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64C63-3809-467C-AF8E-28EB5F8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19248-13D4-4937-86AF-4372394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D2CB-6178-44BD-B3F6-B2D803F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3B768-800F-4379-B64F-6027F84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8F9-4E22-42B8-A21D-E3BFC4B0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9DA77-E155-4617-9BA1-9095273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8626-0007-44EC-B99E-70C7D1C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1CFBB-1973-41C2-87C6-E063E9F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527D-D60A-4D02-B2AE-CB2F0DD7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4B10B-25E6-45BD-A960-B98C5EB2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7F10B-8ABD-4F0B-A6C9-7DDD32E0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3D331-B51A-424D-9541-71D1BF3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7C1B6-812E-470C-907C-C3CE80D8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BD84-5CA1-4C20-9D30-7561393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87C33-5ABD-4519-83D1-A93790D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1D10-CABF-42A6-B48B-7B5E921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E32C5-E58E-42BD-8A56-EE46C24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1246E-713B-4D2A-9E68-AA379164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26AC7-5711-4499-98B6-B81EB9F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CA74A-8EA0-4608-9CC1-23FC0999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02029-D396-4D4C-8802-5A9499A6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2C7F1-1684-437C-AB68-F70D3529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25E2C-7D51-4D17-BB4B-B857D7EB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03B7-A1CC-4A89-812B-30FA6954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A1B-2E70-4FE8-B53B-F781162B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832D-9AE2-4494-8DC4-A4D24A2D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388-180A-4110-A01F-7E2B395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E4A-B55D-4D1B-A3BE-1763F5F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A8A0-D452-4DBB-8AB4-6893199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02B7-41E7-41EA-A5CB-5A34342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B9F1-569C-4A23-B13D-69D95BE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D11E-4730-433D-A07F-57CE37EB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1153-D1EB-4913-859E-20C82B0E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81CD-6A93-400A-B2A7-FB23FFAA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BBF2-80C0-4C00-B3D7-7930003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A62A-4437-49E6-8AAB-CBF18BA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9869-D60D-4BCD-826B-064D7A7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87DE-70EB-4ED1-8B46-A99647C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69B-50DE-4D77-9FF9-65B5D685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3F49-5142-4B78-8B0B-20B4AE7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E468-844E-4476-BA86-2FA3CDE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2C0C-526F-4DE1-A762-1576308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AB44-73F9-41E2-ACA4-6DE1B95D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B6C1-4B6C-4803-914A-6BFE4683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9568-F3D2-4A0B-A7C0-7B79C25F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4C9C-918A-4BD7-9B32-1B6C2F2D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52AB-0662-4473-BDF2-DE76FA2C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6888-407D-4472-B9D0-18F5D78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609A-3633-473C-9E43-F945470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CE3-AE96-4F99-82EB-C6D76C9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FA0C-F1BA-4A92-AC83-FF765DE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B756-D46C-413E-94BC-568632F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6244-BF6B-43DA-8007-47BFC5E9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2645-9654-4097-88F5-2E494601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6505-F5B7-47D8-AD76-F302FB3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07A1-51DD-40B8-A111-D6156CE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4A11-C5EC-4412-B21C-6829551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42EE-8F3F-4B50-A4C6-18781DA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E0A3-1AB5-4E96-8A83-04FAF6A7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EC5C-B516-4457-BCCA-D5CE6295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5FD-50E8-49B8-B08E-DEE671E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5732-EC82-4706-B5F7-2500242F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7762-5049-4B3D-92F1-DED39F9A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F6F5A-7990-4AE7-BCD7-DBB9767D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13DD-2CA9-45DD-BA38-FDEE4A8C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FCBC-A640-40BD-9B63-D2B6E244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CF10-E5E8-4B53-BE6A-9ABAFAE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49D9-716B-4764-8946-08C90D9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A54E-DF64-45FE-BF4B-7C37C9A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5174-D776-4A5F-9C34-1D476F2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B24E-3D4B-4CEF-9B36-2A86A671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47D-87E0-4BA7-ACCB-256A3C5D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DE88-5DA7-44C0-9633-9D04C1AA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BAAD-C2CB-487C-A71C-D4B89FBA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304C-8F65-46E1-8F1A-B227E231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A52AA-FE58-4E3C-9844-4E0B3A76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D07C-8E7C-41EB-805A-F60C7A18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DD08-29E1-402F-B3C3-051BEEE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6D1A-9001-4A52-A87E-4C76FDC3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0D2F-2C5B-426E-AD77-14B0FB4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E2C3-0528-4521-9481-6D0ABDC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3A3D3-60E4-4649-9737-E27F2FD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81D-2080-4BDD-85E9-8BA95E0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032C-4473-4E48-A67E-5E0D7C1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FBF9-3D3D-406A-9F0F-4425E500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9BA4-514A-4D4F-ADC8-B3DD991D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AB3E-E331-49C6-89BB-49B87733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5288-B251-412A-9C54-D5FA8B2C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70A2-4365-4C13-B46A-8A8B92A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309F-0CCD-40E4-B86A-91290AD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A08E-6556-4FC1-93E4-D6FE0708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2EB4-E644-4624-A78D-121F2339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740D-F477-4FB0-84AC-392D82F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43C-CB5D-485B-A057-43694BA9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73E32-CF69-4DF1-B96D-410C2E8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BF20-8AA2-4838-A7AA-1890768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C805E-4AD3-46DE-B547-7D1859B6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D8E63-A772-41A0-B14E-C4E4E2CF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9920-3408-47CD-88DF-3012EA55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4416D-9B6B-44F0-9E8E-F3C2B869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B05EF-595C-4066-A771-A5B78A8C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50AA-8613-434E-94E9-DB4FA4EB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3D63-21D3-48B0-9A11-7E344557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FE38E-6C44-4FF2-B58D-A376DEDE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1C2-EB8F-422B-91CB-EF742C7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6F9B-41AC-4D9F-B81D-D9BB6C9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E4D1-3D07-4780-8EAA-95B438C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09B6-2B5F-46FE-8772-8BB3FDF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7874-1012-4FD4-AD13-A92A61B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879E2-4813-404A-BE6E-4EB77B38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FC3D9-4CCC-41AA-8CE6-A4DAEBEE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D67C-8044-4FA8-9A25-880AB63F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ED584-A384-4DAE-979A-B09AA11B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2185-FDD1-4F1D-92BF-ADDD9AD3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2683-DA17-4971-930A-222B459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9BF-6721-4AB8-A7B4-EE570B96F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E2E-E7BA-4D53-869D-F7E5EE020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B126-6A68-4010-9B19-E5354DB80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7DD3-72A9-40DB-930C-D6407DD46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87B7-8DCD-4F1D-A71D-E8403D7ED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EA99-2787-4CE6-8D9E-6A1A793BD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D5B-A02E-4989-B2B6-35E9A5E8B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9A4-9583-431B-A2E9-AB2641C0C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8F1-0CC1-4C6A-852E-3154DB47E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279-6B05-499B-B402-70C6CB66E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B1D2-C693-42DA-BC76-4B0255A06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F07-A110-4103-82FE-19D4F005E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BB9D-5E1D-49A4-9F53-BEE8A7E6A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193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3399"/>
                </a:solidFill>
                <a:latin typeface="Wooden Ship Decorated"/>
              </a:rPr>
              <a:t>Сравнение.</a:t>
            </a:r>
            <a:br>
              <a:rPr sz="8800"/>
            </a:br>
            <a:r>
              <a:rPr b="0" lang="ru-RU" sz="8800" spc="-1" strike="noStrike">
                <a:solidFill>
                  <a:srgbClr val="333399"/>
                </a:solidFill>
                <a:latin typeface="Wooden Ship Decorated"/>
              </a:rPr>
              <a:t>Результат сравнен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"/>
          <p:cNvSpPr/>
          <p:nvPr/>
        </p:nvSpPr>
        <p:spPr>
          <a:xfrm>
            <a:off x="3814200" y="117324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Прямоугольник 7" descr=""/>
          <p:cNvPicPr/>
          <p:nvPr/>
        </p:nvPicPr>
        <p:blipFill>
          <a:blip r:embed="rId2"/>
          <a:stretch/>
        </p:blipFill>
        <p:spPr>
          <a:xfrm>
            <a:off x="2835360" y="487440"/>
            <a:ext cx="48639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j021293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5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8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7-7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5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5341E-006 L -0.06285 0.27782 E">
                                      <p:cBhvr>
                                        <p:cTn id="175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780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j02129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дор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552E-006 L -0.06285 0.28823 E">
                                      <p:cBhvr>
                                        <p:cTn id="200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4745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j02129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7+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9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09108E-006 L 0.38594 0.26213 E">
                                      <p:cBhvr>
                                        <p:cTn id="225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745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j021295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5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8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8-8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9-9+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лич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09108E-006 L 0.38594 0.26213 E">
                                      <p:cBhvr>
                                        <p:cTn id="25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4745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5" name="j021295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6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9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61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+4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+8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Скругленный прямоугольник 13"/>
          <p:cNvSpPr/>
          <p:nvPr/>
        </p:nvSpPr>
        <p:spPr>
          <a:xfrm>
            <a:off x="3924360" y="765000"/>
            <a:ext cx="3384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913E-006 L -0.06285 0.26718 E">
                                      <p:cBhvr>
                                        <p:cTn id="275" dur="1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780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j021296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6" name="j021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0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72" name="Выноска-облако 12"/>
          <p:cNvSpPr/>
          <p:nvPr/>
        </p:nvSpPr>
        <p:spPr>
          <a:xfrm>
            <a:off x="3492360" y="0"/>
            <a:ext cx="5651640" cy="24922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4284720" y="40464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асибо за помощ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ам пора прощ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о скор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88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4745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Объект 3" descr=""/>
          <p:cNvPicPr/>
          <p:nvPr/>
        </p:nvPicPr>
        <p:blipFill>
          <a:blip r:embed="rId1"/>
          <a:srcRect l="52910" t="35260" r="0" b="42345"/>
          <a:stretch/>
        </p:blipFill>
        <p:spPr>
          <a:xfrm>
            <a:off x="609480" y="1447920"/>
            <a:ext cx="8305920" cy="287172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ая соединительная линия 2"/>
          <p:cNvSpPr/>
          <p:nvPr/>
        </p:nvSpPr>
        <p:spPr>
          <a:xfrm flipV="1">
            <a:off x="5029200" y="2171520"/>
            <a:ext cx="3657600" cy="37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6"/>
          <p:cNvSpPr/>
          <p:nvPr/>
        </p:nvSpPr>
        <p:spPr>
          <a:xfrm>
            <a:off x="1752480" y="2570040"/>
            <a:ext cx="8384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1771920" y="434988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или – 12 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1758960" y="475452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ли – 4 м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1771200" y="51307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ли в цирк- ? 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5253480" y="4724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– 4 = 8 (де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4"/>
          <p:cNvSpPr/>
          <p:nvPr/>
        </p:nvSpPr>
        <p:spPr>
          <a:xfrm>
            <a:off x="1786680" y="563868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8 детей пошли в цир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Объект 3" descr=""/>
          <p:cNvPicPr/>
          <p:nvPr/>
        </p:nvPicPr>
        <p:blipFill>
          <a:blip r:embed="rId1"/>
          <a:srcRect l="53986" t="57663" r="1169" b="32537"/>
          <a:stretch/>
        </p:blipFill>
        <p:spPr>
          <a:xfrm>
            <a:off x="571680" y="1447920"/>
            <a:ext cx="8458200" cy="1342800"/>
          </a:xfrm>
          <a:prstGeom prst="rect">
            <a:avLst/>
          </a:prstGeom>
          <a:ln w="0">
            <a:noFill/>
          </a:ln>
        </p:spPr>
      </p:pic>
      <p:sp>
        <p:nvSpPr>
          <p:cNvPr id="685" name="Улыбающееся лицо 1"/>
          <p:cNvSpPr/>
          <p:nvPr/>
        </p:nvSpPr>
        <p:spPr>
          <a:xfrm>
            <a:off x="1365120" y="30780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Улыбающееся лицо 4"/>
          <p:cNvSpPr/>
          <p:nvPr/>
        </p:nvSpPr>
        <p:spPr>
          <a:xfrm>
            <a:off x="194796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Улыбающееся лицо 5"/>
          <p:cNvSpPr/>
          <p:nvPr/>
        </p:nvSpPr>
        <p:spPr>
          <a:xfrm>
            <a:off x="4343400" y="30733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Улыбающееся лицо 6"/>
          <p:cNvSpPr/>
          <p:nvPr/>
        </p:nvSpPr>
        <p:spPr>
          <a:xfrm>
            <a:off x="256068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Улыбающееся лицо 7"/>
          <p:cNvSpPr/>
          <p:nvPr/>
        </p:nvSpPr>
        <p:spPr>
          <a:xfrm>
            <a:off x="312408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Улыбающееся лицо 8"/>
          <p:cNvSpPr/>
          <p:nvPr/>
        </p:nvSpPr>
        <p:spPr>
          <a:xfrm>
            <a:off x="373392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Улыбающееся лицо 9"/>
          <p:cNvSpPr/>
          <p:nvPr/>
        </p:nvSpPr>
        <p:spPr>
          <a:xfrm>
            <a:off x="496728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Улыбающееся лицо 10"/>
          <p:cNvSpPr/>
          <p:nvPr/>
        </p:nvSpPr>
        <p:spPr>
          <a:xfrm>
            <a:off x="563868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Улыбающееся лицо 11"/>
          <p:cNvSpPr/>
          <p:nvPr/>
        </p:nvSpPr>
        <p:spPr>
          <a:xfrm>
            <a:off x="6248520" y="30718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Улыбающееся лицо 12"/>
          <p:cNvSpPr/>
          <p:nvPr/>
        </p:nvSpPr>
        <p:spPr>
          <a:xfrm>
            <a:off x="6851520" y="3084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2"/>
          <p:cNvSpPr/>
          <p:nvPr/>
        </p:nvSpPr>
        <p:spPr>
          <a:xfrm>
            <a:off x="838080" y="389556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4"/>
          <p:cNvSpPr/>
          <p:nvPr/>
        </p:nvSpPr>
        <p:spPr>
          <a:xfrm>
            <a:off x="1338120" y="402912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15"/>
          <p:cNvSpPr/>
          <p:nvPr/>
        </p:nvSpPr>
        <p:spPr>
          <a:xfrm>
            <a:off x="1814400" y="4226040"/>
            <a:ext cx="60984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16"/>
          <p:cNvSpPr/>
          <p:nvPr/>
        </p:nvSpPr>
        <p:spPr>
          <a:xfrm>
            <a:off x="2255760" y="407340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17"/>
          <p:cNvSpPr/>
          <p:nvPr/>
        </p:nvSpPr>
        <p:spPr>
          <a:xfrm>
            <a:off x="2682720" y="3895560"/>
            <a:ext cx="60984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8"/>
          <p:cNvSpPr/>
          <p:nvPr/>
        </p:nvSpPr>
        <p:spPr>
          <a:xfrm>
            <a:off x="5638680" y="3876840"/>
            <a:ext cx="60984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9"/>
          <p:cNvSpPr/>
          <p:nvPr/>
        </p:nvSpPr>
        <p:spPr>
          <a:xfrm>
            <a:off x="6186600" y="407196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0"/>
          <p:cNvSpPr/>
          <p:nvPr/>
        </p:nvSpPr>
        <p:spPr>
          <a:xfrm>
            <a:off x="6699240" y="392112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"/>
          <p:cNvSpPr/>
          <p:nvPr/>
        </p:nvSpPr>
        <p:spPr>
          <a:xfrm>
            <a:off x="7102440" y="3768840"/>
            <a:ext cx="609480" cy="3045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22"/>
          <p:cNvSpPr/>
          <p:nvPr/>
        </p:nvSpPr>
        <p:spPr>
          <a:xfrm>
            <a:off x="7543800" y="3581280"/>
            <a:ext cx="60948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3"/>
          <p:cNvSpPr/>
          <p:nvPr/>
        </p:nvSpPr>
        <p:spPr>
          <a:xfrm>
            <a:off x="3121200" y="43308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+ 4 = 10 (де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4"/>
          <p:cNvSpPr/>
          <p:nvPr/>
        </p:nvSpPr>
        <p:spPr>
          <a:xfrm>
            <a:off x="3142800" y="481644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дет. = 10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5"/>
          <p:cNvSpPr/>
          <p:nvPr/>
        </p:nvSpPr>
        <p:spPr>
          <a:xfrm>
            <a:off x="830880" y="526572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чтобы рассадить всех детей, стул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а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учебнику стр. 9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шаем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Объект 3" descr=""/>
          <p:cNvPicPr/>
          <p:nvPr/>
        </p:nvPicPr>
        <p:blipFill>
          <a:blip r:embed="rId1"/>
          <a:srcRect l="53639" t="67670" r="0" b="6337"/>
          <a:stretch/>
        </p:blipFill>
        <p:spPr>
          <a:xfrm>
            <a:off x="533520" y="1447920"/>
            <a:ext cx="8542080" cy="3483000"/>
          </a:xfrm>
          <a:prstGeom prst="rect">
            <a:avLst/>
          </a:prstGeom>
          <a:ln w="0">
            <a:noFill/>
          </a:ln>
        </p:spPr>
      </p:pic>
      <p:sp>
        <p:nvSpPr>
          <p:cNvPr id="710" name="TextBox 1"/>
          <p:cNvSpPr/>
          <p:nvPr/>
        </p:nvSpPr>
        <p:spPr>
          <a:xfrm>
            <a:off x="922680" y="48546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925200" y="52419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мя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5"/>
          <p:cNvSpPr/>
          <p:nvPr/>
        </p:nvSpPr>
        <p:spPr>
          <a:xfrm>
            <a:off x="6639840" y="48657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ик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6"/>
          <p:cNvSpPr/>
          <p:nvPr/>
        </p:nvSpPr>
        <p:spPr>
          <a:xfrm>
            <a:off x="3818520" y="524196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околад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7"/>
          <p:cNvSpPr/>
          <p:nvPr/>
        </p:nvSpPr>
        <p:spPr>
          <a:xfrm>
            <a:off x="3817080" y="4854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околад+мя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8"/>
          <p:cNvSpPr/>
          <p:nvPr/>
        </p:nvSpPr>
        <p:spPr>
          <a:xfrm>
            <a:off x="926280" y="56023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шка+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8" name="Picture 2" descr="C:\Users\админ\Desktop\ирина\1442370_e91d2f0137a4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158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8"/>
          <p:cNvSpPr/>
          <p:nvPr/>
        </p:nvSpPr>
        <p:spPr>
          <a:xfrm>
            <a:off x="103320" y="1523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Незнайка учится счит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9"/>
          <p:cNvSpPr/>
          <p:nvPr/>
        </p:nvSpPr>
        <p:spPr>
          <a:xfrm>
            <a:off x="404640" y="25401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Игра-тренажер п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3" name="Picture 2" descr="C:\Users\админ\Desktop\ирина\1442370_e91d2f0137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D:\Школьные файлы\ПАПКА  ДЛЯ  СКАЧИВАНИЯ\nezn.jpg"/>
          <p:cNvPicPr/>
          <p:nvPr/>
        </p:nvPicPr>
        <p:blipFill>
          <a:blip r:embed="rId2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45" name="Выноска-облако 6"/>
          <p:cNvSpPr/>
          <p:nvPr/>
        </p:nvSpPr>
        <p:spPr>
          <a:xfrm>
            <a:off x="1476360" y="1484280"/>
            <a:ext cx="4175280" cy="1657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1908000" y="184464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рузья, помогите мне справиться с пример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8" name="молодец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9" name="j021288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2" descr=""/>
          <p:cNvPicPr/>
          <p:nvPr/>
        </p:nvPicPr>
        <p:blipFill>
          <a:blip r:embed="rId4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3" name="Picture 2" descr="C:\Users\админ\Desktop\ирина\1442370_e91d2f0137a4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D:\Школьные файлы\ПАПКА  ДЛЯ  СКАЧИВАНИЯ\nezn.jpg"/>
          <p:cNvPicPr/>
          <p:nvPr/>
        </p:nvPicPr>
        <p:blipFill>
          <a:blip r:embed="rId6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2-2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2-2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молодец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95003E-006 L -0.05504 0.25145 E">
                                      <p:cBhvr>
                                        <p:cTn id="25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80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1" name="j021290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5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-5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4-4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5341E-006 L -0.05503 0.25677 E">
                                      <p:cBhvr>
                                        <p:cTn id="38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j021290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6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68978E-006 L 0.42518 0.28316 E">
                                      <p:cBhvr>
                                        <p:cTn id="75" dur="1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8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j02129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6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7-7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3-3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лич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552E-006 L -0.06285 0.28823 E">
                                      <p:cBhvr>
                                        <p:cTn id="10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45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j02129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2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6" name="Picture 2" descr="C:\Users\админ\Desktop\ирина\1442370_e91d2f0137a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D:\Школьные файлы\ПАПКА  ДЛЯ  СКАЧИВАНИЯ\nezn.jpg"/>
          <p:cNvPicPr/>
          <p:nvPr/>
        </p:nvPicPr>
        <p:blipFill>
          <a:blip r:embed="rId4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8-8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1-1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0.02637 L 0.38577 0.26209 E">
                                      <p:cBhvr>
                                        <p:cTn id="125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745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молодец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3" name="j02129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4" name="Object 2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1218960" cy="68724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2" descr="C:\Users\админ\Desktop\ирина\1442370_e91d2f0137a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D:\Школьные файлы\ПАПКА  ДЛЯ  СКАЧИВАНИЯ\nezn.jpg"/>
          <p:cNvPicPr/>
          <p:nvPr/>
        </p:nvPicPr>
        <p:blipFill>
          <a:blip r:embed="rId5"/>
          <a:stretch/>
        </p:blipFill>
        <p:spPr>
          <a:xfrm>
            <a:off x="250920" y="263700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8"/>
          <p:cNvSpPr/>
          <p:nvPr/>
        </p:nvSpPr>
        <p:spPr>
          <a:xfrm>
            <a:off x="5580000" y="6093000"/>
            <a:ext cx="259236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9-9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9"/>
          <p:cNvSpPr/>
          <p:nvPr/>
        </p:nvSpPr>
        <p:spPr>
          <a:xfrm>
            <a:off x="1116000" y="6093000"/>
            <a:ext cx="255600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1"/>
          <p:cNvSpPr/>
          <p:nvPr/>
        </p:nvSpPr>
        <p:spPr>
          <a:xfrm>
            <a:off x="2556000" y="3860640"/>
            <a:ext cx="1152360" cy="10810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ый прямоугольник 13"/>
          <p:cNvSpPr/>
          <p:nvPr/>
        </p:nvSpPr>
        <p:spPr>
          <a:xfrm>
            <a:off x="3924360" y="76500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" dur="1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6.68978E-006 L 0.40157 0.27253 E">
                                      <p:cBhvr>
                                        <p:cTn id="150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780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уковкины</dc:creator>
  <dc:description/>
  <dc:language>en-US</dc:language>
  <cp:lastModifiedBy>саша</cp:lastModifiedBy>
  <dcterms:modified xsi:type="dcterms:W3CDTF">2020-04-07T07:43:14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