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0;&#1083;&#1072;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3;&#1072;&#1082;&#1083;&#1086;&#1085;&#1085;&#1072;&#1103;_&#1087;&#1083;&#1086;&#1089;&#1082;&#1086;&#1089;&#1090;&#1100;" TargetMode="External"/><Relationship Id="rId2" Type="http://schemas.openxmlformats.org/officeDocument/2006/relationships/hyperlink" Target="https://ru.wikipedia.org/wiki/&#1062;&#1080;&#1083;&#1080;&#1085;&#1076;&#1088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5;&#1072;&#1085;&#1080;&#1079;&#1084;" TargetMode="External"/><Relationship Id="rId2" Type="http://schemas.openxmlformats.org/officeDocument/2006/relationships/hyperlink" Target="https://ru.wikipedia.org/wiki/&#1043;&#1077;&#1085;&#1077;&#1090;&#1080;&#1095;&#1077;&#1089;&#1082;&#1072;&#1103;_&#1080;&#1085;&#1078;&#1077;&#1085;&#1077;&#1088;&#1080;&#1103;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89;&#1084;&#1086;&#1089;" TargetMode="External"/><Relationship Id="rId2" Type="http://schemas.openxmlformats.org/officeDocument/2006/relationships/hyperlink" Target="https://ru.wikipedia.org/wiki/&#1047;&#1077;&#1084;&#1083;&#1103;_(&#1087;&#1083;&#1072;&#1085;&#1077;&#1090;&#1072;)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1;&#1086;&#1077;&#1074;&#1099;&#1077;_&#1076;&#1077;&#1081;&#1089;&#1090;&#1074;&#1080;&#1103;" TargetMode="External"/><Relationship Id="rId2" Type="http://schemas.openxmlformats.org/officeDocument/2006/relationships/hyperlink" Target="https://ru.wikipedia.org/wiki/&#1042;&#1086;&#1081;&#1089;&#1082;&#1072;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8;&#1085;&#1092;&#1086;&#1088;&#1084;&#1072;&#1094;&#1080;&#1103;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4;&#1103;&#1079;&#1100;_(&#1090;&#1077;&#1093;&#1085;&#1080;&#1082;&#1072;)" TargetMode="External"/><Relationship Id="rId2" Type="http://schemas.openxmlformats.org/officeDocument/2006/relationships/hyperlink" Target="https://ru.wikipedia.org/wiki/&#1055;&#1077;&#1088;&#1077;&#1076;&#1072;&#1095;&#1072;_&#1080;&#1085;&#1092;&#1086;&#1088;&#1084;&#1072;&#1094;&#1080;&#1080;" TargetMode="External"/><Relationship Id="rId3" Type="http://schemas.openxmlformats.org/officeDocument/2006/relationships/hyperlink" Target="https://ru.wikipedia.org/wiki/&#1069;&#1083;&#1077;&#1082;&#1090;&#1088;&#1086;&#1084;&#1072;&#1075;&#1085;&#1077;&#1090;&#1080;&#1079;&#1084;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3;&#1072;&#1091;&#1082;&#1072;" TargetMode="External"/><Relationship Id="rId2" Type="http://schemas.openxmlformats.org/officeDocument/2006/relationships/hyperlink" Target="https://ru.wikipedia.org/wiki/&#1058;&#1077;&#1093;&#1085;&#1080;&#1082;&#1072;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9;&#1083;&#1077;&#1082;&#1090;&#1088;&#1080;&#1095;&#1077;&#1089;&#1082;&#1080;&#1081;_&#1079;&#1072;&#1088;&#1103;&#1076;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9;&#1083;&#1077;&#1082;&#1090;&#1088;&#1086;&#1084;&#1072;&#1075;&#1085;&#1080;&#1090;&#1085;&#1086;&#1077;_&#1074;&#1079;&#1072;&#1080;&#1084;&#1086;&#1076;&#1077;&#1081;&#1089;&#1090;&#1074;&#1080;&#1077;" TargetMode="External"/><Relationship Id="rId2" Type="http://schemas.openxmlformats.org/officeDocument/2006/relationships/hyperlink" Target="https://ru.wikipedia.org/wiki/&#1069;&#1083;&#1077;&#1082;&#1090;&#1088;&#1086;&#1084;&#1072;&#1075;&#1085;&#1080;&#1090;&#1085;&#1086;&#1077;_&#1087;&#1086;&#1083;&#1077;" TargetMode="External"/><Relationship Id="rId3" Type="http://schemas.openxmlformats.org/officeDocument/2006/relationships/hyperlink" Target="https://ru.wikipedia.org/w/index.php?title=&#1069;&#1083;&#1077;&#1082;&#1090;&#1088;&#1086;&#1085;&#1085;&#1099;&#1081;_&#1087;&#1088;&#1080;&#1073;&#1086;&#1088;&amp;action=edit&amp;redlink=1" TargetMode="External"/><Relationship Id="rId4" Type="http://schemas.openxmlformats.org/officeDocument/2006/relationships/hyperlink" Target="https://ru.wikipedia.org/wiki/&#1069;&#1085;&#1077;&#1088;&#1075;&#1080;&#1103;_&#1101;&#1083;&#1077;&#1082;&#1090;&#1088;&#1086;&#1084;&#1072;&#1075;&#1085;&#1080;&#1090;&#1085;&#1086;&#1075;&#1086;_&#1087;&#1086;&#1083;&#1103;" TargetMode="External"/><Relationship Id="rId5" Type="http://schemas.openxmlformats.org/officeDocument/2006/relationships/hyperlink" Target="https://ru.wikipedia.org/wiki/&#1048;&#1085;&#1092;&#1086;&#1088;&#1084;&#1072;&#1094;&#1080;&#1103;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86;&#1090;&#1086;&#1088;_(&#1090;&#1077;&#1093;&#1085;&#1080;&#1082;&#1072;)" TargetMode="External"/><Relationship Id="rId2" Type="http://schemas.openxmlformats.org/officeDocument/2006/relationships/hyperlink" Target="https://ru.wikipedia.org/wiki/&#1050;&#1080;&#1085;&#1077;&#1090;&#1080;&#1095;&#1077;&#1089;&#1082;&#1072;&#1103;_&#1101;&#1085;&#1077;&#1088;&#1075;&#1080;&#1103;" TargetMode="External"/><Relationship Id="rId3" Type="http://schemas.openxmlformats.org/officeDocument/2006/relationships/hyperlink" Target="https://ru.wikipedia.org/wiki/&#1042;&#1085;&#1091;&#1090;&#1088;&#1077;&#1085;&#1085;&#1103;&#1103;_&#1101;&#1085;&#1077;&#1088;&#1075;&#1080;&#1103;" TargetMode="External"/><Relationship Id="rId4" Type="http://schemas.openxmlformats.org/officeDocument/2006/relationships/hyperlink" Target="https://ru.wikipedia.org/wiki/&#1055;&#1072;&#1088;" TargetMode="External"/><Relationship Id="rId5" Type="http://schemas.openxmlformats.org/officeDocument/2006/relationships/hyperlink" Target="https://ru.wikipedia.org/wiki/&#1043;&#1072;&#1079;" TargetMode="External"/><Relationship Id="rId6" Type="http://schemas.openxmlformats.org/officeDocument/2006/relationships/hyperlink" Target="https://ru.wikipedia.org/wiki/&#1042;&#1086;&#1076;&#1072;" TargetMode="External"/><Relationship Id="rId7" Type="http://schemas.openxmlformats.org/officeDocument/2006/relationships/hyperlink" Target="https://ru.wikipedia.org/wiki/&#1052;&#1077;&#1093;&#1072;&#1085;&#1080;&#1095;&#1077;&#1089;&#1082;&#1072;&#1103;_&#1088;&#1072;&#1073;&#1086;&#1090;&#1072;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7;&#1083;&#1086;&#1074;&#1072;&#1103;_&#1101;&#1085;&#1077;&#1088;&#1075;&#1080;&#1103;" TargetMode="External"/><Relationship Id="rId2" Type="http://schemas.openxmlformats.org/officeDocument/2006/relationships/hyperlink" Target="https://ru.wikipedia.org/wiki/&#1055;&#1086;&#1088;&#1096;&#1077;&#1085;&#1100;" TargetMode="External"/><Relationship Id="rId3" Type="http://schemas.openxmlformats.org/officeDocument/2006/relationships/hyperlink" Target="https://ru.wikipedia.org/wiki/&#1062;&#1080;&#1083;&#1080;&#1085;&#1076;&#1088;_(&#1076;&#1074;&#1080;&#1075;&#1072;&#1090;&#1077;&#1083;&#1100;)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7680" y="1999800"/>
            <a:ext cx="7667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Предмет «ТЕХНОЛОГИЯ«.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22560" y="5357880"/>
            <a:ext cx="6121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pic>
        <p:nvPicPr>
          <p:cNvPr id="94" name="Picture 26" descr="D:\Documents and Settings\Admin\Рабочий стол\2382638.jpg"/>
          <p:cNvPicPr/>
          <p:nvPr/>
        </p:nvPicPr>
        <p:blipFill>
          <a:blip r:embed="rId1"/>
          <a:stretch/>
        </p:blipFill>
        <p:spPr>
          <a:xfrm>
            <a:off x="0" y="0"/>
            <a:ext cx="2887560" cy="25718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1427040" y="1768320"/>
            <a:ext cx="4364280" cy="39672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6" descr=""/>
          <p:cNvPicPr/>
          <p:nvPr/>
        </p:nvPicPr>
        <p:blipFill>
          <a:blip r:embed="rId3"/>
          <a:stretch/>
        </p:blipFill>
        <p:spPr>
          <a:xfrm>
            <a:off x="4005360" y="4035600"/>
            <a:ext cx="249228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Блок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008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Простой механизм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позволяющий регулировать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силу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ось которого закреплена при подъеме грузов, не поднимается и не опускается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5" name="Picture 2" descr="D:\Documents and Settings\Admin\Мои документы\Downloads\157520.jpeg"/>
          <p:cNvPicPr/>
          <p:nvPr/>
        </p:nvPicPr>
        <p:blipFill>
          <a:blip r:embed="rId2"/>
          <a:stretch/>
        </p:blipFill>
        <p:spPr>
          <a:xfrm>
            <a:off x="571680" y="1071720"/>
            <a:ext cx="435744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инт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Простейший механизм.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Резьба винта, в сущности, представляет собой другой простейший механизм —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наклонную плоскость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многократно обёрнутую вокруг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цилиндра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. 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8" name="Picture 2" descr="D:\Documents and Settings\Admin\Мои документы\Downloads\vint_m4h16_gost_17475.jpg"/>
          <p:cNvPicPr/>
          <p:nvPr/>
        </p:nvPicPr>
        <p:blipFill>
          <a:blip r:embed="rId3"/>
          <a:stretch/>
        </p:blipFill>
        <p:spPr>
          <a:xfrm>
            <a:off x="4572000" y="142884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Биотехнология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28720" y="928440"/>
            <a:ext cx="47149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Дисциплина, изучающая возможности использования живых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организмов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, их систем или продуктов их жизнедеятельности для решения технологических задач, а также возможности создания живых организмов с необходимыми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войствами методом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генной инженери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31" name="Picture 2" descr="D:\Documents and Settings\Admin\Мои документы\Downloads\0-1321215695_lab-girl.jpg"/>
          <p:cNvPicPr/>
          <p:nvPr/>
        </p:nvPicPr>
        <p:blipFill>
          <a:blip r:embed="rId3"/>
          <a:stretch/>
        </p:blipFill>
        <p:spPr>
          <a:xfrm>
            <a:off x="500040" y="1841400"/>
            <a:ext cx="3643200" cy="365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смические технологии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2920" y="160020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Космическая техника связана с запуском объектов или живых существ в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космос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спуском на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Землю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или с непосредственной работой в космосе. 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34" name="Picture 2" descr="D:\Documents and Settings\Admin\Мои документы\Downloads\images.jpg"/>
          <p:cNvPicPr/>
          <p:nvPr/>
        </p:nvPicPr>
        <p:blipFill>
          <a:blip r:embed="rId3"/>
          <a:stretch/>
        </p:blipFill>
        <p:spPr>
          <a:xfrm>
            <a:off x="4643280" y="1928880"/>
            <a:ext cx="3524400" cy="3524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оенные технологии.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28760" y="1356840"/>
            <a:ext cx="40006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Технологии, предназначенные для ведения и обеспечения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боевых действий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, обучения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войск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 (сил) и обеспечения заданного уровня готовности техники к использованию по назначению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37" name="Picture 3" descr="D:\Documents and Settings\Admin\Мои документы\Downloads\imgpreview.jpg"/>
          <p:cNvPicPr/>
          <p:nvPr/>
        </p:nvPicPr>
        <p:blipFill>
          <a:blip r:embed="rId3"/>
          <a:stretch/>
        </p:blipFill>
        <p:spPr>
          <a:xfrm>
            <a:off x="142920" y="1214280"/>
            <a:ext cx="3357360" cy="257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D:\Documents and Settings\Admin\Мои документы\Downloads\imgpreview (1).jpg"/>
          <p:cNvPicPr/>
          <p:nvPr/>
        </p:nvPicPr>
        <p:blipFill>
          <a:blip r:embed="rId4"/>
          <a:stretch/>
        </p:blipFill>
        <p:spPr>
          <a:xfrm>
            <a:off x="1500120" y="3714840"/>
            <a:ext cx="371484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Информационные технологии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2560" y="1600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Широкий класс дисциплин и областей деятельности, относящихся к </a:t>
            </a:r>
            <a:r>
              <a:rPr b="1" lang="ru-RU" sz="3200" spc="-1" strike="noStrike">
                <a:solidFill>
                  <a:srgbClr val="244e93"/>
                </a:solidFill>
                <a:latin typeface="Arial Narrow"/>
              </a:rPr>
              <a:t>технологиям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 управления, накопления, обработки и передачи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информаци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1" name="Picture 2" descr="D:\Documents and Settings\Admin\Мои документы\Downloads\1757.jpeg"/>
          <p:cNvPicPr/>
          <p:nvPr/>
        </p:nvPicPr>
        <p:blipFill>
          <a:blip r:embed="rId2"/>
          <a:stretch/>
        </p:blipFill>
        <p:spPr>
          <a:xfrm>
            <a:off x="4929120" y="142884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Телекоммуникационные технологии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2912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Разновидность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связ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способ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передачи информаци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 с помощью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электромагнитных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 сигналов, например, по проводам, волоконно-оптическому кабелю или по радио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4" name="Picture 2" descr="D:\Documents and Settings\Admin\Мои документы\Downloads\noveishie-telekommunikatsionnye-tehnologii-kollazh-0004233363-preview.jpg"/>
          <p:cNvPicPr/>
          <p:nvPr/>
        </p:nvPicPr>
        <p:blipFill>
          <a:blip r:embed="rId4"/>
          <a:stretch/>
        </p:blipFill>
        <p:spPr>
          <a:xfrm>
            <a:off x="357120" y="1500120"/>
            <a:ext cx="4680000" cy="428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Нанотехнология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071720"/>
            <a:ext cx="428616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Междисциплинарная область фундаментальной и прикладной науки и </a:t>
            </a:r>
            <a:r>
              <a:rPr b="0" lang="ru-RU" sz="2400" spc="-1" strike="noStrike" u="sng">
                <a:solidFill>
                  <a:srgbClr val="244e93"/>
                </a:solidFill>
                <a:uFillTx/>
                <a:latin typeface="Arial Narrow"/>
              </a:rPr>
              <a:t>техники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, а также методов производства и применения продуктов с заданной атомной структурой путём контролируемого манипулирования отдельными атомами и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 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молекулами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7" name="Picture 2" descr="D:\Documents and Settings\Admin\Мои документы\Downloads\Srg-iii-pov-animation2.gif"/>
          <p:cNvPicPr/>
          <p:nvPr/>
        </p:nvPicPr>
        <p:blipFill>
          <a:blip r:embed="rId1"/>
          <a:stretch/>
        </p:blipFill>
        <p:spPr>
          <a:xfrm>
            <a:off x="4572000" y="1143000"/>
            <a:ext cx="3929040" cy="32353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4429080" y="4643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предполагаемого редуктора, построенногоиз атомов и молекул. Слипнутся ли шарики, нужна ли водная среда как в живом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 Narrow"/>
              </a:rPr>
              <a:t>Классификация технологий.</a:t>
            </a:r>
            <a:endParaRPr b="0" lang="en-US" sz="9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24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еталлургия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1600200"/>
            <a:ext cx="378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бласть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наук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 и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техник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охватывающая процессы получения металлов из руд или других материалов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0" name="Picture 2" descr="D:\Documents and Settings\Admin\Мои документы\Downloads\006.jpg"/>
          <p:cNvPicPr/>
          <p:nvPr/>
        </p:nvPicPr>
        <p:blipFill>
          <a:blip r:embed="rId3"/>
          <a:stretch/>
        </p:blipFill>
        <p:spPr>
          <a:xfrm>
            <a:off x="285840" y="4143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Documents and Settings\Admin\Мои документы\Downloads\img778365_21_Domennaya_pech_21_vek.jpg"/>
          <p:cNvPicPr/>
          <p:nvPr/>
        </p:nvPicPr>
        <p:blipFill>
          <a:blip r:embed="rId4"/>
          <a:stretch/>
        </p:blipFill>
        <p:spPr>
          <a:xfrm>
            <a:off x="4786200" y="3500280"/>
            <a:ext cx="4143600" cy="306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Documents and Settings\Admin\Мои документы\Downloads\0009-019-CHernaja-metallurgija.jpg"/>
          <p:cNvPicPr/>
          <p:nvPr/>
        </p:nvPicPr>
        <p:blipFill>
          <a:blip r:embed="rId5"/>
          <a:stretch/>
        </p:blipFill>
        <p:spPr>
          <a:xfrm>
            <a:off x="4714920" y="1071720"/>
            <a:ext cx="42148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ашиностроительные технологии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14560" y="16002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Разработка процессов конструирования и производства различных машин и приборов. К ним относятся технические расчёты, выбор материалов и технологии производства, а также проектирование машиностроительных заводов и организация производства на них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5" name="Picture 2" descr="D:\Documents and Settings\Admin\Мои документы\Downloads\1340899465_21.jpg"/>
          <p:cNvPicPr/>
          <p:nvPr/>
        </p:nvPicPr>
        <p:blipFill>
          <a:blip r:embed="rId1"/>
          <a:stretch/>
        </p:blipFill>
        <p:spPr>
          <a:xfrm>
            <a:off x="357120" y="1857240"/>
            <a:ext cx="4560840" cy="3038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Электричество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600200"/>
            <a:ext cx="39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овокупность явлений, обусловленных существованием, взаимодействием и движением </a:t>
            </a:r>
            <a:r>
              <a:rPr b="0" lang="ru-RU" sz="3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электрических зарядов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8" name="Picture 2" descr="D:\Documents and Settings\Admin\Мои документы\Downloads\1301510268_elektrosila.jpg"/>
          <p:cNvPicPr/>
          <p:nvPr/>
        </p:nvPicPr>
        <p:blipFill>
          <a:blip r:embed="rId2"/>
          <a:stretch/>
        </p:blipFill>
        <p:spPr>
          <a:xfrm>
            <a:off x="4929120" y="1285920"/>
            <a:ext cx="3853080" cy="290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D:\Documents and Settings\Admin\Мои документы\Downloads\elektricheskiy_tok.jpg"/>
          <p:cNvPicPr/>
          <p:nvPr/>
        </p:nvPicPr>
        <p:blipFill>
          <a:blip r:embed="rId3"/>
          <a:stretch/>
        </p:blipFill>
        <p:spPr>
          <a:xfrm>
            <a:off x="4857840" y="4214880"/>
            <a:ext cx="3929040" cy="2822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Электроника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3280" y="16002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</a:rPr>
              <a:t>Наука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 о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взаимодействии электронов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 с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электромагнитными полями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 и методах создания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электронных приборов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 и устройств для преобразования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электромагнитной энергии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, в основном для приёма, передачи, обработки и хранения 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5"/>
              </a:rPr>
              <a:t>информаци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2" name="Picture 2" descr="D:\Documents and Settings\Admin\Мои документы\Downloads\2084a304a6fa0126cdb588b936ff560a.jpg"/>
          <p:cNvPicPr/>
          <p:nvPr/>
        </p:nvPicPr>
        <p:blipFill>
          <a:blip r:embed="rId6"/>
          <a:stretch/>
        </p:blipFill>
        <p:spPr>
          <a:xfrm>
            <a:off x="357120" y="1071720"/>
            <a:ext cx="4533840" cy="3071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Documents and Settings\Admin\Мои документы\Downloads\vystavka-ifa-berlin-11.jpg"/>
          <p:cNvPicPr/>
          <p:nvPr/>
        </p:nvPicPr>
        <p:blipFill>
          <a:blip r:embed="rId7"/>
          <a:stretch/>
        </p:blipFill>
        <p:spPr>
          <a:xfrm>
            <a:off x="357120" y="407196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Турбина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00200"/>
            <a:ext cx="414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Ротационный двигатель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 с непрерывным рабочим процессом и вращательным движением рабочего органа (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ротора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), преобразующий 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кинетическую энергию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 и/или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внутреннюю энергию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 рабочего тела (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пара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, 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5"/>
              </a:rPr>
              <a:t>газа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, 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6"/>
              </a:rPr>
              <a:t>воды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) в 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 Narrow"/>
                <a:hlinkClick r:id="rId7"/>
              </a:rPr>
              <a:t>механическую работу</a:t>
            </a: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. 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6" name="Picture 2" descr="D:\Documents and Settings\Admin\Мои документы\Downloads\389.jpg"/>
          <p:cNvPicPr/>
          <p:nvPr/>
        </p:nvPicPr>
        <p:blipFill>
          <a:blip r:embed="rId8"/>
          <a:stretch/>
        </p:blipFill>
        <p:spPr>
          <a:xfrm>
            <a:off x="4214880" y="1643040"/>
            <a:ext cx="478620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ршневой двигатель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760" y="1071720"/>
            <a:ext cx="40003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Narrow"/>
              </a:rPr>
              <a:t>Двигатель внутреннего сгорания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, в котором 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тепловая энергия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 расширяющихся газов, образовавшаяся в результате сгорания топлива в замкнутом объёме, преобразуется в механическую работу поступательного движения 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поршня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 за счёт расширения рабочего тела (газообразных продуктов сгорания топлива) в 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цилиндре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, в который вставлен поршень. 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9" name="Picture 2" descr="D:\Documents and Settings\Admin\Мои документы\Downloads\08.jpg"/>
          <p:cNvPicPr/>
          <p:nvPr/>
        </p:nvPicPr>
        <p:blipFill>
          <a:blip r:embed="rId4"/>
          <a:stretch/>
        </p:blipFill>
        <p:spPr>
          <a:xfrm>
            <a:off x="357120" y="1357200"/>
            <a:ext cx="491976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Рычаг.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292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Простой механизм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, представляющий собой твёрдое тело (перекладину), вращающееся вокруг точки опоры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2" name="Picture 2" descr="D:\Documents and Settings\Admin\Мои документы\Downloads\623519.jpg"/>
          <p:cNvPicPr/>
          <p:nvPr/>
        </p:nvPicPr>
        <p:blipFill>
          <a:blip r:embed="rId1"/>
          <a:stretch/>
        </p:blipFill>
        <p:spPr>
          <a:xfrm rot="2613600">
            <a:off x="4605480" y="1722600"/>
            <a:ext cx="3990960" cy="3184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школа</cp:lastModifiedBy>
  <dcterms:modified xsi:type="dcterms:W3CDTF">2020-04-07T15:26:04Z</dcterms:modified>
  <cp:revision>72</cp:revision>
  <dc:subject/>
  <dc:title>шаблон для презентаций</dc:title>
</cp:coreProperties>
</file>