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918-7B20-423F-B7C7-D62FCE1C1D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C1B8-C716-47BD-A1C0-BCF7EB83D7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665-A7D1-4C73-83E8-FE4B247E3A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DEE-94C6-49B1-ACD5-1DF7AA3A92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A7D-679B-4187-B9FA-91BC9837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B36-CF69-410F-916E-D228176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819-9385-4450-BC37-D38F0562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E38-654C-4CBA-8330-A551EA58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FD2-6AB0-4F7F-A40F-326B9EF9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F88-0ADD-4FE8-916B-1C6D5616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A14-C58B-4677-87EC-02E2B53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251-FED5-4D00-B795-B220F0FF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C12-6B98-4D3F-A8EA-95CEED89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22A-5672-4E73-8FD4-1BE871F7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10E-FB54-401C-A878-8C6D495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EC1-B636-452E-BAD0-48BEF81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17DC-2BA2-4D81-A682-7BAE64DA5BC3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3.bp.blogspot.com/-EhjfB3q5fTs/UJuk0Y9uDKI/AAAAAAABOSs/OaB3_fDAPEA/s320/Doug+Knutson_+Cat+on+a+Quilt.jpg"/>
          <p:cNvPicPr/>
          <p:nvPr/>
        </p:nvPicPr>
        <p:blipFill>
          <a:blip r:embed="rId1"/>
          <a:stretch/>
        </p:blipFill>
        <p:spPr>
          <a:xfrm>
            <a:off x="2987640" y="2373480"/>
            <a:ext cx="3276720" cy="364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-171360"/>
            <a:ext cx="6516720" cy="25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 Black"/>
              </a:rPr>
              <a:t>Технология лоскутного шить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100" spc="-1" strike="noStrike">
                <a:solidFill>
                  <a:srgbClr val="0000ff"/>
                </a:solidFill>
                <a:latin typeface="Calibri"/>
              </a:rPr>
              <a:t>     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332320" y="5357880"/>
            <a:ext cx="38116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0" descr="http://ic.pics.livejournal.com/anne_d_autriche/12365869/804307/804307_600.jpg"/>
          <p:cNvPicPr/>
          <p:nvPr/>
        </p:nvPicPr>
        <p:blipFill>
          <a:blip r:embed="rId1"/>
          <a:stretch/>
        </p:blipFill>
        <p:spPr>
          <a:xfrm>
            <a:off x="7093080" y="2421000"/>
            <a:ext cx="1869840" cy="20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https://im2-tub-ru.yandex.net/i?id=0f9156d17f130b699f73938b919fd56e&amp;n=33&amp;h=215&amp;w=215"/>
          <p:cNvPicPr/>
          <p:nvPr/>
        </p:nvPicPr>
        <p:blipFill>
          <a:blip r:embed="rId2"/>
          <a:stretch/>
        </p:blipFill>
        <p:spPr>
          <a:xfrm>
            <a:off x="6875640" y="18900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https://im1-tub-ru.yandex.net/i?id=0ad52929782f4f1452e50db35c27eec0&amp;n=33&amp;h=215&amp;w=250"/>
          <p:cNvPicPr/>
          <p:nvPr/>
        </p:nvPicPr>
        <p:blipFill>
          <a:blip r:embed="rId3"/>
          <a:stretch/>
        </p:blipFill>
        <p:spPr>
          <a:xfrm>
            <a:off x="395280" y="1052640"/>
            <a:ext cx="1357200" cy="1166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http://g03.a.alicdn.com/kf/HTB1GMcxHVXXXXX.XXXXq6xXFXXXB/free-Shipping-60piece-lot-MIX-Color-Cotton-font-b-Quilting-b-font-font-b-Fabric-b.jpg"/>
          <p:cNvPicPr/>
          <p:nvPr/>
        </p:nvPicPr>
        <p:blipFill>
          <a:blip r:embed="rId4"/>
          <a:stretch/>
        </p:blipFill>
        <p:spPr>
          <a:xfrm>
            <a:off x="1986120" y="222120"/>
            <a:ext cx="1860480" cy="186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https://prv3.lori-images.net/nabor-dlya-loskutnogo-shitya-0002353743-preview.jpg"/>
          <p:cNvPicPr/>
          <p:nvPr/>
        </p:nvPicPr>
        <p:blipFill>
          <a:blip r:embed="rId5"/>
          <a:stretch/>
        </p:blipFill>
        <p:spPr>
          <a:xfrm>
            <a:off x="4597560" y="365040"/>
            <a:ext cx="2119320" cy="1695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69680" y="2015640"/>
            <a:ext cx="3429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Материалы</a:t>
            </a:r>
            <a:r>
              <a:rPr b="0" lang="ru-RU" sz="33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324000" y="2852640"/>
            <a:ext cx="70196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сновы лучше использовать плотную хлопчатобумажную ткань, например, бортовку или мешков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традиционных лоскутных работ выполнено из набивных тка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щим рекомендуется использовать 100% хлопчатобумажную ткань средней плотности. С ней легко работать и она не так быстро изнашивается, как неплотная ткань. В дальнейшем можно использовать различные по текстуре ткани, сочетая из между собой и создавая тем самым потрясающие изделия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Лоскутное шитье – удовольствие и красота.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Содержимое 6" descr="imagesCALMPGDG.jpg"/>
          <p:cNvPicPr/>
          <p:nvPr/>
        </p:nvPicPr>
        <p:blipFill>
          <a:blip r:embed="rId1"/>
          <a:stretch/>
        </p:blipFill>
        <p:spPr>
          <a:xfrm>
            <a:off x="3322800" y="3078000"/>
            <a:ext cx="2498400" cy="37134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mtdata.ru/u23/photo7C96/20237928472-0/original.jpg"/>
          <p:cNvPicPr/>
          <p:nvPr/>
        </p:nvPicPr>
        <p:blipFill>
          <a:blip r:embed="rId2"/>
          <a:stretch/>
        </p:blipFill>
        <p:spPr>
          <a:xfrm>
            <a:off x="2700360" y="51544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mediasubs.ru/group/uploads/kl/klub-dlya-lyudej-u-kotoryih-doma-zhivut-koshki/image/1408964676-61583-4487.jpg"/>
          <p:cNvPicPr/>
          <p:nvPr/>
        </p:nvPicPr>
        <p:blipFill>
          <a:blip r:embed="rId3"/>
          <a:stretch/>
        </p:blipFill>
        <p:spPr>
          <a:xfrm>
            <a:off x="177840" y="123660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http://img1.liveinternet.ru/images/attach/c/2/73/321/73321133_69377b71g9e933fd4d344690.jpg"/>
          <p:cNvPicPr/>
          <p:nvPr/>
        </p:nvPicPr>
        <p:blipFill>
          <a:blip r:embed="rId4"/>
          <a:stretch/>
        </p:blipFill>
        <p:spPr>
          <a:xfrm>
            <a:off x="6299280" y="1312920"/>
            <a:ext cx="2233440" cy="17096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s44.radikal.ru/i106/1202/f4/6fc4e5c61464.jpg"/>
          <p:cNvPicPr/>
          <p:nvPr/>
        </p:nvPicPr>
        <p:blipFill>
          <a:blip r:embed="rId5"/>
          <a:stretch/>
        </p:blipFill>
        <p:spPr>
          <a:xfrm>
            <a:off x="3144960" y="1360440"/>
            <a:ext cx="2808000" cy="186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2"/>
          <p:cNvPicPr/>
          <p:nvPr/>
        </p:nvPicPr>
        <p:blipFill>
          <a:blip r:embed="rId6"/>
          <a:stretch/>
        </p:blipFill>
        <p:spPr>
          <a:xfrm>
            <a:off x="6532560" y="3271680"/>
            <a:ext cx="1765440" cy="1741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interior-life.ru/wp-content/uploads/2016/04/59246939_1274297033_1766.jpg"/>
          <p:cNvPicPr/>
          <p:nvPr/>
        </p:nvPicPr>
        <p:blipFill>
          <a:blip r:embed="rId7"/>
          <a:stretch/>
        </p:blipFill>
        <p:spPr>
          <a:xfrm>
            <a:off x="324000" y="34290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03280" y="620640"/>
            <a:ext cx="65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к работают профессионалы в технике лоскутного шить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Группа 5"/>
          <p:cNvGrpSpPr/>
          <p:nvPr/>
        </p:nvGrpSpPr>
        <p:grpSpPr>
          <a:xfrm>
            <a:off x="1619280" y="1916280"/>
            <a:ext cx="5832360" cy="3960720"/>
            <a:chOff x="1619280" y="1916280"/>
            <a:chExt cx="5832360" cy="3960720"/>
          </a:xfrm>
        </p:grpSpPr>
        <p:pic>
          <p:nvPicPr>
            <p:cNvPr id="96" name="Picture 6" descr="http://quiltstudio.ru/wp-content/uploads/2008/05/575ca82ef765.jpg"/>
            <p:cNvPicPr/>
            <p:nvPr/>
          </p:nvPicPr>
          <p:blipFill>
            <a:blip r:embed="rId1"/>
            <a:stretch/>
          </p:blipFill>
          <p:spPr>
            <a:xfrm>
              <a:off x="3799800" y="2170080"/>
              <a:ext cx="3651840" cy="274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a00244fbc584"/>
            <p:cNvPicPr/>
            <p:nvPr/>
          </p:nvPicPr>
          <p:blipFill>
            <a:blip r:embed="rId2"/>
            <a:stretch/>
          </p:blipFill>
          <p:spPr>
            <a:xfrm>
              <a:off x="1669320" y="4250880"/>
              <a:ext cx="2434320" cy="16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http://patch-island.s3.amazonaws.com/site/production/172f9a3e-2576-11df-94c4-1231390a31a3/old/article_259_pic6.jpg"/>
            <p:cNvPicPr/>
            <p:nvPr/>
          </p:nvPicPr>
          <p:blipFill>
            <a:blip r:embed="rId3"/>
            <a:stretch/>
          </p:blipFill>
          <p:spPr>
            <a:xfrm>
              <a:off x="1619280" y="1916280"/>
              <a:ext cx="2282040" cy="22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6e6c180a5cec9533c6de9b8f4133a76a"/>
          <p:cNvPicPr/>
          <p:nvPr/>
        </p:nvPicPr>
        <p:blipFill>
          <a:blip r:embed="rId1"/>
          <a:stretch/>
        </p:blipFill>
        <p:spPr>
          <a:xfrm>
            <a:off x="3378240" y="1557360"/>
            <a:ext cx="3114720" cy="3024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3" name="Rectangle 9"/>
          <p:cNvSpPr/>
          <p:nvPr/>
        </p:nvSpPr>
        <p:spPr>
          <a:xfrm>
            <a:off x="2486520" y="48888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еяло «Солнечные часы», Англия 17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979640" y="5565600"/>
            <a:ext cx="6192720" cy="64260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эчворк, от 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англ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patchwork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— «одеяло, покрывало, изделие из разноцветных лоскутов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ИСТОРИЯ ЛОСКУТНОГО ШИТЬ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476360" y="18900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лоскутного шит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067280" y="1484280"/>
            <a:ext cx="43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стране упоминания о данной технике встречаются с XIX века с поступлением в продажу заморского дорогостоящего ситца. Своего расцвета это искусство достигло в конце XIX в., что связано началом развития производства ситца машинным способом на мануфактурах и повсеместным распространением недорогих тканей из хлопка с набивным рисунком. Таким образом, в нашей стране вся история лоскутного шитья кратко сводится к появлению промышленного производства в текстильной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Картинка 8 из 25"/>
          <p:cNvPicPr/>
          <p:nvPr/>
        </p:nvPicPr>
        <p:blipFill>
          <a:blip r:embed="rId1"/>
          <a:stretch/>
        </p:blipFill>
        <p:spPr>
          <a:xfrm>
            <a:off x="900000" y="1773360"/>
            <a:ext cx="29703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0360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азные названия одного      </a:t>
            </a:r>
            <a:br>
              <a:rPr sz="3300"/>
            </a:b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                       творчества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00000" y="2174760"/>
            <a:ext cx="7786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Пэчворк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- в переводе с английского «лоскутная работа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Квилт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 - стёганое одеяло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Текстильный колла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ж -   в переводе с французского – наклеивани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Текстильная мозаика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–орнамент, выполненный из отдельных пригнанных друг к другу лоскутков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Impact"/>
              </a:rPr>
              <a:t>Техника «Квадрат»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из самых старинных лоскутных техник построена на работе с кусочками ткани наипростейшей геометрической формы – квадра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шахматка"/>
          <p:cNvPicPr/>
          <p:nvPr/>
        </p:nvPicPr>
        <p:blipFill>
          <a:blip r:embed="rId1"/>
          <a:stretch/>
        </p:blipFill>
        <p:spPr>
          <a:xfrm>
            <a:off x="304920" y="4095720"/>
            <a:ext cx="2054160" cy="444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en.llanes.com/sites/default/files/patchwork4.jpg"/>
          <p:cNvPicPr/>
          <p:nvPr/>
        </p:nvPicPr>
        <p:blipFill>
          <a:blip r:embed="rId2"/>
          <a:stretch/>
        </p:blipFill>
        <p:spPr>
          <a:xfrm>
            <a:off x="3708360" y="3684600"/>
            <a:ext cx="49690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Impact"/>
              </a:rPr>
              <a:t>Техника «Треугольники»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Picture 2" descr="http://thingdreams.ru/wp-content/uploads/1112-e1448113089399.jpg"/>
          <p:cNvPicPr/>
          <p:nvPr/>
        </p:nvPicPr>
        <p:blipFill>
          <a:blip r:embed="rId1"/>
          <a:stretch/>
        </p:blipFill>
        <p:spPr>
          <a:xfrm>
            <a:off x="5415120" y="1909800"/>
            <a:ext cx="2568240" cy="3424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480960" y="19162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иболее часто используют лоскутки в форме прямоугольных треугольников. Разрезают по диагонали, разворачивают и утюж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Impact"/>
              </a:rPr>
              <a:t>Техника «Треугольники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15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«русский квадрат», «звезда Огайо», «мельница», «карточный фокус», «роза» или сумасшедший квилт, Предполагают, что особенно увлекались этой техникой русские рукодельницы. Порой в скромной деревенской избе единственным украшением было цветное одеяло сшитое из множества треугольнико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2" descr="i?id=176318268-54-72&amp;n=21"/>
          <p:cNvPicPr/>
          <p:nvPr/>
        </p:nvPicPr>
        <p:blipFill>
          <a:blip r:embed="rId1"/>
          <a:stretch/>
        </p:blipFill>
        <p:spPr>
          <a:xfrm>
            <a:off x="5724360" y="3392640"/>
            <a:ext cx="2486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70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Impact"/>
              </a:rPr>
              <a:t>ТЕХНИКА ШИТЬЯ ИЗ ПОЛОС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119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лодец», «ананас», «сруб»,«лестница правосудия», «шеврон», «бревенчатая изба», «паркет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американский квадрат», «лабиринт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елие состоит из лоскутков-полос различных ткан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у технику на английский лад называют квилтин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image"/>
          <p:cNvPicPr/>
          <p:nvPr/>
        </p:nvPicPr>
        <p:blipFill>
          <a:blip r:embed="rId1"/>
          <a:srcRect l="0" t="0" r="33717" b="0"/>
          <a:stretch/>
        </p:blipFill>
        <p:spPr>
          <a:xfrm>
            <a:off x="3708360" y="4437000"/>
            <a:ext cx="3598920" cy="20001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Impact"/>
              </a:rPr>
              <a:t>Техника «Уголки»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Picture 6" descr="http://www.paraskeva.ru/images/b3/image093.jpg"/>
          <p:cNvPicPr/>
          <p:nvPr/>
        </p:nvPicPr>
        <p:blipFill>
          <a:blip r:embed="rId1"/>
          <a:stretch/>
        </p:blipFill>
        <p:spPr>
          <a:xfrm>
            <a:off x="1116000" y="1916280"/>
            <a:ext cx="3137040" cy="324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im3-tub-ru.yandex.net/i?id=cd8de847ef57331ca50f28eaeb7dc87b&amp;n=33&amp;h=215&amp;w=226"/>
          <p:cNvPicPr/>
          <p:nvPr/>
        </p:nvPicPr>
        <p:blipFill>
          <a:blip r:embed="rId2"/>
          <a:stretch/>
        </p:blipFill>
        <p:spPr>
          <a:xfrm>
            <a:off x="5292720" y="1916280"/>
            <a:ext cx="34052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41:36Z</dcterms:created>
  <dc:creator>Татьяна</dc:creator>
  <dc:description/>
  <dc:language>en-US</dc:language>
  <cp:lastModifiedBy>OBZ</cp:lastModifiedBy>
  <dcterms:modified xsi:type="dcterms:W3CDTF">2020-04-07T14:48:32Z</dcterms:modified>
  <cp:revision>137</cp:revision>
  <dc:subject/>
  <dc:title>Слайд 1</dc:title>
</cp:coreProperties>
</file>