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154-BEA6-48BA-9624-B3535F10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EB9-5750-43A6-AAF8-D51F3BB5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9C4-1EDC-430A-82D8-9F2D3F4C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2E2-6185-4F4B-A5BA-D2C1D47D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977B-F474-4551-951B-7D93BABC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BCEC-7822-4CE0-939A-93088AE1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BDE3-48D5-461C-A08C-8D710F0D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70F7-A998-48ED-8C6E-50EED707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FFD2-B447-4A2E-A9F5-8449D54F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CD47-9F74-42B2-B60A-AEF612C6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7BE1-A452-4218-970D-F12A2679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A04-D8BD-458C-825C-A6D6445D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B004-0AFF-4488-95D5-AD89719A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7B26-5E49-4AC0-9C33-A7A58C0E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E15C-F849-43BC-849B-1CE3867D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4CC6-AE17-4625-ABB1-320CBC2E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879D-A34B-4015-9817-497399C9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58F-F873-4CA1-BF29-A62F7337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687-DED2-4598-A62E-CF9FBBCE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34B-1336-4CA3-B6A7-D0B2A265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00E-4C4F-428F-A308-0D770BAA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0CC-DEB6-4CC0-A3D7-0CEECB93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EC2-EAEA-40EA-9BC8-313B1CD1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9A4-F92B-4061-919D-FA13D2C4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768C-235A-4167-B697-A214CDE450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7828-B46C-4FBB-B34F-65683E80F73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А. Общая характеристика подгруппы углерод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группа углерода - главная подгруппа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V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группы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оторую составляют </a:t>
            </a: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углерод-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кремний –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Si</a:t>
            </a: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, германий –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Ge</a:t>
            </a: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,  олово -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Sn </a:t>
            </a: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и свинец-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Pb</a:t>
            </a: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3708360" y="2637000"/>
            <a:ext cx="1771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глерод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5" descr="углерод2"/>
          <p:cNvPicPr/>
          <p:nvPr/>
        </p:nvPicPr>
        <p:blipFill>
          <a:blip r:embed="rId1"/>
          <a:stretch/>
        </p:blipFill>
        <p:spPr>
          <a:xfrm>
            <a:off x="6084720" y="907920"/>
            <a:ext cx="21592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лмаз «Орлов» - подарок императриц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Алмаз в Российском скипетре - "Орлов" - поменьше - 189,62 карата, но история его теряется в веках. Когда-то этот камень, найденный в индийских копях Голконды, сверкал в глазнице статуи Брахмы в храме. Его украл французский солдат (это было уже в XVIII веке) и продал капитану английского судна. В Лондоне алмаз был продан в шесть раз дороже. Князь Орлов купил его уже в Амстердаме в 1773 году и подарил Екатерине II. Императрица украсила им скипетр, который сейчас хранится в Алмазном фонде в Москв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4" descr="Алмаз Орлов"/>
          <p:cNvPicPr/>
          <p:nvPr/>
        </p:nvPicPr>
        <p:blipFill>
          <a:blip r:embed="rId1"/>
          <a:stretch/>
        </p:blipFill>
        <p:spPr>
          <a:xfrm>
            <a:off x="4067280" y="4724280"/>
            <a:ext cx="216036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Екатерина II"/>
          <p:cNvPicPr/>
          <p:nvPr/>
        </p:nvPicPr>
        <p:blipFill>
          <a:blip r:embed="rId2"/>
          <a:stretch/>
        </p:blipFill>
        <p:spPr>
          <a:xfrm>
            <a:off x="7093080" y="3860640"/>
            <a:ext cx="1511280" cy="180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Г"/>
          <p:cNvPicPr/>
          <p:nvPr/>
        </p:nvPicPr>
        <p:blipFill>
          <a:blip r:embed="rId3"/>
          <a:stretch/>
        </p:blipFill>
        <p:spPr>
          <a:xfrm>
            <a:off x="971640" y="4508640"/>
            <a:ext cx="1800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лмаз « Шах» - плата за смерть Грибоедова А. С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десь же находится другой печально знаменитый алмаз "Шах" - 88,7 карата, подаренный персидским шахом русскому правительству для улучшения отношений после убийства в 1829 г. русского посла - поэта А. С. Грибоедова. На гранях алмаза - арабские надписи - имена трех его предыдущих владельцев, начиная с XVI в. Теперь в нашем Алмазном фонде немало крупных отечественных якутских кристаллов, размером от 50 до нескольких сотен карато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_ Грибоедов"/>
          <p:cNvPicPr/>
          <p:nvPr/>
        </p:nvPicPr>
        <p:blipFill>
          <a:blip r:embed="rId1"/>
          <a:stretch/>
        </p:blipFill>
        <p:spPr>
          <a:xfrm>
            <a:off x="6659640" y="328464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Алмаз Шах"/>
          <p:cNvPicPr/>
          <p:nvPr/>
        </p:nvPicPr>
        <p:blipFill>
          <a:blip r:embed="rId2"/>
          <a:stretch/>
        </p:blipFill>
        <p:spPr>
          <a:xfrm>
            <a:off x="1116000" y="4581360"/>
            <a:ext cx="2448000" cy="1995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Николай 1"/>
          <p:cNvPicPr/>
          <p:nvPr/>
        </p:nvPicPr>
        <p:blipFill>
          <a:blip r:embed="rId3"/>
          <a:stretch/>
        </p:blipFill>
        <p:spPr>
          <a:xfrm>
            <a:off x="4284720" y="4292640"/>
            <a:ext cx="14097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ирное на ощупь вещество черного или серого цвета с металлическим блеском, тугоплавок (плавится под давлением 105 атм и при температуре свыше 3700 °C), электропроводен, мягок, легко расслаивается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з графита изготавливают огнестойкие изделия, устойчивые против действия щелочей и расплавленных систем; графитом покрывают формы для литья, чтобы предупредить прилипание к изделию формовой земли; изготавливают электротехнические изделия, карандаши, краски, смазки, антифрикционные материалы и изделия. Графит применяется в атомной технике как замедлитель нейтронов, изоляционный материа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идоизменения графита, часто встречающиеся в природе- кокс, сажа. древесный угол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3564000" y="0"/>
            <a:ext cx="15429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фит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5" descr="графит6"/>
          <p:cNvPicPr/>
          <p:nvPr/>
        </p:nvPicPr>
        <p:blipFill>
          <a:blip r:embed="rId1"/>
          <a:stretch/>
        </p:blipFill>
        <p:spPr>
          <a:xfrm>
            <a:off x="1332000" y="404640"/>
            <a:ext cx="1422360" cy="1079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углерод4"/>
          <p:cNvPicPr/>
          <p:nvPr/>
        </p:nvPicPr>
        <p:blipFill>
          <a:blip r:embed="rId2"/>
          <a:stretch/>
        </p:blipFill>
        <p:spPr>
          <a:xfrm>
            <a:off x="6804000" y="0"/>
            <a:ext cx="1854360" cy="1628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углерод7"/>
          <p:cNvPicPr/>
          <p:nvPr/>
        </p:nvPicPr>
        <p:blipFill>
          <a:blip r:embed="rId3"/>
          <a:stretch/>
        </p:blipFill>
        <p:spPr>
          <a:xfrm>
            <a:off x="6948360" y="4941720"/>
            <a:ext cx="187164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ристаллическая решётка графи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ля графита характерна гексагональная кристаллическая решетка. Состоит из параллельных слоев, образованных правильными шестиугольниками  из атомов углерод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5" descr="графит2"/>
          <p:cNvPicPr/>
          <p:nvPr/>
        </p:nvPicPr>
        <p:blipFill>
          <a:blip r:embed="rId1"/>
          <a:stretch/>
        </p:blipFill>
        <p:spPr>
          <a:xfrm>
            <a:off x="5292720" y="4149720"/>
            <a:ext cx="2519280" cy="1943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заимное превращение алмаза и графи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и  огромном давлении графит превращается в алмаз, и наоборот при высоких температурах алмаз превращается в графи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4" descr="углеро11"/>
          <p:cNvPicPr/>
          <p:nvPr/>
        </p:nvPicPr>
        <p:blipFill>
          <a:blip r:embed="rId1"/>
          <a:stretch/>
        </p:blipFill>
        <p:spPr>
          <a:xfrm>
            <a:off x="1835280" y="3860640"/>
            <a:ext cx="1765080" cy="1397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графит2"/>
          <p:cNvPicPr/>
          <p:nvPr/>
        </p:nvPicPr>
        <p:blipFill>
          <a:blip r:embed="rId2"/>
          <a:stretch/>
        </p:blipFill>
        <p:spPr>
          <a:xfrm>
            <a:off x="5724360" y="3789360"/>
            <a:ext cx="1943280" cy="1440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углеро13"/>
          <p:cNvPicPr/>
          <p:nvPr/>
        </p:nvPicPr>
        <p:blipFill>
          <a:blip r:embed="rId3"/>
          <a:stretch/>
        </p:blipFill>
        <p:spPr>
          <a:xfrm>
            <a:off x="2268360" y="5445000"/>
            <a:ext cx="1067040" cy="1171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углерод1"/>
          <p:cNvPicPr/>
          <p:nvPr/>
        </p:nvPicPr>
        <p:blipFill>
          <a:blip r:embed="rId4"/>
          <a:stretch/>
        </p:blipFill>
        <p:spPr>
          <a:xfrm>
            <a:off x="6300720" y="5589720"/>
            <a:ext cx="970200" cy="9698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0"/>
          <p:cNvSpPr/>
          <p:nvPr/>
        </p:nvSpPr>
        <p:spPr>
          <a:xfrm>
            <a:off x="4140360" y="4292640"/>
            <a:ext cx="1223640" cy="431640"/>
          </a:xfrm>
          <a:prstGeom prst="leftRightArrow">
            <a:avLst>
              <a:gd name="adj1" fmla="val 50000"/>
              <a:gd name="adj2" fmla="val 56435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4140360" y="56610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Угол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идоизменения графита, часто встречающиеся в природе- кокс, сажа, древесный угол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ллотропная модификация углерода. Представляет собой черный порошо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рбин является полупроводником и его проводимость возрастает под действием света. Впервые карбин получен в 1963 году при каталитическом окислении ацетилена (учеными В. В. Коршак, А. М. Сладковым, В. Ш. Касаточкиным). Позднее карбин обнаружили в природ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3708360" y="260280"/>
            <a:ext cx="1533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бин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Адсорбция-свойство угля и других твёрдых веществ удерживать на своей поверхности пары, газы и растворённые вещест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Адсорбент- вещество, на поверхности которого происходит адсорбц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3492360" y="333360"/>
            <a:ext cx="228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дсорбция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тивогаз Зелинско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роме угля есть другие адсорбенты, например синтетические и природные смол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дсорбция растворённых веществ углем открыта ещё в конце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XVIII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ека русским академиком Ловицем. Изучен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на более подробно Зелинским Николаем Дмитриевичем, он и предложил использовать активированный уголь в противогаза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0" name="Picture 11" descr="197094"/>
          <p:cNvPicPr/>
          <p:nvPr/>
        </p:nvPicPr>
        <p:blipFill>
          <a:blip r:embed="rId1"/>
          <a:stretch/>
        </p:blipFill>
        <p:spPr>
          <a:xfrm>
            <a:off x="4648320" y="2128680"/>
            <a:ext cx="4038480" cy="34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оевые отравляющие вещества.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т ничего бесчеловечнее химического оружия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Picture 4" descr="197090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95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197092"/>
          <p:cNvPicPr/>
          <p:nvPr/>
        </p:nvPicPr>
        <p:blipFill>
          <a:blip r:embed="rId2"/>
          <a:stretch/>
        </p:blipFill>
        <p:spPr>
          <a:xfrm>
            <a:off x="3419640" y="2637000"/>
            <a:ext cx="5079960" cy="3187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197096"/>
          <p:cNvPicPr/>
          <p:nvPr/>
        </p:nvPicPr>
        <p:blipFill>
          <a:blip r:embed="rId3"/>
          <a:stretch/>
        </p:blipFill>
        <p:spPr>
          <a:xfrm>
            <a:off x="468360" y="4869000"/>
            <a:ext cx="1133280" cy="1822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197098"/>
          <p:cNvPicPr/>
          <p:nvPr/>
        </p:nvPicPr>
        <p:blipFill>
          <a:blip r:embed="rId4"/>
          <a:stretch/>
        </p:blipFill>
        <p:spPr>
          <a:xfrm>
            <a:off x="2050920" y="4869000"/>
            <a:ext cx="1297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бщая характеристика углерод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.   Углерод (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Carboneum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-рождающий уголь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1. Характеристика по ПСХЭ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) неметал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)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V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группа, главная подгрупп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)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I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иод ,2ряд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) степени окисления -4,0,+2,+4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) оксиды- СО( не образует кислот)- угарный газ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 кислотообразующий) – углекислый газ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е) кислота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r>
              <a:rPr b="0" lang="ru-RU" sz="9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</a:t>
            </a:r>
            <a:r>
              <a:rPr b="0" lang="ru-RU" sz="9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- угольна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ё) образует огромное число соединений с водородом, самое простое СН</a:t>
            </a:r>
            <a:r>
              <a:rPr b="0" lang="ru-RU" sz="10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- ме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6" descr="197120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Picture 5" descr="197124"/>
          <p:cNvPicPr/>
          <p:nvPr/>
        </p:nvPicPr>
        <p:blipFill>
          <a:blip r:embed="rId1"/>
          <a:stretch/>
        </p:blipFill>
        <p:spPr>
          <a:xfrm>
            <a:off x="1116000" y="620640"/>
            <a:ext cx="2951280" cy="2303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197127"/>
          <p:cNvPicPr/>
          <p:nvPr/>
        </p:nvPicPr>
        <p:blipFill>
          <a:blip r:embed="rId2"/>
          <a:stretch/>
        </p:blipFill>
        <p:spPr>
          <a:xfrm>
            <a:off x="1258920" y="3213000"/>
            <a:ext cx="2809800" cy="2232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197129"/>
          <p:cNvPicPr/>
          <p:nvPr/>
        </p:nvPicPr>
        <p:blipFill>
          <a:blip r:embed="rId3"/>
          <a:stretch/>
        </p:blipFill>
        <p:spPr>
          <a:xfrm>
            <a:off x="4716360" y="4508640"/>
            <a:ext cx="3672000" cy="1944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197137"/>
          <p:cNvPicPr/>
          <p:nvPr/>
        </p:nvPicPr>
        <p:blipFill>
          <a:blip r:embed="rId4"/>
          <a:stretch/>
        </p:blipFill>
        <p:spPr>
          <a:xfrm>
            <a:off x="4716360" y="2276640"/>
            <a:ext cx="3743280" cy="2017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197133"/>
          <p:cNvPicPr/>
          <p:nvPr/>
        </p:nvPicPr>
        <p:blipFill>
          <a:blip r:embed="rId5"/>
          <a:stretch/>
        </p:blipFill>
        <p:spPr>
          <a:xfrm>
            <a:off x="4716360" y="189000"/>
            <a:ext cx="38005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Химическое оружие-  ужас человечества и позорная страница в истории химической науки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4" descr="198101"/>
          <p:cNvPicPr/>
          <p:nvPr/>
        </p:nvPicPr>
        <p:blipFill>
          <a:blip r:embed="rId1"/>
          <a:stretch/>
        </p:blipFill>
        <p:spPr>
          <a:xfrm>
            <a:off x="684360" y="2637000"/>
            <a:ext cx="2736720" cy="266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197102"/>
          <p:cNvPicPr/>
          <p:nvPr/>
        </p:nvPicPr>
        <p:blipFill>
          <a:blip r:embed="rId2"/>
          <a:stretch/>
        </p:blipFill>
        <p:spPr>
          <a:xfrm>
            <a:off x="5003640" y="3429000"/>
            <a:ext cx="309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елинский Николай Дмитриевич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оим изобретением он спас миллионы  солдат от страшной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учительной смерти и сделал химическое оружие неэффективным для уничтожения армий противни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3" name="Picture 4" descr="Зелинский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ктивированный угол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дсорбционная способность зависит от пористости вещества. Для увеличения пористости угля его активируют, нагревают в струе водяного пара, поры освобождаются от загрязняющих вещест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Picture 7" descr="активированный уголь1"/>
          <p:cNvPicPr/>
          <p:nvPr/>
        </p:nvPicPr>
        <p:blipFill>
          <a:blip r:embed="rId1"/>
          <a:stretch/>
        </p:blipFill>
        <p:spPr>
          <a:xfrm>
            <a:off x="4788000" y="2276640"/>
            <a:ext cx="3816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именение активированного угл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ктивированный уголь широко используют в медицине и пищевой промышленност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9" name="Picture 6" descr="акт"/>
          <p:cNvPicPr/>
          <p:nvPr/>
        </p:nvPicPr>
        <p:blipFill>
          <a:blip r:embed="rId1"/>
          <a:stretch/>
        </p:blipFill>
        <p:spPr>
          <a:xfrm>
            <a:off x="4818240" y="1600200"/>
            <a:ext cx="3698640" cy="4530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акт1"/>
          <p:cNvPicPr/>
          <p:nvPr/>
        </p:nvPicPr>
        <p:blipFill>
          <a:blip r:embed="rId2"/>
          <a:stretch/>
        </p:blipFill>
        <p:spPr>
          <a:xfrm>
            <a:off x="1042920" y="4365720"/>
            <a:ext cx="2521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c85e"/>
                </a:solidFill>
                <a:latin typeface="Arial"/>
              </a:rPr>
              <a:t>Химические свойств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Verdana"/>
              </a:rPr>
              <a:t>C</a:t>
            </a: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Verdana"/>
              </a:rPr>
              <a:t>войства окислителя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24000" y="2276640"/>
            <a:ext cx="76327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) с металлами</a:t>
            </a: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бразует карбид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+3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( при нагревании)</a:t>
            </a: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Verdana"/>
              </a:rPr>
              <a:t>карбида  алюминия получают метан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Verdana"/>
              </a:rPr>
              <a:t>Al</a:t>
            </a:r>
            <a:r>
              <a:rPr b="0" lang="en-US" sz="1200" spc="-1" strike="noStrike">
                <a:solidFill>
                  <a:srgbClr val="ff66ff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ff66ff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ff66ff"/>
                </a:solidFill>
                <a:latin typeface="Verdana"/>
              </a:rPr>
              <a:t>3 </a:t>
            </a:r>
            <a:r>
              <a:rPr b="0" lang="en-US" sz="1800" spc="-1" strike="noStrike">
                <a:solidFill>
                  <a:srgbClr val="ff66ff"/>
                </a:solidFill>
                <a:latin typeface="Verdana"/>
              </a:rPr>
              <a:t>+12H</a:t>
            </a:r>
            <a:r>
              <a:rPr b="0" lang="en-US" sz="1200" spc="-1" strike="noStrike">
                <a:solidFill>
                  <a:srgbClr val="ff66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66ff"/>
                </a:solidFill>
                <a:latin typeface="Verdana"/>
              </a:rPr>
              <a:t>O </a:t>
            </a:r>
            <a:r>
              <a:rPr b="0" lang="ru-RU" sz="1800" spc="-1" strike="noStrike">
                <a:solidFill>
                  <a:srgbClr val="ff66ff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ff66ff"/>
                </a:solidFill>
                <a:latin typeface="Verdana"/>
              </a:rPr>
              <a:t>4Al(OH)</a:t>
            </a:r>
            <a:r>
              <a:rPr b="0" lang="en-US" sz="1200" spc="-1" strike="noStrike">
                <a:solidFill>
                  <a:srgbClr val="ff66ff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ff66ff"/>
                </a:solidFill>
                <a:latin typeface="Verdana"/>
              </a:rPr>
              <a:t>+ 3CH</a:t>
            </a:r>
            <a:r>
              <a:rPr b="0" lang="en-US" sz="1400" spc="-1" strike="noStrike">
                <a:solidFill>
                  <a:srgbClr val="ff66ff"/>
                </a:solidFill>
                <a:latin typeface="Verdana"/>
              </a:rPr>
              <a:t>4</a:t>
            </a:r>
            <a:r>
              <a:rPr b="0" lang="ru-RU" sz="1400" spc="-1" strike="noStrike">
                <a:solidFill>
                  <a:srgbClr val="ff66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+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=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C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( при нагревании)</a:t>
            </a: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Verdana"/>
              </a:rPr>
              <a:t>Из карбида кальция получают ацетилен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Verdana"/>
              </a:rPr>
              <a:t>CaC2 + 2H2O</a:t>
            </a:r>
            <a:r>
              <a:rPr b="0" lang="ru-RU" sz="1800" spc="-1" strike="noStrike">
                <a:solidFill>
                  <a:srgbClr val="ff66ff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ff66ff"/>
                </a:solidFill>
                <a:latin typeface="Verdana"/>
              </a:rPr>
              <a:t> Ca(OH)2 +C2H2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) с водородо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 +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=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метан)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( при нагревании)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3244680" y="3812040"/>
            <a:ext cx="86364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30000">
                <a:solidFill>
                  <a:srgbClr val="eaeaea"/>
                </a:solidFill>
                <a:latin typeface="Arial"/>
                <a:ea typeface="Times New Roman"/>
              </a:rPr>
              <a:t>                         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Свойства восстановител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восстанавливает металлы из их оксидо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uO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г) горит в кислороде с выделением большого количества теп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2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= 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Q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Q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8" name="Picture 4" descr="carbon"/>
          <p:cNvPicPr/>
          <p:nvPr/>
        </p:nvPicPr>
        <p:blipFill>
          <a:blip r:embed="rId1"/>
          <a:stretch/>
        </p:blipFill>
        <p:spPr>
          <a:xfrm>
            <a:off x="611280" y="1628640"/>
            <a:ext cx="7993080" cy="4104000"/>
          </a:xfrm>
          <a:prstGeom prst="rect">
            <a:avLst/>
          </a:prstGeom>
          <a:ln w="0">
            <a:noFill/>
          </a:ln>
        </p:spPr>
      </p:pic>
      <p:sp>
        <p:nvSpPr>
          <p:cNvPr id="219" name="WordArt 5"/>
          <p:cNvSpPr txBox="1"/>
          <p:nvPr/>
        </p:nvSpPr>
        <p:spPr>
          <a:xfrm>
            <a:off x="971640" y="549360"/>
            <a:ext cx="669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уговорот   углерода   в природе</a:t>
            </a:r>
            <a:endParaRPr b="0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=+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+1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=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=12-6=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г) е=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)  +6)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ru-RU" sz="1000" spc="-1" strike="noStrike">
                <a:solidFill>
                  <a:srgbClr val="eaeaea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eaeaea"/>
                </a:solidFill>
                <a:latin typeface="Verdana"/>
              </a:rPr>
              <a:t>                               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2          2          2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е) 1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79640" y="476280"/>
            <a:ext cx="558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роение атома углерода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1" name="Picture 5" descr="углерод3"/>
          <p:cNvPicPr/>
          <p:nvPr/>
        </p:nvPicPr>
        <p:blipFill>
          <a:blip r:embed="rId1"/>
          <a:stretch/>
        </p:blipFill>
        <p:spPr>
          <a:xfrm>
            <a:off x="6372360" y="1341360"/>
            <a:ext cx="216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ллотропные модификации углерод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-   алмаз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графит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бин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4" descr="углерод12"/>
          <p:cNvPicPr/>
          <p:nvPr/>
        </p:nvPicPr>
        <p:blipFill>
          <a:blip r:embed="rId1"/>
          <a:stretch/>
        </p:blipFill>
        <p:spPr>
          <a:xfrm>
            <a:off x="5508720" y="1773360"/>
            <a:ext cx="253188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графит1"/>
          <p:cNvPicPr/>
          <p:nvPr/>
        </p:nvPicPr>
        <p:blipFill>
          <a:blip r:embed="rId2"/>
          <a:stretch/>
        </p:blipFill>
        <p:spPr>
          <a:xfrm>
            <a:off x="3851280" y="3860640"/>
            <a:ext cx="2736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есцветное кристаллическое вещество с атомной решетко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аждый атом углерода в алмазе окружен четырьмя другими, расположенными от него в направлениях от центра тетраэдра к его вершинам( рис. на доске)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лмаз имеет высокую твердость, плотность 3,5 г/см2, плохо проводит тепло и практически не проводит электрический то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Это самое тугоплавкое природное вещество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л =3730С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чистом виде алмаз сильно преломляет свет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Его применяют как украшение, а также для резки стекла, бурения горных пород и шлифования особо твердых материал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3851280" y="404640"/>
            <a:ext cx="12571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лмаз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8" name="Picture 7" descr="углеро11"/>
          <p:cNvPicPr/>
          <p:nvPr/>
        </p:nvPicPr>
        <p:blipFill>
          <a:blip r:embed="rId1"/>
          <a:stretch/>
        </p:blipFill>
        <p:spPr>
          <a:xfrm>
            <a:off x="6372360" y="5157720"/>
            <a:ext cx="1765080" cy="1397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углеро13"/>
          <p:cNvPicPr/>
          <p:nvPr/>
        </p:nvPicPr>
        <p:blipFill>
          <a:blip r:embed="rId2"/>
          <a:stretch/>
        </p:blipFill>
        <p:spPr>
          <a:xfrm>
            <a:off x="611280" y="260280"/>
            <a:ext cx="16570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нтересные факты о самых знаменитых алмазах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АЛМАЗ - "АНГЕЛЬСКАЯ СЛЕЗА" АПРЕЛ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ЛМАЗ - (от греческого "адамас" - неодолимый), символ чистоты и невинности, дарующий, как считается, добродетель, мужество и победу, называют счастливым камнем рожденных в апрел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лмаз « Питт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огда в отбитом куске горной породы сверкнула грань кристалла, у раба перехватило дыханье. Вот алмаз, который принесет желанную свободу, и он покинет злосчастные копи Голконды! Но как скрыть камень? Невольник-индиец ранил себя киркой - и под лохмотьями в ране на бедре спрятал кристалл. Матрос английского судна с грузом джута согласился тайно вывезти беглеца. Едва парусник вышел в океан, сообщник принес в трюм еду и склоненного над миской индийца заколол кинжалом... В Мадрасе, в том же 1701 году, алмаз был продан английскому губернатору У. Питту. Матросу-убийце деньги не пошли на пользу - промотав их, он повесился на корабельной рее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Англии за два года огранки из алмаза получают совершенный бриллиант размером 30х20х19 мм. В 1717 г. "Питт" покупает герцог Орлеанский - регент Франции. Вот тогда у камня и появилось второе название - "Регент". Бриллиант вправляют в корону Людовика XIV. Камень был настолько известен, что в 1792 году, в начале Французской революции, когда он был украден вместе с другими королевскими регалиями, воры не смогли его сбыть и подбросили обратно! Наполеон, заложив этот алмаз, на полученные деньги обеспечил проведение своего первого похода. Затем "Регент" был выкуплен на аукционе, и занял место в экспозиции Лувра. В 1940 г., когда Германия оккупировала Францию, знаменитый алмаз спрятали за мраморной отделкой камина в замке Шамбор. И вот он снова в Лувре - яркий, сверкающий, и как будто бы только что ограненный! А ведь камню - почти 300 лет!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Регент2"/>
          <p:cNvPicPr/>
          <p:nvPr/>
        </p:nvPicPr>
        <p:blipFill>
          <a:blip r:embed="rId1"/>
          <a:stretch/>
        </p:blipFill>
        <p:spPr>
          <a:xfrm>
            <a:off x="468360" y="260280"/>
            <a:ext cx="172728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Регент4"/>
          <p:cNvPicPr/>
          <p:nvPr/>
        </p:nvPicPr>
        <p:blipFill>
          <a:blip r:embed="rId2"/>
          <a:stretch/>
        </p:blipFill>
        <p:spPr>
          <a:xfrm>
            <a:off x="6948360" y="333360"/>
            <a:ext cx="1625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9152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Да, алмаз - нестареющий камень. Он - самый-самый из минералов по всем показателям. Имеет самую высокую твердость - 10, алмаз режется только алмазом. Он - самый прозрачный. Не зря его называют "ангельской слезой". Бывают желтоватые и голубоватые и очень редко - черные разновидности. Его отличает изумительная игра света при бриллиантовой огранке. Он самый дорогой, причем при увеличении размеров стоимость возрастает многократно. Скажем, камень в 10 каратов (карат - это принятая для драгоценных камней единица веса, равная 0,2 грамма) будет стоить не в десять раз больше, алмаза в 1 карат, а примерно в 100 раз! А во сколько же раз больше будет стоить такой алмаз, как "Питт", если в нем 140 каратов? Впрочем "Питт" не самый древний из исторических алмазов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ндийский алмаз Кох-и-Нор ("Гора света") известен несколько тысячелетий. По преданию им владели последовательно 18 правителей Индостана. Сейчас бриллиант в 108,9 каратов - в Англии, в короне королевы Елизаветы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I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2556000" y="0"/>
            <a:ext cx="4895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мый  древний  алмаз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Picture 6" descr="Елизавета II"/>
          <p:cNvPicPr/>
          <p:nvPr/>
        </p:nvPicPr>
        <p:blipFill>
          <a:blip r:embed="rId4"/>
          <a:stretch/>
        </p:blipFill>
        <p:spPr>
          <a:xfrm>
            <a:off x="7740720" y="189000"/>
            <a:ext cx="1160280" cy="136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Кохонор"/>
          <p:cNvPicPr/>
          <p:nvPr/>
        </p:nvPicPr>
        <p:blipFill>
          <a:blip r:embed="rId5"/>
          <a:stretch/>
        </p:blipFill>
        <p:spPr>
          <a:xfrm>
            <a:off x="611280" y="260280"/>
            <a:ext cx="1584360" cy="149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Корона"/>
          <p:cNvPicPr/>
          <p:nvPr/>
        </p:nvPicPr>
        <p:blipFill>
          <a:blip r:embed="rId6"/>
          <a:stretch/>
        </p:blipFill>
        <p:spPr>
          <a:xfrm>
            <a:off x="4489560" y="3336840"/>
            <a:ext cx="166680" cy="18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Корона"/>
          <p:cNvPicPr/>
          <p:nvPr/>
        </p:nvPicPr>
        <p:blipFill>
          <a:blip r:embed="rId7"/>
          <a:stretch/>
        </p:blipFill>
        <p:spPr>
          <a:xfrm>
            <a:off x="4500720" y="692280"/>
            <a:ext cx="1584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амым большим алмазом из известных в мире был "Куллинан" (название - по имени президента южноафриканской алмазодобываюшей компании) - 3106 каратов, подаренный в начале  прошлого века англий-скому королю Эдуарду VII. Но что делать с таким громадным кристаллом? В корону не вставишь, и для скипетра великоват. Его аккуратно раскололи на 105 частей. Самый крупный осколок, названный "Куллинан-I", после бриллиантовой огранки величиной в 530,2 карата - украсил скипетр короля Великобритании и хранится в лондонском Тауэре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Picture 8" descr="Английский скиптр"/>
          <p:cNvPicPr/>
          <p:nvPr/>
        </p:nvPicPr>
        <p:blipFill>
          <a:blip r:embed="rId1"/>
          <a:stretch/>
        </p:blipFill>
        <p:spPr>
          <a:xfrm>
            <a:off x="6659640" y="4149720"/>
            <a:ext cx="1758960" cy="201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Кулиан"/>
          <p:cNvPicPr/>
          <p:nvPr/>
        </p:nvPicPr>
        <p:blipFill>
          <a:blip r:embed="rId2"/>
          <a:stretch/>
        </p:blipFill>
        <p:spPr>
          <a:xfrm>
            <a:off x="2195640" y="4653000"/>
            <a:ext cx="1944720" cy="1368360"/>
          </a:xfrm>
          <a:prstGeom prst="rect">
            <a:avLst/>
          </a:prstGeom>
          <a:ln w="0">
            <a:noFill/>
          </a:ln>
        </p:spPr>
      </p:pic>
      <p:sp>
        <p:nvSpPr>
          <p:cNvPr id="145" name="WordArt 10"/>
          <p:cNvSpPr txBox="1"/>
          <p:nvPr/>
        </p:nvSpPr>
        <p:spPr>
          <a:xfrm>
            <a:off x="1258920" y="836640"/>
            <a:ext cx="568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ый    крупный    алмаз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0:44:58Z</dcterms:created>
  <dc:creator>USER</dc:creator>
  <dc:description/>
  <dc:language>en-US</dc:language>
  <cp:lastModifiedBy>Виктор</cp:lastModifiedBy>
  <dcterms:modified xsi:type="dcterms:W3CDTF">2012-10-28T16:09:13Z</dcterms:modified>
  <cp:revision>20</cp:revision>
  <dc:subject/>
  <dc:title>Слайд 1</dc:title>
</cp:coreProperties>
</file>