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D77-2ED1-4EFE-AB0E-230124FB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D82-3BCD-4E2B-9D5A-7F71E877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778-7631-4893-8636-0ACB7158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DC4-D51F-45F0-BDA2-7DB19786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61F8-034C-4857-8108-F7CC6EEA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FF38-A1B7-4917-B9D0-4F7AD0A1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7939-3465-43BF-ABEF-97DC28AE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E7D2-4DE2-48F9-B317-CB69437C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8CFB-7848-430A-93F5-34E1110E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2070-F7C8-44DF-AF05-EEE19D1F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4A3E-B39E-4DE5-9B94-8FB371C3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1F1-60C6-401F-B8F3-41343620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191A-C8F6-4C11-A209-050EA982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75F3-9751-46EA-AEED-24DCEA59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79CF-67A7-4244-8B86-F99EE472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A0C0-75C1-4702-8816-367779CD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41EB-5369-4611-9873-103C971F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B86-DD43-49D6-98F8-56CD0AF2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CE8-D78D-4803-9B0A-601D87AF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484-6913-47C2-9ECD-6025EB94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238-D321-4807-BAF9-D6C2ACC4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436-3313-431D-8809-18C35411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23C-485C-49E4-9835-3E092C1E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D13-E6C2-4B55-9E76-03D44A91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26E7-3224-49EA-857F-CA4EB0AC59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20E2-980B-4D64-B0BC-913D05088B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i="1" lang="ru-RU" sz="4400" spc="-1" strike="noStrike">
                <a:solidFill>
                  <a:srgbClr val="ff0000"/>
                </a:solidFill>
                <a:latin typeface="Arial Unicode MS"/>
              </a:rPr>
              <a:t>Пунктуационный анализ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Unicode MS"/>
              </a:rPr>
              <a:t>  </a:t>
            </a:r>
            <a:r>
              <a:rPr b="1" i="1" lang="ru-RU" sz="4400" spc="-1" strike="noStrike">
                <a:solidFill>
                  <a:srgbClr val="ff0000"/>
                </a:solidFill>
                <a:latin typeface="Arial Unicode MS"/>
              </a:rPr>
              <a:t>Знаки препинания в предложениях со словами и конструкциями, грамматически не связанными с членами предлож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одные слова — это 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специальные слова или сочетания слов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при помощи которых говорящий 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выражает своё отношение к тому, что он сообщает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например: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Эта безлунная ночь, </a:t>
            </a:r>
            <a:r>
              <a:rPr b="0" i="1" lang="ru-RU" sz="3600" spc="-1" strike="noStrike">
                <a:solidFill>
                  <a:srgbClr val="ff3300"/>
                </a:solidFill>
                <a:latin typeface="Calibri"/>
              </a:rPr>
              <a:t>казалось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, была всё так же великолепна, как и прежде.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одное слово </a:t>
            </a: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казалось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ражает неуверенность говорящего в том, что он сообщает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Rus190_0065"/>
          <p:cNvPicPr/>
          <p:nvPr/>
        </p:nvPicPr>
        <p:blipFill>
          <a:blip r:embed="rId1"/>
          <a:stretch/>
        </p:blipFill>
        <p:spPr>
          <a:xfrm>
            <a:off x="0" y="0"/>
            <a:ext cx="9144000" cy="6746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водные слов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не являются членами предложения; при произношении они выделяются интонацией (паузами и сравнительно быстрым произношением), а на письме запятыми. По смыслу они тесно связаны с предложением в целом, если стоят в начале или в конце предложения (</a:t>
            </a:r>
            <a:r>
              <a:rPr b="1" i="1" lang="ru-RU" sz="3600" spc="-1" strike="noStrike" u="sng">
                <a:solidFill>
                  <a:srgbClr val="000099"/>
                </a:solidFill>
                <a:uFillTx/>
                <a:latin typeface="Calibri"/>
              </a:rPr>
              <a:t>Действительно</a:t>
            </a: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, камни бывают различной твердости .Самый мягкий камень – тальк) или с каким-то отдельным членом предложения, если вводное слово стоит перед этим член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вводных с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609480"/>
          <a:ext cx="9144000" cy="62485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Различная степень уверенности: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большая степень уверенности </a:t>
                      </a: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конечно, разумеется, бесспорно, несомненно, без сомнения, безусловно, действительно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др.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меньшая степень уверенности, предположение </a:t>
                      </a: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кажется, вероятно, очевидно, возможно, пожалуй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 др.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азличные чувства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 счастью, общей радости, к несчастью, к сожалению, к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дивлению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 др.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точник сообщения (кому пр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­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лежат сообщение) </a:t>
                      </a: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по сообщению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кого-либо), </a:t>
                      </a: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 словам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кого-либо), по </a:t>
                      </a: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нению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кого-либо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 Порядок мыслей и их связь </a:t>
                      </a: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ервых, во-вторых, в-третьих, наконец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 др.;  </a:t>
                      </a: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ледовательно,  значит,   итак, напротив, наоборот, например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 др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Замечания о способах оформления мыслей </a:t>
                      </a: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одним словом, иначе говоря, лучше сказать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ный воздух</a:t>
                      </a: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ез всякого сомнения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действует благотворно на здоровье человека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. Тургене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озможно,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я отношусь к языку с преувеличенной строгостью, благоговени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. Паустовск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 несчастью,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тые и сильные дожди мешали успешному ходу путешеств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. Пржевальски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 мнению врача,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ольного выпишут из  больницы через недел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о-первых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плохо знал эту местность, к, одно желание пользы заставило меня напечатать отрывки из журнала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. Лермонт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дним словом,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школе стало в тысячу \раз интереснее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. Каверин) 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значения выражаются не только вводными словами, но и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вводными предложениями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 любители соловьиного пения </a:t>
            </a:r>
            <a:r>
              <a:rPr b="1" i="1" lang="ru-RU" sz="2400" spc="-1" strike="noStrike">
                <a:solidFill>
                  <a:srgbClr val="ff3300"/>
                </a:solidFill>
                <a:latin typeface="Calibri"/>
              </a:rPr>
              <a:t>(их было всегда много на Руси)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 нетерпением ждали времени, когда у берёзки «развернётся лист»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Ю. Дмитрие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одные слова и вводные предложения при произнесении выделяются интонацией (паузами и сравнительно быстрым произнесением), а на письме запятыми, например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ы, </a:t>
            </a:r>
            <a:r>
              <a:rPr b="1" i="1" lang="ru-RU" sz="2400" spc="-1" strike="noStrike">
                <a:solidFill>
                  <a:srgbClr val="ff3300"/>
                </a:solidFill>
                <a:latin typeface="Calibri"/>
              </a:rPr>
              <a:t>сказывают,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еть великий мастерище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. Крылов);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ниги Пришвина</a:t>
            </a:r>
            <a:r>
              <a:rPr b="0" i="1" lang="ru-RU" sz="2400" spc="-1" strike="noStrike">
                <a:solidFill>
                  <a:srgbClr val="ff3300"/>
                </a:solidFill>
                <a:latin typeface="Calibri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alibri"/>
              </a:rPr>
              <a:t>говоря </a:t>
            </a:r>
            <a:r>
              <a:rPr b="0" i="1" lang="ru-RU" sz="2400" spc="-1" strike="noStrike">
                <a:solidFill>
                  <a:srgbClr val="ff3300"/>
                </a:solidFill>
                <a:latin typeface="Calibri"/>
              </a:rPr>
              <a:t>его же словами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это бесконечная радость постоянных открытий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ауст.);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ечор, </a:t>
            </a:r>
            <a:r>
              <a:rPr b="1" i="1" lang="ru-RU" sz="2400" spc="-1" strike="noStrike">
                <a:solidFill>
                  <a:srgbClr val="ff3300"/>
                </a:solidFill>
                <a:latin typeface="Calibri"/>
              </a:rPr>
              <a:t>ты помнишь,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ьюга злилась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А. Пушкин);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оя душа</a:t>
            </a:r>
            <a:r>
              <a:rPr b="1" i="1" lang="ru-RU" sz="2400" spc="-1" strike="noStrike">
                <a:solidFill>
                  <a:srgbClr val="ff3300"/>
                </a:solidFill>
                <a:latin typeface="Calibri"/>
              </a:rPr>
              <a:t>, я помню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с детских лет чудесного искала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М. Лермонт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Вставные конструк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жающие дополнительные замечания или пояснения, выделяются скобками или, реже, тире, например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гда мы вошли в избу, девки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— </a:t>
            </a:r>
            <a:r>
              <a:rPr b="1" i="1" lang="ru-RU" sz="2400" spc="-1" strike="noStrike">
                <a:solidFill>
                  <a:srgbClr val="ff3300"/>
                </a:solidFill>
                <a:latin typeface="Calibri"/>
              </a:rPr>
              <a:t>их было человек десять —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распевая какую-то бесконечную песню, чинно сидели вокруг стола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А. Эртель.);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естра </a:t>
            </a:r>
            <a:r>
              <a:rPr b="0" i="1" lang="ru-RU" sz="2400" spc="-1" strike="noStrike">
                <a:solidFill>
                  <a:srgbClr val="ff3300"/>
                </a:solidFill>
                <a:latin typeface="Calibri"/>
              </a:rPr>
              <a:t>— имени её я, право, не знаю —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с раннего утра принималась за хозяйство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А. Эртель);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 обеду он приходил обыкновенно нагруженный новостями (преимущественно политического свойства), которые и сообщал сестре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А. Эртел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гко найти обращения, вводные слова и конструкции по следующим признакам: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к ним нельзя задать вопрос от других членов предложени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они заменяются синонимичными вводными словами и конструкциям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они легко убираются из текста без потери смыс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лгоритм выполнения зад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ди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специальные слова или сочетания слов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 помощи которых говорящий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выражает своё отношение к тому, что он сообщает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и выделены запятыми, реже – тире или скобками)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бери их из предложения. Смысл не поменялся? Это вводные слова или вводные предло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 Попробуй задать вопрос к слову, которое, как ты думаешь, является вводным. Если не задается, скорее всего, оно вводное и выделяется запяты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Вспомни значения вводных слов. Входит ли твое слово в их числ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25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 rot="18394800">
            <a:off x="1258920" y="3202920"/>
            <a:ext cx="2050920" cy="23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lackadder ITC"/>
              </a:rPr>
              <a:t>Решим те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693172"/>
          <p:cNvPicPr/>
          <p:nvPr/>
        </p:nvPicPr>
        <p:blipFill>
          <a:blip r:embed="rId2"/>
          <a:stretch/>
        </p:blipFill>
        <p:spPr>
          <a:xfrm rot="18089400">
            <a:off x="415800" y="4612680"/>
            <a:ext cx="153036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К</a:t>
            </a:r>
            <a:r>
              <a:rPr b="1" i="1" lang="ru-RU" sz="4400" spc="-1" strike="noStrike">
                <a:solidFill>
                  <a:srgbClr val="000099"/>
                </a:solidFill>
                <a:latin typeface="Arial Unicode MS"/>
              </a:rPr>
              <a:t> со словам и конструкциям, грамматически не связанными с членами предложения, относят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Unicode MS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 Unicode MS"/>
              </a:rPr>
              <a:t>ОБРАЩЕНИЯ, ВВОДНЫЕ СЛОВА И ПРЕДЛОЖЕНИЯ,ВСТАВНЫЕ КОНСТРУК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из демовер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иведённом ниже предложении из прочитанного текста пронумеров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запятые. Выпишите цифру, обозначающую запятую пр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водном сло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ожет,(1) я хотел подольше задержаться там,(2) на мирной и тих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олге,(3) представляя героя книжки,(4) моего сверстника,(5) самим собо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895120" y="3809880"/>
            <a:ext cx="3429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вторим теор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ege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2057400" y="594360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ffff"/>
                </a:solidFill>
                <a:latin typeface="DecorCTT"/>
              </a:rPr>
              <a:t>Повторим теори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бращение – слово или сочетание слов, называющее того, к кому или чему обращаются с речью: </a:t>
            </a:r>
            <a:r>
              <a:rPr b="0" lang="ru-RU" sz="5400" spc="-1" strike="noStrike">
                <a:solidFill>
                  <a:srgbClr val="0000ff"/>
                </a:solidFill>
                <a:latin typeface="Calibri"/>
              </a:rPr>
              <a:t>Паша,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это ты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Rus190_0064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746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763640" y="0"/>
            <a:ext cx="5400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Способ выра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92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008000" cy="1052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0" y="1042920"/>
            <a:ext cx="9144000" cy="69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Обращения обычно выражено именами существительными одушевлёнными, реже прилагательными или причастиями в значении существите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Хорошая, любимая, родная, мы друг от друга далеко живём (Щип.).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 роли обращений чаще всего выступают собственные имена и существительные, называющие лиц по родству, по общественному положению, по професси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Вот, Любушка, Митя проститься пришёл: он едет к матушке своей (Ост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ичные местоимения 2 лица ТЫ и ВЫ чаще входят в состав особого оборота, выступающего в роли обращения и заключающего в себе качественную оценку 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Monotype Corsiva"/>
              </a:rPr>
              <a:t>Что вы такой герцогиней смотрите, красавица вы мо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 языке художественной литературы, особенно в поэтических текстах, используются обращения к неодушевлённым предме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Monotype Corsiva"/>
              </a:rPr>
              <a:t>Красуйся, град Петров, и 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Monotype Corsiva"/>
              </a:rPr>
              <a:t>Неколебимо, как Россия (Пушк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19280" y="11592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Место в предложе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95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0" y="1628640"/>
            <a:ext cx="89996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Обращение может стоять в начале, в середине и в конце предложен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Обращение не является членом предл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619280" y="11592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Знаки препин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98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250920" y="1397160"/>
          <a:ext cx="8713800" cy="47736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16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бращение выделяется запятыми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Наташа,</a:t>
                      </a: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 иди сюда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Вперёд тебе наука, </a:t>
                      </a:r>
                      <a:r>
                        <a:rPr b="0" lang="ru-RU" sz="36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друг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сли обращение стоит в начале предложения и произносится с восклицательной интонацией, после него ставится восклицательный знак, а идущее дальше предложение начинается с прописной буквы.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Соседушка, мой свет!</a:t>
                      </a: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 Пожалуйста, покуша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сли обращение разбито на части, выделяется запятыми каждая часть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Отколе</a:t>
                      </a:r>
                      <a:r>
                        <a:rPr b="0" lang="ru-RU" sz="36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, умная,</a:t>
                      </a: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 бредёшь ты, </a:t>
                      </a:r>
                      <a:r>
                        <a:rPr b="0" lang="ru-RU" sz="36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голова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vetlana</cp:lastModifiedBy>
  <dcterms:modified xsi:type="dcterms:W3CDTF">2020-04-07T09:52:2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