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CB7-660E-4714-8422-2C589889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47B-C259-4E7D-AC90-A88EB9B8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7A6-0C2C-4DAD-BA66-AD76BB6F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AD3-9746-42FB-8253-EDD6D63C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17F4-60C0-4A00-9CD6-E4D7C1D7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54A3-7D44-445A-89F3-02D1CC12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08BF-49F3-4B89-8D35-8062A1B5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6ECD-43EE-406D-9279-9F2085EB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2625-81C8-4F12-890A-F08D7954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E16D-3BCD-43C6-8982-942E761A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AD02-5C93-43C0-BA4E-6B53EAD4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11E-6070-4C01-81D0-E377A247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FB92-01A0-46E2-BA60-D473C927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782D-CCF9-4EAF-91A8-7C367C72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FD1A-3610-47D0-8749-B8E9D762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37D2-EAD8-442C-8AD0-2BD3F35F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336A-9DDA-4E03-9A1C-426454D9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05A38-C88B-41BE-98AF-354B9735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5D6F-297F-4E0B-9821-75846FB8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F7D16-5545-4883-89F1-BCA32C9E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815E-D429-496A-8FEB-F72EEC6A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3BD6-01FD-4CF8-81D3-F0BAF4CF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974-A91E-4F1E-9C15-6247D695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7F5B-2E4C-4583-9A5D-830F616B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8C53-C6EC-4EB7-B522-D46287E6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42A3-443A-407C-9396-8D610AF7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5AC37-A1D6-4BC2-9D0F-980054A5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07E8-2E31-4C46-8FD0-85745A98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9FB6-F08B-4C88-AEA5-972B3468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95DC-7A01-4BF1-9F61-28B939C0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99A1F-289E-4AD1-A9B1-BE166B4D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F79B-63FB-4058-81E6-09234A8C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8A779-BDC5-46DC-A37F-E571A51C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C2F-3A4E-424F-B18A-878DA7D9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8B01B-133A-4E19-B821-C4480BBB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C4BF-8800-461E-A96B-6B46C0DA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2F6AE-377F-4F90-94DB-35556916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B4D0-754B-4DB2-907A-46F53954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CC9D-D977-4B55-A68D-BB81B0B4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EB42-2E89-44FA-9A71-129B40DB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D925D-F85B-411E-9F8B-E9F65245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5EFB-DC6C-4F29-BABB-11B47FFD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DF285-6169-4D8A-81E2-186A293C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F0284-D628-46A5-84AC-1B46F6E5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B6E-CB19-4F7C-A660-67C2239A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FC2B1-9761-4DDD-8790-823BFE12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D612A-3CD6-4F10-893E-8454B79A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6D289-C037-4BED-B0C8-7A058B4C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471DE-64EB-41BD-9462-9BC35100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63A0C-FC93-4DC6-9A9F-D328745B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CCE3F-1554-4E17-AB8C-E606249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83E13-3F85-410A-AF3E-C942F0E6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8561-0FB8-4190-980D-C984AB73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132D5-D7BC-493D-8837-5B954075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5C32F-831E-43A8-AB8A-08C73EFB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212-DE6C-48EA-A3BB-A664E9F5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62B1C-8F22-4DF0-8C97-858D7DA6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A0305-008E-4F95-975B-0174BF47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F4491-EA8C-4359-9741-166D7874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5880D-EFB1-4067-BBA5-75E0598A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0287A-3F25-481D-88F3-ACE6042E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24474-AFB8-44EB-A163-6CD04188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B6C12-816C-4E47-86AD-35E1D99F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92A36-F504-41F3-9429-7D70A290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21688-1D52-4D71-9F7C-9144F404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C0947-62CE-4C9B-846E-AC75582B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AB4-D8B7-44D8-A425-E5265D03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363F6-D24D-42EF-9CE6-2F42699A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65770-C464-46D2-A7F2-F204AEF1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11E3F-D19A-4D5A-80F4-D0E7CCD9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068E2-1660-4208-BDDC-AB7D9743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69369-BB8A-4FBC-94F0-C5E7C466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9DA5-253F-4380-8AEC-4AF8D3EF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0BC22-60A5-40CF-B197-9D9554A1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F91E6-4B2E-4523-A538-5FBD36B3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D5A12-DEB5-4C4E-BC69-8FB26D86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3AA22-F5D7-4CC6-857F-BCBF2BC5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FE3-41B1-4595-A2A7-4C928AD4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C5ACE-249B-4081-8133-79A7D61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52DB7-AB39-4A76-9A2E-04D0916E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5C5B1-D3BF-4F53-9322-F3F0FA0B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42FD4-1197-4C87-845F-FDAB41DA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3CD18-8A14-42E5-AFE5-E3103AA8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9BAC9-D09B-4B7C-8A74-1551E506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23CE0-A1FC-4AFB-A129-2F69E8B9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0AF63-7DC3-41E5-B63D-EB554E85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49AF0-4145-4996-B153-BA9D75AF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57899-EA86-4B9C-BBA3-FE5D8B98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6AD-95CF-45D9-929E-0DAD19C7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CE258-F5E0-4D4A-BFED-1AA3D529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3CBC9-C1D5-4738-972E-0F41904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919B2-BBD2-4DAD-B4CC-F1690083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28A65-E4FA-4C1A-85A2-C65E7197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0DF75-B376-4A4D-8054-2A3331BA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D8359-E14D-4EE6-AC2D-14FF388F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ADDAB-13AC-4EB4-A8CA-9C692B3D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3014-ADB3-46AD-BA93-D128C51D3A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EF93-0F5C-4A9A-92CF-6A868C952C1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7327-7A8C-46A8-A3F6-53D46B8FC7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CA2F-436A-45E0-8719-B50162B7AA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FADF-4930-43CD-8C12-CD4E59B4BA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11AF-DB49-4768-921E-D578070B41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CFC7-2A14-4A32-98E3-A67A38C1D6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E0A7-8759-4FB8-ABE3-2A5C5AAF222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:\Documents and Settings\Admin\Рабочий стол\Рисунок1.jpg"/>
          <p:cNvPicPr/>
          <p:nvPr/>
        </p:nvPicPr>
        <p:blipFill>
          <a:blip r:embed="rId1"/>
          <a:srcRect l="397" t="0" r="-393" b="13574"/>
          <a:stretch/>
        </p:blipFill>
        <p:spPr>
          <a:xfrm>
            <a:off x="0" y="149868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6"/>
          <p:cNvSpPr/>
          <p:nvPr/>
        </p:nvSpPr>
        <p:spPr>
          <a:xfrm>
            <a:off x="108000" y="28083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Фюзеля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6691320" y="2558880"/>
            <a:ext cx="17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6192720" y="4692600"/>
            <a:ext cx="25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Пропел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9"/>
          <p:cNvSpPr/>
          <p:nvPr/>
        </p:nvSpPr>
        <p:spPr>
          <a:xfrm>
            <a:off x="1322280" y="131436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инт с лопа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0"/>
          <p:cNvSpPr/>
          <p:nvPr/>
        </p:nvSpPr>
        <p:spPr>
          <a:xfrm>
            <a:off x="2571840" y="624204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Шас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"/>
          <p:cNvSpPr/>
          <p:nvPr/>
        </p:nvSpPr>
        <p:spPr>
          <a:xfrm>
            <a:off x="2415600" y="163440"/>
            <a:ext cx="42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ертолёт «Мух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3680" y="1191960"/>
            <a:ext cx="85010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10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Разметка.</a:t>
            </a:r>
            <a:r>
              <a:rPr b="1" lang="ru-RU" sz="40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о шаблонам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Раскрой.</a:t>
            </a:r>
            <a:r>
              <a:rPr b="1" lang="ru-RU" sz="40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Вырезать ножницами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 размеченные детали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Сборка.</a:t>
            </a:r>
            <a:r>
              <a:rPr b="1" lang="ru-RU" sz="40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 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Сборка вертолёта проходит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о плану с помощью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учител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a2bf"/>
                </a:solidFill>
                <a:latin typeface="Lucida Sans Unicode"/>
                <a:ea typeface="Calibri"/>
              </a:rPr>
              <a:t>Отделка.</a:t>
            </a:r>
            <a:r>
              <a:rPr b="1" lang="ru-RU" sz="4000" spc="-1" strike="noStrike">
                <a:solidFill>
                  <a:srgbClr val="2da2bf"/>
                </a:solidFill>
                <a:latin typeface="Lucida Sans Unicode"/>
                <a:ea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457200" y="-55440"/>
            <a:ext cx="82422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Объект 3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749840" cy="35625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1" name="Объект 3" descr=""/>
          <p:cNvPicPr/>
          <p:nvPr/>
        </p:nvPicPr>
        <p:blipFill>
          <a:blip r:embed="rId2"/>
          <a:srcRect l="4314" t="7314" r="0" b="0"/>
          <a:stretch/>
        </p:blipFill>
        <p:spPr>
          <a:xfrm>
            <a:off x="4500720" y="3500280"/>
            <a:ext cx="4105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3680" y="1191960"/>
            <a:ext cx="85010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10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Разметка.</a:t>
            </a:r>
            <a:r>
              <a:rPr b="1" lang="ru-RU" sz="40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о шаблонам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Раскрой.</a:t>
            </a:r>
            <a:r>
              <a:rPr b="1" lang="ru-RU" sz="40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Вырезать ножницами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     размеченные детали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Сборка.</a:t>
            </a:r>
            <a:r>
              <a:rPr b="1" lang="ru-RU" sz="4000" spc="-1" strike="noStrike">
                <a:solidFill>
                  <a:srgbClr val="2da2bf"/>
                </a:solidFill>
                <a:latin typeface="Lucida Sans Unicode"/>
                <a:ea typeface="Times New Roman"/>
              </a:rPr>
              <a:t> 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Сборка вертолёта проходит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о плану с помощью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учител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a2bf"/>
                </a:solidFill>
                <a:latin typeface="Lucida Sans Unicode"/>
                <a:ea typeface="Calibri"/>
              </a:rPr>
              <a:t>Отделка.</a:t>
            </a:r>
            <a:r>
              <a:rPr b="1" lang="ru-RU" sz="4000" spc="-1" strike="noStrike">
                <a:solidFill>
                  <a:srgbClr val="2da2bf"/>
                </a:solidFill>
                <a:latin typeface="Lucida Sans Unicode"/>
                <a:ea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-55440"/>
            <a:ext cx="82422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Объект 5" descr=""/>
          <p:cNvPicPr/>
          <p:nvPr/>
        </p:nvPicPr>
        <p:blipFill>
          <a:blip r:embed="rId1"/>
          <a:srcRect l="4478" t="0" r="5709" b="20038"/>
          <a:stretch/>
        </p:blipFill>
        <p:spPr>
          <a:xfrm>
            <a:off x="25560" y="725400"/>
            <a:ext cx="9092880" cy="6153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4:24:12Z</dcterms:created>
  <dc:creator>Мама</dc:creator>
  <dc:description/>
  <dc:language>en-US</dc:language>
  <cp:lastModifiedBy>Ефимка</cp:lastModifiedBy>
  <dcterms:modified xsi:type="dcterms:W3CDTF">2020-04-07T18:46:35Z</dcterms:modified>
  <cp:revision>35</cp:revision>
  <dc:subject/>
  <dc:title>Вертолет – это удивительный воздушный транспорт. Вертолет перевозит людей и грузы.</dc:title>
</cp:coreProperties>
</file>