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D28-151C-4A26-A155-ADB25F64A5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B3DE-6327-4437-9EDB-68AF640E5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597-6A3E-417C-ACB2-A82AE453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3AC-2F00-408B-B46C-01AA4A4E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91040-4270-4F3D-AA17-026E39E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2727-CC02-49B4-BA1C-B8050BCC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7E508-E100-4262-ACA0-1997794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0F6CD-0949-4CF5-99F7-F685E79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EC915-94BC-4B4A-9616-C727FEDD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85489-5329-4C27-A53E-FAB03B8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5C44-96B7-4728-97CB-22C58DA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61FC-18DE-46FC-814D-9F574EAC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0DB17-904D-43B1-87C6-2DB67FC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89A17-A374-40EC-A6DA-78E16509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DD8-ACF7-4875-A707-F8371BA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74BBD-C161-4875-9C55-CB2AE06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76085-A2B9-4F48-A3E4-26FC930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6EAC7-128A-40E9-9B8E-6866197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8C73D-FB66-4273-B63C-C1B7F7C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C6100-67D0-41C6-AE46-1FBC6CA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ADBAB-8B61-473D-A903-29D1AE7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9862-48E9-4974-80F3-A5967A2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04E3A-D24C-4630-B01E-DE3B7CF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E24B4-01EA-4B3F-A429-50156618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79067-B3BE-4FCB-B74C-0950594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9D2-9FC0-422D-A645-787F6BB3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A4E86-67D2-472B-8EFE-F47538DC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00FF7-73B5-40E3-B5BE-D898C21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80C50-05C5-41DE-BD7B-90698D5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85AA-7CE8-4950-ACE3-267CEA76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60275-83A8-47BA-B9F7-F4AE116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6508A-C21B-4111-AA59-5845588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876DF-088E-4F3D-8C11-4E228E7F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D51A-0F46-442A-A21B-D742E03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551D4-4922-4371-938C-AC1409D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3C993-DD7D-4D30-B035-6BFEB00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0232-0198-4301-9033-FAEF91E4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5BB64-7103-4B72-ACB8-75DFF96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1C7EE-44F4-47A3-B6AA-C18EEF2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BA062-7C31-47F5-8E12-7FFE8770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3ADAE-6714-4ED1-82D6-8975D3EA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043E3-6883-4D6D-8065-497F68EE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9BB89-74E3-4916-867D-F2077982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823C-6DD4-4965-880E-58F5E8AA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450F7-4C05-4F20-831F-0BCF898A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B1BB7-945B-4970-B394-4E0E521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9E325-432F-4132-9EC1-6843F33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C24C-5C66-4D4E-9373-F59014F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6DC1F-19E3-4ED8-BFE3-F0A96A0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4F15-3AAC-44F5-940D-4E20616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4700A-879C-4B93-B249-5F9FE24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0DDDA-CA7A-4271-A738-2F7305D2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7FC5B-B874-458B-AC24-1C3132EC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7DD-3E2E-48E4-85DC-A06938A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417E-9BC1-4009-A86D-543915F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ACB-8086-4FDC-AED8-C1D6F8E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071-613C-41BE-9748-03A82153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30BC-1C0F-42E1-9AD0-C0C07D9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5BE-AA91-4687-8E2E-48E8CBD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2493-2F93-4715-9AE8-52EB689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580-8740-452D-8398-6AC1175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EA7A-0BAB-425A-BCF2-B834C485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4258-B107-484C-B36E-936CB8AF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6E03-93C7-4806-A31C-5565A641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5A83-0EEF-45EA-B725-C9D0AF1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5DCA-5465-47AD-A3B4-CCFD00EF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A990-6F4D-4234-A344-FEDD5CD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31B5-B79A-46DC-85F2-CE322327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3445-6B48-4D78-96F4-47C3D0B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061-02D6-4B7C-8DBA-2D142BB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6C28-F3F3-4757-A519-6475E292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18E7-5740-44B6-A1F9-B4DD5AA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ECEE-0E86-4949-B572-B382AC4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E58E-D5AD-4D17-ABB3-3FC316E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BD39-5B6D-43F9-BC63-CB1B930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F5FA-37AC-438D-B952-A5794530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A147-3D9B-4D04-BD44-61803145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697F-5269-4F0B-8E6A-ED03F4C6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B850-175B-4DE4-8ED9-8F05BF68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79549-EF0C-4722-B5FF-DD72C2F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BC0-3140-48C1-A8E9-5124667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3FEA-CF19-455D-AFBB-EB006F1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C5C2-A520-4D3E-83FC-5AE19DE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E664-815E-402C-939D-9DC26E9D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743B-0903-4225-9ACE-F119101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EFD03-9360-422B-B8CA-6DDA5E52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A576-BDCA-43F9-9B48-37844B1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B830-0245-45AD-B99C-CC003A1F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7631-6F9E-43DE-B0C8-4334CD0E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E912-1583-4AFD-BE39-6EE9AD1C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7CAD-A069-47A4-8A6F-0E787495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E66-CBF0-48C1-BF7E-EE5D1B1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68D4-07BB-4F4D-ADC6-C788992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A1B60-8176-4815-94E5-3B6C1382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4E55-7EDF-4FFD-BB8D-62CEA80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1265-FB13-4E25-853B-C0AEA90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A05F-1CD8-48DE-9556-94054995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32F5-DC19-4287-8B40-46F1F40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096D-E881-412F-8DE0-2150932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0B5B-CC4A-49C1-852E-3C4FF6F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DA51-EF8E-4D1E-9657-64C2F35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17AB-1A21-4A58-B228-CEC0600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84C-7756-4836-9811-59231F87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A712-93C0-4E02-B332-064D7CBF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C8F3-8AEF-4864-904D-F23E8CBF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7A50-CBD7-424B-9413-45B3984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C29D-099F-49BF-B5D6-711071F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BC8C5-C4AF-4A91-A14B-EB5F2CCF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5EF1-FE4E-481E-B44E-E436924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AD77-6CB2-4457-99C7-BB0B51FD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B2AE-49BF-48A6-81FE-0BB42DD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A966-425F-4B03-9358-275BC8D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AEC5-54A1-4450-9DEC-75889F7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C82-1FDF-41B8-B479-35A47E9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B79E1-D815-404C-8142-78D7AFF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5139-91D4-4458-899C-84A1F23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4151-E63B-45D5-89AE-AA503526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133C-565E-402E-ADF5-D7EFE6B3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4854-0DBF-44BA-9D34-302DB8D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D7A7-14EF-4415-9BC7-1D34C37C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5B2E-4799-4031-9974-B828FEA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0CA7-DCF1-42FD-A58A-01FF19D5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356F-180B-4305-9900-17C7A63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60D70-E78D-490A-A0E9-3D39416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52A-48DB-4F83-AB88-5FC89D8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998A-A836-4BB6-B8FD-0122F86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E762-8342-452E-ADE3-6E4CDDA2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9A40-8EBB-4C17-9815-2E3C46D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EA75-204F-4696-918E-CBE9E1EC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6AB8-3E78-42F9-B2DB-93DCFD95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1BAC5-A4E9-4ABA-AFF6-E7AAF405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6B0C-CDBE-457F-B4FC-C5BABB9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02289-2DF2-46DB-A20C-E8AB07D2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3418-2219-4F41-94D5-F80FE140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5BF2F-2E31-4FE6-8A14-11210550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0BE-2B90-4D33-B350-07785C73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E410-D22C-4F23-AAE1-C95499F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A7ECE-B292-4D3F-B04F-C025950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05E5-B8C5-45E3-AA38-D9F2E3C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9B705-AC08-4A0D-B551-EB8B7A2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34B12-74CF-4CBD-B165-007B85C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19A69-3FA1-40C8-B663-C9E66D13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FAF1-E295-4967-BC7F-19070197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89C12-E1DC-4786-A566-817B4161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14676-CCF6-439F-9985-7BFF316C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53CC-22B1-435E-8A1D-951AF5B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A8C-2427-4656-9BFC-F21998EBD7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B63-BFEF-4496-B114-4301B0D9C8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5DB0-EDAC-46E6-AC3E-2285DBCF45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1FA-5050-4A5F-BC9D-513B68A702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0CF-18AE-4DB4-BE49-7BD97F06C7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98DD-3ED9-49DC-BAA1-60AD7649BD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E5F-7AC2-4B70-8B2A-EEF44E7CD9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095-C73E-402C-8EC4-A4A8A57C36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425-1D10-4DBE-9584-49C4740D04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1698-C31C-41DA-ADC1-1706225C8E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3106-F98A-49E0-BF23-5C2423158C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035-84F5-4A56-A5E2-8E0BA0E7C8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2" descr="C:\Documents and Settings\Admin\Рабочий стол\Новая папка (2)\qq.gif"/>
          <p:cNvPicPr/>
          <p:nvPr/>
        </p:nvPicPr>
        <p:blipFill>
          <a:blip r:embed="rId1"/>
          <a:stretch/>
        </p:blipFill>
        <p:spPr>
          <a:xfrm>
            <a:off x="785880" y="3571920"/>
            <a:ext cx="1506600" cy="2214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:\Documents and Settings\Admin\Рабочий стол\Новая папка (2)\Безимени-2.gif"/>
          <p:cNvPicPr/>
          <p:nvPr/>
        </p:nvPicPr>
        <p:blipFill>
          <a:blip r:embed="rId2"/>
          <a:stretch/>
        </p:blipFill>
        <p:spPr>
          <a:xfrm>
            <a:off x="7000920" y="3714840"/>
            <a:ext cx="1504800" cy="20714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C:\Documents and Settings\Admin\Рабочий стол\Новая папка (2)\v1.gif"/>
          <p:cNvPicPr/>
          <p:nvPr/>
        </p:nvPicPr>
        <p:blipFill>
          <a:blip r:embed="rId3"/>
          <a:stretch/>
        </p:blipFill>
        <p:spPr>
          <a:xfrm>
            <a:off x="3429000" y="4214880"/>
            <a:ext cx="2454120" cy="2428920"/>
          </a:xfrm>
          <a:prstGeom prst="rect">
            <a:avLst/>
          </a:prstGeom>
          <a:ln w="0">
            <a:noFill/>
          </a:ln>
        </p:spPr>
      </p:pic>
      <p:sp>
        <p:nvSpPr>
          <p:cNvPr id="502" name="Управляющая кнопка: настраиваемая 7"/>
          <p:cNvSpPr/>
          <p:nvPr/>
        </p:nvSpPr>
        <p:spPr>
          <a:xfrm rot="19344000">
            <a:off x="720360" y="2435040"/>
            <a:ext cx="746280" cy="745920"/>
          </a:xfrm>
          <a:custGeom>
            <a:avLst/>
            <a:gdLst>
              <a:gd name="textAreaLeft" fmla="*/ 48240 w 746280"/>
              <a:gd name="textAreaRight" fmla="*/ 698040 w 74628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Управляющая кнопка: настраиваемая 10"/>
          <p:cNvSpPr/>
          <p:nvPr/>
        </p:nvSpPr>
        <p:spPr>
          <a:xfrm>
            <a:off x="6014880" y="3198960"/>
            <a:ext cx="744840" cy="74592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Управляющая кнопка: настраиваемая 11"/>
          <p:cNvSpPr/>
          <p:nvPr/>
        </p:nvSpPr>
        <p:spPr>
          <a:xfrm>
            <a:off x="2417760" y="3056040"/>
            <a:ext cx="744480" cy="745920"/>
          </a:xfrm>
          <a:custGeom>
            <a:avLst/>
            <a:gdLst>
              <a:gd name="textAreaLeft" fmla="*/ 48240 w 744480"/>
              <a:gd name="textAreaRight" fmla="*/ 696240 w 744480"/>
              <a:gd name="textAreaTop" fmla="*/ 48240 h 745920"/>
              <a:gd name="textAreaBottom" fmla="*/ 697680 h 745920"/>
            </a:gdLst>
            <a:ahLst/>
            <a:rect l="textAreaLeft" t="textAreaTop" r="textAreaRight" b="textAreaBottom"/>
            <a:pathLst>
              <a:path w="21600" h="21642">
                <a:moveTo>
                  <a:pt x="0" y="0"/>
                </a:moveTo>
                <a:lnTo>
                  <a:pt x="21600" y="0"/>
                </a:lnTo>
                <a:lnTo>
                  <a:pt x="21600" y="21642"/>
                </a:lnTo>
                <a:lnTo>
                  <a:pt x="0" y="21642"/>
                </a:lnTo>
                <a:close/>
              </a:path>
              <a:path fill="lightenLess" w="21600" h="21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2">
                <a:moveTo>
                  <a:pt x="21600" y="0"/>
                </a:moveTo>
                <a:lnTo>
                  <a:pt x="21600" y="21642"/>
                </a:lnTo>
                <a:lnTo>
                  <a:pt x="20200" y="20242"/>
                </a:lnTo>
                <a:lnTo>
                  <a:pt x="20200" y="1400"/>
                </a:lnTo>
                <a:close/>
              </a:path>
              <a:path fill="darkenLess" w="21600" h="21642">
                <a:moveTo>
                  <a:pt x="21600" y="21642"/>
                </a:moveTo>
                <a:lnTo>
                  <a:pt x="0" y="21642"/>
                </a:lnTo>
                <a:lnTo>
                  <a:pt x="1400" y="20242"/>
                </a:lnTo>
                <a:lnTo>
                  <a:pt x="20200" y="20242"/>
                </a:lnTo>
                <a:close/>
              </a:path>
              <a:path fill="lighten" w="21600" h="21642">
                <a:moveTo>
                  <a:pt x="0" y="21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2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Управляющая кнопка: настраиваемая 12"/>
          <p:cNvSpPr/>
          <p:nvPr/>
        </p:nvSpPr>
        <p:spPr>
          <a:xfrm rot="1723800">
            <a:off x="7633800" y="2490480"/>
            <a:ext cx="744840" cy="74448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ЁЛЫЙ УРОК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Управляющая кнопка: настраиваемая 13"/>
          <p:cNvSpPr/>
          <p:nvPr/>
        </p:nvSpPr>
        <p:spPr>
          <a:xfrm>
            <a:off x="4282920" y="2801880"/>
            <a:ext cx="744840" cy="744480"/>
          </a:xfrm>
          <a:custGeom>
            <a:avLst/>
            <a:gdLst>
              <a:gd name="textAreaLeft" fmla="*/ 48240 w 744840"/>
              <a:gd name="textAreaRight" fmla="*/ 696600 w 74484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dissolve/>
    <p:sndAc>
      <p:stSnd>
        <p:snd r:embed="rId4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Скругленный прямоугольник 18"/>
          <p:cNvSpPr/>
          <p:nvPr/>
        </p:nvSpPr>
        <p:spPr>
          <a:xfrm>
            <a:off x="571680" y="1488960"/>
            <a:ext cx="8143560" cy="48578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681120" y="39225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650000" y="19843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062840" y="530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851040" y="15127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C:\Documents and Settings\Admin\Рабочий стол\Новая папка (2)\Безимени-2.gif"/>
          <p:cNvPicPr/>
          <p:nvPr/>
        </p:nvPicPr>
        <p:blipFill>
          <a:blip r:embed="rId5"/>
          <a:stretch/>
        </p:blipFill>
        <p:spPr>
          <a:xfrm>
            <a:off x="1434960" y="4527720"/>
            <a:ext cx="1219320" cy="1679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C:\Documents and Settings\Admin\Рабочий стол\Новая папка (2)\Безимени-2.gif"/>
          <p:cNvPicPr/>
          <p:nvPr/>
        </p:nvPicPr>
        <p:blipFill>
          <a:blip r:embed="rId6"/>
          <a:stretch/>
        </p:blipFill>
        <p:spPr>
          <a:xfrm>
            <a:off x="1214280" y="2133720"/>
            <a:ext cx="1295640" cy="1784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C:\Documents and Settings\Admin\Рабочий стол\Новая папка (2)\Безимени-2.gif"/>
          <p:cNvPicPr/>
          <p:nvPr/>
        </p:nvPicPr>
        <p:blipFill>
          <a:blip r:embed="rId7"/>
          <a:stretch/>
        </p:blipFill>
        <p:spPr>
          <a:xfrm>
            <a:off x="2987640" y="3321000"/>
            <a:ext cx="1298520" cy="17874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681120" y="691920"/>
            <a:ext cx="7851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 БОЛЬШЕ?      КОГО МЕНЬШ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2" name="Picture 18" descr=""/>
          <p:cNvPicPr/>
          <p:nvPr/>
        </p:nvPicPr>
        <p:blipFill>
          <a:blip r:embed="rId8"/>
          <a:stretch/>
        </p:blipFill>
        <p:spPr>
          <a:xfrm>
            <a:off x="4830840" y="2924280"/>
            <a:ext cx="2828880" cy="221940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Скругленный прямоугольник 18"/>
          <p:cNvSpPr/>
          <p:nvPr/>
        </p:nvSpPr>
        <p:spPr>
          <a:xfrm>
            <a:off x="571680" y="1677960"/>
            <a:ext cx="8143560" cy="48466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650000" y="53751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13760" y="217188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206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C:\Documents and Settings\Admin\Рабочий стол\Даня\Безимени-6.gif"/>
          <p:cNvPicPr/>
          <p:nvPr/>
        </p:nvPicPr>
        <p:blipFill>
          <a:blip r:embed="rId5"/>
          <a:stretch/>
        </p:blipFill>
        <p:spPr>
          <a:xfrm>
            <a:off x="1798560" y="2374920"/>
            <a:ext cx="1503360" cy="1177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C:\Documents and Settings\Admin\Рабочий стол\Даня\Безимени-6.gif"/>
          <p:cNvPicPr/>
          <p:nvPr/>
        </p:nvPicPr>
        <p:blipFill>
          <a:blip r:embed="rId6"/>
          <a:stretch/>
        </p:blipFill>
        <p:spPr>
          <a:xfrm>
            <a:off x="1814400" y="4799160"/>
            <a:ext cx="1471680" cy="1152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"/>
          <p:cNvPicPr/>
          <p:nvPr/>
        </p:nvPicPr>
        <p:blipFill>
          <a:blip r:embed="rId7"/>
          <a:stretch/>
        </p:blipFill>
        <p:spPr>
          <a:xfrm>
            <a:off x="5268960" y="1916280"/>
            <a:ext cx="1260360" cy="1699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8" descr=""/>
          <p:cNvPicPr/>
          <p:nvPr/>
        </p:nvPicPr>
        <p:blipFill>
          <a:blip r:embed="rId8"/>
          <a:stretch/>
        </p:blipFill>
        <p:spPr>
          <a:xfrm>
            <a:off x="4643280" y="4329000"/>
            <a:ext cx="1256040" cy="1700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9"/>
          <a:stretch/>
        </p:blipFill>
        <p:spPr>
          <a:xfrm>
            <a:off x="6686640" y="3490920"/>
            <a:ext cx="1255680" cy="17002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1"/>
          <p:cNvSpPr/>
          <p:nvPr/>
        </p:nvSpPr>
        <p:spPr>
          <a:xfrm>
            <a:off x="1214280" y="765000"/>
            <a:ext cx="73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ГО БОЛЬШЕ?     КОГО МЕНЬШ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dissolve/>
    <p:sndAc>
      <p:stSnd>
        <p:snd r:embed="rId10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ТУЧКА.mp3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85" name="TextBox 2"/>
          <p:cNvSpPr/>
          <p:nvPr/>
        </p:nvSpPr>
        <p:spPr>
          <a:xfrm>
            <a:off x="900000" y="836640"/>
            <a:ext cx="7559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ТЕПЕ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ТАНЦУЕМ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Рисунок 8" descr=""/>
          <p:cNvPicPr/>
          <p:nvPr/>
        </p:nvPicPr>
        <p:blipFill>
          <a:blip r:embed="rId2"/>
          <a:stretch/>
        </p:blipFill>
        <p:spPr>
          <a:xfrm>
            <a:off x="3348000" y="4205160"/>
            <a:ext cx="3121200" cy="2264040"/>
          </a:xfrm>
          <a:prstGeom prst="rect">
            <a:avLst/>
          </a:prstGeom>
          <a:ln w="0">
            <a:noFill/>
          </a:ln>
        </p:spPr>
      </p:pic>
    </p:spTree>
  </p:cSld>
  <p:transition advTm="117000">
    <p:dissolve/>
    <p:sndAc>
      <p:stSnd>
        <p:snd r:embed="rId3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07593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УСТАЛИ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539640" y="227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ОТДОХНИТЕ НЕМНОГО И СДЕЛАЙТЕ ИЗ СЧЕТНЫХ ПАЛОЧЕК ИЛИ КАРАНДАШЕЙ ЛЮБУЮ ФИГУРУ, КОТОРАЯ ВАМ ПОНРАВИЛА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трелка вниз 4"/>
          <p:cNvSpPr/>
          <p:nvPr/>
        </p:nvSpPr>
        <p:spPr>
          <a:xfrm>
            <a:off x="4221000" y="5492880"/>
            <a:ext cx="486000" cy="977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Рисунок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5720" cy="148428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1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556320" cy="4613400"/>
          </a:xfrm>
          <a:prstGeom prst="rect">
            <a:avLst/>
          </a:prstGeom>
          <a:ln w="0">
            <a:noFill/>
          </a:ln>
        </p:spPr>
      </p:pic>
    </p:spTree>
  </p:cSld>
  <p:transition advTm="22000">
    <p:dissolv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9600" spc="-1" strike="noStrike">
              <a:solidFill>
                <a:srgbClr val="3345ed"/>
              </a:solidFill>
              <a:latin typeface="Calibri"/>
            </a:endParaRPr>
          </a:p>
        </p:txBody>
      </p:sp>
      <p:pic>
        <p:nvPicPr>
          <p:cNvPr id="595" name="Рисунок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96160" cy="652464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22160" y="549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ПОСЧИТАЕМ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0" name="Рисунок 3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2575080" cy="33354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Скругленный прямоугольник 18"/>
          <p:cNvSpPr/>
          <p:nvPr/>
        </p:nvSpPr>
        <p:spPr>
          <a:xfrm>
            <a:off x="571680" y="189000"/>
            <a:ext cx="8143560" cy="6264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516" name="Управляющая кнопка: настраиваемая 14"/>
          <p:cNvSpPr/>
          <p:nvPr/>
        </p:nvSpPr>
        <p:spPr>
          <a:xfrm>
            <a:off x="3770280" y="4629240"/>
            <a:ext cx="1746360" cy="1276200"/>
          </a:xfrm>
          <a:custGeom>
            <a:avLst/>
            <a:gdLst>
              <a:gd name="textAreaLeft" fmla="*/ 82440 w 1746360"/>
              <a:gd name="textAreaRight" fmla="*/ 1663920 w 1746360"/>
              <a:gd name="textAreaTop" fmla="*/ 82440 h 1276200"/>
              <a:gd name="textAreaBottom" fmla="*/ 1193760 h 127620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2" descr="C:\Documents and Settings\Admin\Рабочий стол\Даня\Безимени-6.gif"/>
          <p:cNvPicPr/>
          <p:nvPr/>
        </p:nvPicPr>
        <p:blipFill>
          <a:blip r:embed="rId5"/>
          <a:stretch/>
        </p:blipFill>
        <p:spPr>
          <a:xfrm>
            <a:off x="2124000" y="906480"/>
            <a:ext cx="4038840" cy="316548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20"/>
          <p:cNvSpPr/>
          <p:nvPr/>
        </p:nvSpPr>
        <p:spPr>
          <a:xfrm>
            <a:off x="571680" y="500040"/>
            <a:ext cx="8143560" cy="57373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E:\Мои документы\Рисунки\Клипарты без фона\Тачки\6.png"/>
          <p:cNvPicPr/>
          <p:nvPr/>
        </p:nvPicPr>
        <p:blipFill>
          <a:blip r:embed="rId5"/>
          <a:stretch/>
        </p:blipFill>
        <p:spPr>
          <a:xfrm>
            <a:off x="711360" y="1413000"/>
            <a:ext cx="3821040" cy="2087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E:\Мои документы\Рисунки\Клипарты без фона\Тачки\1.png"/>
          <p:cNvPicPr/>
          <p:nvPr/>
        </p:nvPicPr>
        <p:blipFill>
          <a:blip r:embed="rId6"/>
          <a:stretch/>
        </p:blipFill>
        <p:spPr>
          <a:xfrm>
            <a:off x="5224320" y="1512720"/>
            <a:ext cx="3427560" cy="2157480"/>
          </a:xfrm>
          <a:prstGeom prst="rect">
            <a:avLst/>
          </a:prstGeom>
          <a:ln w="0">
            <a:noFill/>
          </a:ln>
        </p:spPr>
      </p:pic>
      <p:sp>
        <p:nvSpPr>
          <p:cNvPr id="525" name="Управляющая кнопка: настраиваемая 15"/>
          <p:cNvSpPr/>
          <p:nvPr/>
        </p:nvSpPr>
        <p:spPr>
          <a:xfrm>
            <a:off x="4135320" y="4834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dissolve/>
    <p:sndAc>
      <p:stSnd>
        <p:snd r:embed="rId7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Скругленный прямоугольник 35"/>
          <p:cNvSpPr/>
          <p:nvPr/>
        </p:nvSpPr>
        <p:spPr>
          <a:xfrm>
            <a:off x="571680" y="428760"/>
            <a:ext cx="8143560" cy="61689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настраиваемая 16">
            <a:hlinkClick r:id="" action="ppaction://hlinkshowjump?jump=nextslide"/>
          </p:cNvPr>
          <p:cNvSpPr/>
          <p:nvPr/>
        </p:nvSpPr>
        <p:spPr>
          <a:xfrm>
            <a:off x="3936960" y="4780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2" descr="C:\Documents and Settings\Admin\Рабочий стол\Новая папка (2)\qq.gif"/>
          <p:cNvPicPr/>
          <p:nvPr/>
        </p:nvPicPr>
        <p:blipFill>
          <a:blip r:embed="rId5"/>
          <a:stretch/>
        </p:blipFill>
        <p:spPr>
          <a:xfrm>
            <a:off x="1500120" y="1500120"/>
            <a:ext cx="1797120" cy="26431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C:\Documents and Settings\Admin\Рабочий стол\Новая папка (2)\qq.gif"/>
          <p:cNvPicPr/>
          <p:nvPr/>
        </p:nvPicPr>
        <p:blipFill>
          <a:blip r:embed="rId6"/>
          <a:stretch/>
        </p:blipFill>
        <p:spPr>
          <a:xfrm>
            <a:off x="3786120" y="857160"/>
            <a:ext cx="1797120" cy="2643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C:\Documents and Settings\Admin\Рабочий стол\Новая папка (2)\qq.gif"/>
          <p:cNvPicPr/>
          <p:nvPr/>
        </p:nvPicPr>
        <p:blipFill>
          <a:blip r:embed="rId7"/>
          <a:stretch/>
        </p:blipFill>
        <p:spPr>
          <a:xfrm>
            <a:off x="5954760" y="1571760"/>
            <a:ext cx="1797120" cy="264312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  <p:sndAc>
      <p:stSnd>
        <p:snd r:embed="rId8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Скругленный прямоугольник 23"/>
          <p:cNvSpPr/>
          <p:nvPr/>
        </p:nvSpPr>
        <p:spPr>
          <a:xfrm>
            <a:off x="571680" y="428760"/>
            <a:ext cx="8143560" cy="6095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E:\Мои документы\Рисунки\Клипарты без фона\Клепарты\пчела.png"/>
          <p:cNvPicPr/>
          <p:nvPr/>
        </p:nvPicPr>
        <p:blipFill>
          <a:blip r:embed="rId5"/>
          <a:stretch/>
        </p:blipFill>
        <p:spPr>
          <a:xfrm>
            <a:off x="2786040" y="1357200"/>
            <a:ext cx="1866960" cy="1785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E:\Мои документы\Рисунки\Клипарты без фона\Клепарты\пчела.png"/>
          <p:cNvPicPr/>
          <p:nvPr/>
        </p:nvPicPr>
        <p:blipFill>
          <a:blip r:embed="rId6"/>
          <a:stretch/>
        </p:blipFill>
        <p:spPr>
          <a:xfrm>
            <a:off x="4572000" y="1357200"/>
            <a:ext cx="1866960" cy="17859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E:\Мои документы\Рисунки\Клипарты без фона\Клепарты\пчела.png"/>
          <p:cNvPicPr/>
          <p:nvPr/>
        </p:nvPicPr>
        <p:blipFill>
          <a:blip r:embed="rId7"/>
          <a:stretch/>
        </p:blipFill>
        <p:spPr>
          <a:xfrm>
            <a:off x="6429240" y="2071800"/>
            <a:ext cx="1866960" cy="1785960"/>
          </a:xfrm>
          <a:prstGeom prst="rect">
            <a:avLst/>
          </a:prstGeom>
          <a:ln w="0">
            <a:noFill/>
          </a:ln>
        </p:spPr>
      </p:pic>
      <p:sp>
        <p:nvSpPr>
          <p:cNvPr id="543" name="Управляющая кнопка: настраиваемая 17"/>
          <p:cNvSpPr/>
          <p:nvPr/>
        </p:nvSpPr>
        <p:spPr>
          <a:xfrm>
            <a:off x="4049640" y="5079960"/>
            <a:ext cx="1044720" cy="1042920"/>
          </a:xfrm>
          <a:custGeom>
            <a:avLst/>
            <a:gdLst>
              <a:gd name="textAreaLeft" fmla="*/ 67320 w 1044720"/>
              <a:gd name="textAreaRight" fmla="*/ 977400 w 10447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E:\Мои документы\Рисунки\Клипарты без фона\Клепарты\пчела.png"/>
          <p:cNvPicPr/>
          <p:nvPr/>
        </p:nvPicPr>
        <p:blipFill>
          <a:blip r:embed="rId8"/>
          <a:stretch/>
        </p:blipFill>
        <p:spPr>
          <a:xfrm>
            <a:off x="1000080" y="2071800"/>
            <a:ext cx="2165400" cy="207144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  <p:sndAc>
      <p:stSnd>
        <p:snd r:embed="rId9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Скругленный прямоугольник 18"/>
          <p:cNvSpPr/>
          <p:nvPr/>
        </p:nvSpPr>
        <p:spPr>
          <a:xfrm>
            <a:off x="571680" y="428760"/>
            <a:ext cx="8143560" cy="60958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E:\Мои документы\Рисунки\Клипарты без фона\Цветы без фона\15.png"/>
          <p:cNvPicPr/>
          <p:nvPr/>
        </p:nvPicPr>
        <p:blipFill>
          <a:blip r:embed="rId5"/>
          <a:stretch/>
        </p:blipFill>
        <p:spPr>
          <a:xfrm>
            <a:off x="1214280" y="1643040"/>
            <a:ext cx="1868760" cy="16430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E:\Мои документы\Рисунки\Клипарты без фона\Цветы без фона\15.png"/>
          <p:cNvPicPr/>
          <p:nvPr/>
        </p:nvPicPr>
        <p:blipFill>
          <a:blip r:embed="rId6"/>
          <a:stretch/>
        </p:blipFill>
        <p:spPr>
          <a:xfrm>
            <a:off x="1857240" y="3286080"/>
            <a:ext cx="1868760" cy="1643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E:\Мои документы\Рисунки\Клипарты без фона\Цветы без фона\15.png"/>
          <p:cNvPicPr/>
          <p:nvPr/>
        </p:nvPicPr>
        <p:blipFill>
          <a:blip r:embed="rId7"/>
          <a:stretch/>
        </p:blipFill>
        <p:spPr>
          <a:xfrm>
            <a:off x="5572080" y="3214800"/>
            <a:ext cx="1868400" cy="1643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E:\Мои документы\Рисунки\Клипарты без фона\Цветы без фона\15.png"/>
          <p:cNvPicPr/>
          <p:nvPr/>
        </p:nvPicPr>
        <p:blipFill>
          <a:blip r:embed="rId8"/>
          <a:stretch/>
        </p:blipFill>
        <p:spPr>
          <a:xfrm>
            <a:off x="6357960" y="1571760"/>
            <a:ext cx="1868400" cy="1643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E:\Мои документы\Рисунки\Клипарты без фона\Цветы без фона\15.png"/>
          <p:cNvPicPr/>
          <p:nvPr/>
        </p:nvPicPr>
        <p:blipFill>
          <a:blip r:embed="rId9"/>
          <a:stretch/>
        </p:blipFill>
        <p:spPr>
          <a:xfrm>
            <a:off x="3786120" y="857160"/>
            <a:ext cx="1868400" cy="1643040"/>
          </a:xfrm>
          <a:prstGeom prst="rect">
            <a:avLst/>
          </a:prstGeom>
          <a:ln w="0">
            <a:noFill/>
          </a:ln>
        </p:spPr>
      </p:pic>
      <p:sp>
        <p:nvSpPr>
          <p:cNvPr id="555" name="Управляющая кнопка: настраиваемая 17"/>
          <p:cNvSpPr/>
          <p:nvPr/>
        </p:nvSpPr>
        <p:spPr>
          <a:xfrm>
            <a:off x="385128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6080040"/>
            <a:ext cx="227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8000">
    <p:dissolve/>
    <p:sndAc>
      <p:stSnd>
        <p:snd r:embed="rId10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Молодец!!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9" name="Picture 2" descr="C:\Program Files\Microsoft Office\MEDIA\CAGCAT10\j0216588.wmf"/>
          <p:cNvPicPr/>
          <p:nvPr/>
        </p:nvPicPr>
        <p:blipFill>
          <a:blip r:embed="rId1"/>
          <a:stretch/>
        </p:blipFill>
        <p:spPr>
          <a:xfrm>
            <a:off x="3564000" y="3933720"/>
            <a:ext cx="1609560" cy="1806840"/>
          </a:xfrm>
          <a:prstGeom prst="rect">
            <a:avLst/>
          </a:prstGeom>
          <a:ln w="0">
            <a:noFill/>
          </a:ln>
        </p:spPr>
      </p:pic>
      <p:pic>
        <p:nvPicPr>
          <p:cNvPr id="560" name="j0211966.wav" descr=""/>
          <p:cNvPicPr/>
          <p:nvPr/>
        </p:nvPicPr>
        <p:blipFill>
          <a:blip r:embed="rId2"/>
          <a:stretch/>
        </p:blipFill>
        <p:spPr>
          <a:xfrm>
            <a:off x="7236000" y="907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45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ИГРАЕМ ДАЛЬШЕ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5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7:13Z</dcterms:created>
  <dc:creator>Admin</dc:creator>
  <dc:description/>
  <dc:language>en-US</dc:language>
  <cp:lastModifiedBy>RePack by Diakov</cp:lastModifiedBy>
  <dcterms:modified xsi:type="dcterms:W3CDTF">2020-04-07T15:52:21Z</dcterms:modified>
  <cp:revision>2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60000000000010290110207f7000400038000</vt:lpwstr>
  </property>
</Properties>
</file>