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6.png" ContentType="image/png"/>
  <Override PartName="/ppt/media/image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6.jpeg" ContentType="image/jpeg"/>
  <Override PartName="/ppt/media/chimes.wav" ContentType="audio/x-wav"/>
  <Override PartName="/ppt/media/image5.gif" ContentType="image/gif"/>
  <Override PartName="/ppt/media/image8.png" ContentType="image/png"/>
  <Override PartName="/ppt/media/image1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E116-22E7-4542-9011-47D0A45F7B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C5D9-6EA7-482C-86AB-6EC30EB515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AEA-1658-4C59-B3EC-812906AD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599-FA4C-4F3C-9644-04B2DDEE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51A1E-E707-400A-B379-5FF3E1F5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0D476-0541-4F1A-957B-CD35FED7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45E61-401E-4BC4-9AD0-6E1803DB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B8DC1-89C1-4F26-8E88-95812DD0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39B94-5A77-45B5-8047-316215F4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B70FA-EE08-454E-BEB5-5013DF67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BF545-418E-4C29-90A3-BBD58C95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053E6-4E4B-4EEA-8738-C7181A17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C0789-E1FF-4626-8E70-DB4F7559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3BB8E-E157-417A-A73D-F824C03B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841-09E5-4F52-9070-C53F822C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20DF1-BBEA-44C4-86D7-CFDAB0B5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42C2C-13E9-4E18-B217-D72D36D2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E382C-FA5D-4928-9BE0-1DA58FBE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F1DCD-814B-47A6-94B2-185F420F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1ACB7-A468-4F3D-82B5-D86050BC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E5018-FD40-4BD5-8B4F-7D1BF937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42E5F-1E34-4682-BCAA-6F4C8277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43225-AD86-4201-B732-0626CB6B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97F2D-0EB4-4C38-BCD2-4AAE4C5C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0CDE3-B601-4DE1-A116-6B0C9793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5E5-4D9D-4966-81AA-D327C4CE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FBFB9-B8DF-4EB4-A0EA-26F603DF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6E5E6-2B8E-4B71-ABB6-AEC2A5A7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DFC6B-9E0E-445A-A246-F25F5065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FBACC-F25B-4A3F-8C1B-36B4DD87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DA547-C1CF-448F-BE0F-8D24F118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304EF-8BA8-4C10-B505-EB102D77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D9256-9970-4091-99FE-2D09401B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05A7B-4730-4BE7-BAAF-49582633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1A9A3-7749-49D0-AB47-2095D9F4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FF631-09B5-4950-98EE-CB8CC76E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DD1B-FF1D-4D41-9A4A-B9E09A3B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EA8AD-DB44-4C8F-9287-7A72F930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7F5D2-AE68-4B0F-A238-422F5F76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0CD2F-C4FD-4132-9F29-DA4EE5A4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5F9F5-E0FA-4CDC-8B27-7FDF7CE7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4A549-5AC8-4E9E-A081-117CAC33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CD8C2-EE43-4AD7-BD95-8671F64C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4558D-743B-4460-B8F6-3C364DCA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7E598-AF7C-4C98-A2C2-FBC1B739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0E43D-A34C-4AB2-8F72-3B0F9005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88254-5869-4CF4-9619-49CE46AB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CCAE-593E-41FA-B5A6-D6BF9ADA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55B49-F154-4B66-8350-40D0F3F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BC376-99A2-4A49-86B8-C566755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00D79-B01D-40AF-A942-AB168CB4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C0A27-1B4C-4C29-A502-66FE1081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1E46A-A131-4619-ACF0-E4A30DC1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7BB4-C9E6-4E4D-B6A3-5C034B0D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22D5-F24B-467D-97CD-AF200C47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71C8-9E1A-45E3-B5AA-471458D3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2C49-374C-43D6-8D54-CBD43F14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336C-1482-4BF5-B876-33C03BEC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C64-D8C1-41BA-95A6-798A40A9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5D78-D1C0-48AA-9D96-C427A994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FC1B-5429-4234-A347-1C546E83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EC59-5FED-463E-8FF5-BDD4AD93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F6CD-3874-48F7-AC98-C18B8E26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F072-16A8-44ED-966B-781A301B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E190-FF97-49C0-ABA2-EF57986B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C66A4-A671-4DB5-8718-27E80457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0648-C754-4A77-942A-366A3AFC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C40C-1E3D-47A4-8628-9998FF04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22DB6-7799-4764-B941-5035099A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288-BA9F-4C29-A1AE-2F23F566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D53E-97E2-4EC1-B063-1847CAB8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BB2E6-9C7E-4BC7-94BE-76736C8C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A6166-BBD2-490C-BC5B-72C29F08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08B8-81C3-4A0C-BEEB-E11CD9E2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4E4A-C650-4C73-A0AD-FE2EA9F5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EB59-7844-4F22-A753-1134DDA6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4A3D-A73E-48EA-BE88-4E5FDA41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F4694-0B6E-42D4-9D01-3D6D7086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D7B60-89EA-4822-AC06-E6960408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28275-BAF4-4154-BD0B-99F11960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2BF-3F86-42E3-AD95-451CC40C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12BC-7A07-4852-ACBC-DFA1321A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32F1A-0F71-48BF-86EF-5BCD9224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35922-1625-43AC-BC37-7B44907C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721FB-5D9E-46E5-96B2-6591A3BD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9C206-1744-4851-8D52-95A06ED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10EEB-1328-4849-8AFE-F8B776F9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8D52E-775B-4D91-ABCF-B3B07DB1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F6257-F381-426A-AA58-2AD09172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0DAF8-7219-4180-9238-7508C660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D68F3-00D9-470A-88B2-0E179A74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1C6-C35C-4892-8D55-53D1D221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D7927-76C7-40B9-B545-3DAB208C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57B04-5D7C-43DC-BCB4-2F254E2D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2E775-282C-4C0E-A6D8-C252106E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E707F-B558-476A-AAC8-349BC84E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F2D20-72DA-4A23-AF13-D0CE9BA4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49BEB-5C35-4CEC-87A5-DD9915E9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65316-9EA6-40EA-A76D-0042AC7A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A1043-7B37-43AE-A1CB-CCEC546E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A120F-253B-4F9E-BCD9-89783FC4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AE14-4698-445E-9ADD-EA718BEF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FA3-F785-427F-8E5D-13590944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17551-FD66-45C5-93FB-8DB4830C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FD553-4937-486B-BB60-FE81BF41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C0961-AB5C-4B0A-8735-B99CCAC8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F5882-F685-4D3E-8F24-A8CE7F33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76CF3-7DC3-4F3A-9B60-8D428B48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F0124-1074-4102-BE0A-9AF399A3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3F4DF-D69E-47E7-8FEC-D1F6DC30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5EA7E-9AED-4B3B-AF3D-460237EE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4A198-2920-46F0-BD0C-AEDAD398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668CF-E567-47D4-B957-9A5E8DDE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455-C73C-4CB7-BD25-0B3FBDD5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794F4-2819-4CC4-9C39-2DB78B74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4FC40-CD0F-4A45-9AE2-B3D716AC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5A068-091F-4145-B40A-308579F3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8193D-A26C-42E8-BED2-702248DC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452DE-E1E0-46B3-BBBB-D38C2008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5D1D8-794B-4966-A1FE-1F8718F2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DED39-6A6E-4B3F-81E0-70EEE870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01B9F-C89A-443E-99FC-2CCE57E0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AFB29-3360-4C11-8B67-3E80C5C0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A006D-485C-43EB-B080-C5C0149B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206-7D66-4940-B030-1C92C925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334BD-C1EF-4F0E-B674-AA8E4588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951B1-CBE9-4874-8531-F639B771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D6094-F689-41E9-BA56-A1469A2F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F6E97-7A4C-4E7A-8864-96E6FBF3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35BD7-D03C-4902-8964-25CC8467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9E4D2-AEB4-462D-8766-1D1CEFBB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FF3DE-A996-452D-8947-1AB7406F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00CD3-8431-4A4E-8748-D41B4AE4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DED8F-479A-44A8-ACA5-374E9BAC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96989-3336-4B97-9978-06F0690D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4E7-C549-465F-9326-318FD2C8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5C37A-2ADD-43D4-99FE-6B5A1ECB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B8456-4D9A-47BC-8297-B13B114A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32CE1-EDB2-495F-B594-33046DA5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9E763-53D6-44D2-8A75-D622291C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5247F-9B06-4B8E-B952-CBCCC770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30B12-2F90-4832-A64B-A8920601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C85B7-3902-4DD1-8158-047BC62A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C6DDA-0C43-4938-86AA-08F3F361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36C83-9628-45D5-9FC6-B00B7BEE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D8C19-C04E-4680-9C62-E75F0E05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CC6F-0F47-470D-A660-9B400D1D64E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E6DF-F152-4300-898A-500CE5AF116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A18D-3EDC-4F50-926B-87F08DCAE9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4B91-5CCA-4C47-941A-4478A2C5BA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F785-9A7F-442B-B43E-AEE92B5387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AD8D-60F0-4243-9A2C-F870B17E400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9B5E-769A-4477-A58D-4CAEA0F2A28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1710-5F3A-46E0-ACAF-91B83A5F2E4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47C4-53C0-4F04-9584-B0B1028C0B2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E2A3-687D-4BBF-B388-64FF2886EBF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210A-C0F6-4F8E-9A05-77F6D0CC2C7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82FB-AEE3-4441-BA36-15CE8C42D27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2" descr="C:\Documents and Settings\Admin\Рабочий стол\Новая папка (2)\qq.gif"/>
          <p:cNvPicPr/>
          <p:nvPr/>
        </p:nvPicPr>
        <p:blipFill>
          <a:blip r:embed="rId1"/>
          <a:stretch/>
        </p:blipFill>
        <p:spPr>
          <a:xfrm>
            <a:off x="785880" y="3571920"/>
            <a:ext cx="1506600" cy="2214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C:\Documents and Settings\Admin\Рабочий стол\Новая папка (2)\Безимени-2.gif"/>
          <p:cNvPicPr/>
          <p:nvPr/>
        </p:nvPicPr>
        <p:blipFill>
          <a:blip r:embed="rId2"/>
          <a:stretch/>
        </p:blipFill>
        <p:spPr>
          <a:xfrm>
            <a:off x="7000920" y="3714840"/>
            <a:ext cx="1504800" cy="20714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5" descr="C:\Documents and Settings\Admin\Рабочий стол\Новая папка (2)\v1.gif"/>
          <p:cNvPicPr/>
          <p:nvPr/>
        </p:nvPicPr>
        <p:blipFill>
          <a:blip r:embed="rId3"/>
          <a:stretch/>
        </p:blipFill>
        <p:spPr>
          <a:xfrm>
            <a:off x="3429000" y="4214880"/>
            <a:ext cx="2454120" cy="2428920"/>
          </a:xfrm>
          <a:prstGeom prst="rect">
            <a:avLst/>
          </a:prstGeom>
          <a:ln w="0">
            <a:noFill/>
          </a:ln>
        </p:spPr>
      </p:pic>
      <p:sp>
        <p:nvSpPr>
          <p:cNvPr id="502" name="Управляющая кнопка: настраиваемая 7"/>
          <p:cNvSpPr/>
          <p:nvPr/>
        </p:nvSpPr>
        <p:spPr>
          <a:xfrm rot="19344000">
            <a:off x="720360" y="2435040"/>
            <a:ext cx="746280" cy="745920"/>
          </a:xfrm>
          <a:custGeom>
            <a:avLst/>
            <a:gdLst>
              <a:gd name="textAreaLeft" fmla="*/ 48240 w 746280"/>
              <a:gd name="textAreaRight" fmla="*/ 698040 w 746280"/>
              <a:gd name="textAreaTop" fmla="*/ 48240 h 745920"/>
              <a:gd name="textAreaBottom" fmla="*/ 697680 h 74592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Управляющая кнопка: настраиваемая 10"/>
          <p:cNvSpPr/>
          <p:nvPr/>
        </p:nvSpPr>
        <p:spPr>
          <a:xfrm>
            <a:off x="6014880" y="3198960"/>
            <a:ext cx="744840" cy="745920"/>
          </a:xfrm>
          <a:custGeom>
            <a:avLst/>
            <a:gdLst>
              <a:gd name="textAreaLeft" fmla="*/ 48240 w 744840"/>
              <a:gd name="textAreaRight" fmla="*/ 696600 w 744840"/>
              <a:gd name="textAreaTop" fmla="*/ 48240 h 745920"/>
              <a:gd name="textAreaBottom" fmla="*/ 697680 h 7459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Управляющая кнопка: настраиваемая 11"/>
          <p:cNvSpPr/>
          <p:nvPr/>
        </p:nvSpPr>
        <p:spPr>
          <a:xfrm>
            <a:off x="2417760" y="3056040"/>
            <a:ext cx="744480" cy="745920"/>
          </a:xfrm>
          <a:custGeom>
            <a:avLst/>
            <a:gdLst>
              <a:gd name="textAreaLeft" fmla="*/ 48240 w 744480"/>
              <a:gd name="textAreaRight" fmla="*/ 696240 w 744480"/>
              <a:gd name="textAreaTop" fmla="*/ 48240 h 745920"/>
              <a:gd name="textAreaBottom" fmla="*/ 697680 h 745920"/>
            </a:gdLst>
            <a:ahLst/>
            <a:rect l="textAreaLeft" t="textAreaTop" r="textAreaRight" b="textAreaBottom"/>
            <a:pathLst>
              <a:path w="21600" h="21642">
                <a:moveTo>
                  <a:pt x="0" y="0"/>
                </a:moveTo>
                <a:lnTo>
                  <a:pt x="21600" y="0"/>
                </a:lnTo>
                <a:lnTo>
                  <a:pt x="21600" y="21642"/>
                </a:lnTo>
                <a:lnTo>
                  <a:pt x="0" y="21642"/>
                </a:lnTo>
                <a:close/>
              </a:path>
              <a:path fill="lightenLess" w="21600" h="216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2">
                <a:moveTo>
                  <a:pt x="21600" y="0"/>
                </a:moveTo>
                <a:lnTo>
                  <a:pt x="21600" y="21642"/>
                </a:lnTo>
                <a:lnTo>
                  <a:pt x="20200" y="20242"/>
                </a:lnTo>
                <a:lnTo>
                  <a:pt x="20200" y="1400"/>
                </a:lnTo>
                <a:close/>
              </a:path>
              <a:path fill="darkenLess" w="21600" h="21642">
                <a:moveTo>
                  <a:pt x="21600" y="21642"/>
                </a:moveTo>
                <a:lnTo>
                  <a:pt x="0" y="21642"/>
                </a:lnTo>
                <a:lnTo>
                  <a:pt x="1400" y="20242"/>
                </a:lnTo>
                <a:lnTo>
                  <a:pt x="20200" y="20242"/>
                </a:lnTo>
                <a:close/>
              </a:path>
              <a:path fill="lighten" w="21600" h="21642">
                <a:moveTo>
                  <a:pt x="0" y="216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2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Управляющая кнопка: настраиваемая 12"/>
          <p:cNvSpPr/>
          <p:nvPr/>
        </p:nvSpPr>
        <p:spPr>
          <a:xfrm rot="1723800">
            <a:off x="7633800" y="2490480"/>
            <a:ext cx="744840" cy="744480"/>
          </a:xfrm>
          <a:custGeom>
            <a:avLst/>
            <a:gdLst>
              <a:gd name="textAreaLeft" fmla="*/ 48240 w 744840"/>
              <a:gd name="textAreaRight" fmla="*/ 696600 w 74484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ЁЛЫЙ УРОК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Управляющая кнопка: настраиваемая 13"/>
          <p:cNvSpPr/>
          <p:nvPr/>
        </p:nvSpPr>
        <p:spPr>
          <a:xfrm>
            <a:off x="4282920" y="2801880"/>
            <a:ext cx="744840" cy="744480"/>
          </a:xfrm>
          <a:custGeom>
            <a:avLst/>
            <a:gdLst>
              <a:gd name="textAreaLeft" fmla="*/ 48240 w 744840"/>
              <a:gd name="textAreaRight" fmla="*/ 696600 w 74484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dissolve/>
    <p:sndAc>
      <p:stSnd>
        <p:snd r:embed="rId4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Скругленный прямоугольник 18"/>
          <p:cNvSpPr/>
          <p:nvPr/>
        </p:nvSpPr>
        <p:spPr>
          <a:xfrm>
            <a:off x="571680" y="1488960"/>
            <a:ext cx="8143560" cy="48578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681120" y="39225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650000" y="19843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062840" y="530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851040" y="151272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2" descr="C:\Documents and Settings\Admin\Рабочий стол\Новая папка (2)\Безимени-2.gif"/>
          <p:cNvPicPr/>
          <p:nvPr/>
        </p:nvPicPr>
        <p:blipFill>
          <a:blip r:embed="rId5"/>
          <a:stretch/>
        </p:blipFill>
        <p:spPr>
          <a:xfrm>
            <a:off x="1434960" y="4527720"/>
            <a:ext cx="1219320" cy="1679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C:\Documents and Settings\Admin\Рабочий стол\Новая папка (2)\Безимени-2.gif"/>
          <p:cNvPicPr/>
          <p:nvPr/>
        </p:nvPicPr>
        <p:blipFill>
          <a:blip r:embed="rId6"/>
          <a:stretch/>
        </p:blipFill>
        <p:spPr>
          <a:xfrm>
            <a:off x="1214280" y="2133720"/>
            <a:ext cx="1295640" cy="1784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2" descr="C:\Documents and Settings\Admin\Рабочий стол\Новая папка (2)\Безимени-2.gif"/>
          <p:cNvPicPr/>
          <p:nvPr/>
        </p:nvPicPr>
        <p:blipFill>
          <a:blip r:embed="rId7"/>
          <a:stretch/>
        </p:blipFill>
        <p:spPr>
          <a:xfrm>
            <a:off x="2987640" y="3321000"/>
            <a:ext cx="1298520" cy="17874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 txBox="1"/>
          <p:nvPr/>
        </p:nvSpPr>
        <p:spPr>
          <a:xfrm>
            <a:off x="681120" y="691920"/>
            <a:ext cx="78516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ОГО БОЛЬШЕ?      КОГО МЕНЬШЕ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2" name="Picture 18" descr=""/>
          <p:cNvPicPr/>
          <p:nvPr/>
        </p:nvPicPr>
        <p:blipFill>
          <a:blip r:embed="rId8"/>
          <a:stretch/>
        </p:blipFill>
        <p:spPr>
          <a:xfrm>
            <a:off x="4830840" y="2924280"/>
            <a:ext cx="2828880" cy="221940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  <p:sndAc>
      <p:stSnd>
        <p:snd r:embed="rId9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Скругленный прямоугольник 18"/>
          <p:cNvSpPr/>
          <p:nvPr/>
        </p:nvSpPr>
        <p:spPr>
          <a:xfrm>
            <a:off x="571680" y="1677960"/>
            <a:ext cx="8143560" cy="48466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650000" y="53751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13760" y="217188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206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C:\Documents and Settings\Admin\Рабочий стол\Даня\Безимени-6.gif"/>
          <p:cNvPicPr/>
          <p:nvPr/>
        </p:nvPicPr>
        <p:blipFill>
          <a:blip r:embed="rId5"/>
          <a:stretch/>
        </p:blipFill>
        <p:spPr>
          <a:xfrm>
            <a:off x="1798560" y="2374920"/>
            <a:ext cx="1503360" cy="1177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2" descr="C:\Documents and Settings\Admin\Рабочий стол\Даня\Безимени-6.gif"/>
          <p:cNvPicPr/>
          <p:nvPr/>
        </p:nvPicPr>
        <p:blipFill>
          <a:blip r:embed="rId6"/>
          <a:stretch/>
        </p:blipFill>
        <p:spPr>
          <a:xfrm>
            <a:off x="1814400" y="4799160"/>
            <a:ext cx="1471680" cy="1152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7" descr=""/>
          <p:cNvPicPr/>
          <p:nvPr/>
        </p:nvPicPr>
        <p:blipFill>
          <a:blip r:embed="rId7"/>
          <a:stretch/>
        </p:blipFill>
        <p:spPr>
          <a:xfrm>
            <a:off x="5268960" y="1916280"/>
            <a:ext cx="1260360" cy="1699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8" descr=""/>
          <p:cNvPicPr/>
          <p:nvPr/>
        </p:nvPicPr>
        <p:blipFill>
          <a:blip r:embed="rId8"/>
          <a:stretch/>
        </p:blipFill>
        <p:spPr>
          <a:xfrm>
            <a:off x="4643280" y="4329000"/>
            <a:ext cx="1256040" cy="1700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"/>
          <p:cNvPicPr/>
          <p:nvPr/>
        </p:nvPicPr>
        <p:blipFill>
          <a:blip r:embed="rId9"/>
          <a:stretch/>
        </p:blipFill>
        <p:spPr>
          <a:xfrm>
            <a:off x="6686640" y="3490920"/>
            <a:ext cx="1255680" cy="170028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1"/>
          <p:cNvSpPr/>
          <p:nvPr/>
        </p:nvSpPr>
        <p:spPr>
          <a:xfrm>
            <a:off x="1214280" y="765000"/>
            <a:ext cx="73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ОГО БОЛЬШЕ?     КОГО МЕНЬШ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7000">
    <p:dissolve/>
    <p:sndAc>
      <p:stSnd>
        <p:snd r:embed="rId10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ТУЧКА.mp3" descr=""/>
          <p:cNvPicPr/>
          <p:nvPr/>
        </p:nvPicPr>
        <p:blipFill>
          <a:blip r:embed="rId1"/>
          <a:stretch/>
        </p:blipFill>
        <p:spPr>
          <a:xfrm>
            <a:off x="802800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85" name="TextBox 2"/>
          <p:cNvSpPr/>
          <p:nvPr/>
        </p:nvSpPr>
        <p:spPr>
          <a:xfrm>
            <a:off x="900000" y="836640"/>
            <a:ext cx="75596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 ТЕПЕР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ТАНЦУЕМ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Рисунок 8" descr=""/>
          <p:cNvPicPr/>
          <p:nvPr/>
        </p:nvPicPr>
        <p:blipFill>
          <a:blip r:embed="rId2"/>
          <a:stretch/>
        </p:blipFill>
        <p:spPr>
          <a:xfrm>
            <a:off x="3348000" y="4205160"/>
            <a:ext cx="3121200" cy="2264040"/>
          </a:xfrm>
          <a:prstGeom prst="rect">
            <a:avLst/>
          </a:prstGeom>
          <a:ln w="0">
            <a:noFill/>
          </a:ln>
        </p:spPr>
      </p:pic>
    </p:spTree>
  </p:cSld>
  <p:transition advTm="117000">
    <p:dissolve/>
    <p:sndAc>
      <p:stSnd>
        <p:snd r:embed="rId3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07593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УСТАЛИ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539640" y="227664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ОТДОХНИТЕ НЕМНОГО И СДЕЛАЙТЕ ИЗ СЧЕТНЫХ ПАЛОЧЕК ИЛИ КАРАНДАШЕЙ ЛЮБУЮ ФИГУРУ, КОТОРАЯ ВАМ ПОНРАВИЛАС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трелка вниз 4"/>
          <p:cNvSpPr/>
          <p:nvPr/>
        </p:nvSpPr>
        <p:spPr>
          <a:xfrm>
            <a:off x="4221000" y="5492880"/>
            <a:ext cx="486000" cy="9777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Рисунок 5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485720" cy="1484280"/>
          </a:xfrm>
          <a:prstGeom prst="rect">
            <a:avLst/>
          </a:prstGeom>
          <a:ln w="0">
            <a:noFill/>
          </a:ln>
        </p:spPr>
      </p:pic>
    </p:spTree>
  </p:cSld>
  <p:transition advTm="20000">
    <p:dissolv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1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556320" cy="4613400"/>
          </a:xfrm>
          <a:prstGeom prst="rect">
            <a:avLst/>
          </a:prstGeom>
          <a:ln w="0">
            <a:noFill/>
          </a:ln>
        </p:spPr>
      </p:pic>
    </p:spTree>
  </p:cSld>
  <p:transition advTm="22000">
    <p:dissolv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9600" spc="-1" strike="noStrike">
              <a:solidFill>
                <a:srgbClr val="3345ed"/>
              </a:solidFill>
              <a:latin typeface="Calibri"/>
            </a:endParaRPr>
          </a:p>
        </p:txBody>
      </p:sp>
      <p:pic>
        <p:nvPicPr>
          <p:cNvPr id="595" name="Рисунок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96160" cy="652464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22160" y="549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ПОСЧИТАЕМ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0" name="Рисунок 3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2575080" cy="333540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Скругленный прямоугольник 18"/>
          <p:cNvSpPr/>
          <p:nvPr/>
        </p:nvSpPr>
        <p:spPr>
          <a:xfrm>
            <a:off x="571680" y="189000"/>
            <a:ext cx="8143560" cy="6264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sp>
        <p:nvSpPr>
          <p:cNvPr id="516" name="Управляющая кнопка: настраиваемая 14"/>
          <p:cNvSpPr/>
          <p:nvPr/>
        </p:nvSpPr>
        <p:spPr>
          <a:xfrm>
            <a:off x="3770280" y="4629240"/>
            <a:ext cx="1746360" cy="1276200"/>
          </a:xfrm>
          <a:custGeom>
            <a:avLst/>
            <a:gdLst>
              <a:gd name="textAreaLeft" fmla="*/ 82440 w 1746360"/>
              <a:gd name="textAreaRight" fmla="*/ 1663920 w 1746360"/>
              <a:gd name="textAreaTop" fmla="*/ 82440 h 1276200"/>
              <a:gd name="textAreaBottom" fmla="*/ 1193760 h 127620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12" descr="C:\Documents and Settings\Admin\Рабочий стол\Даня\Безимени-6.gif"/>
          <p:cNvPicPr/>
          <p:nvPr/>
        </p:nvPicPr>
        <p:blipFill>
          <a:blip r:embed="rId5"/>
          <a:stretch/>
        </p:blipFill>
        <p:spPr>
          <a:xfrm>
            <a:off x="2124000" y="906480"/>
            <a:ext cx="4038840" cy="316548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Скругленный прямоугольник 20"/>
          <p:cNvSpPr/>
          <p:nvPr/>
        </p:nvSpPr>
        <p:spPr>
          <a:xfrm>
            <a:off x="571680" y="500040"/>
            <a:ext cx="8143560" cy="57373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E:\Мои документы\Рисунки\Клипарты без фона\Тачки\6.png"/>
          <p:cNvPicPr/>
          <p:nvPr/>
        </p:nvPicPr>
        <p:blipFill>
          <a:blip r:embed="rId5"/>
          <a:stretch/>
        </p:blipFill>
        <p:spPr>
          <a:xfrm>
            <a:off x="711360" y="1413000"/>
            <a:ext cx="3821040" cy="20872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" descr="E:\Мои документы\Рисунки\Клипарты без фона\Тачки\1.png"/>
          <p:cNvPicPr/>
          <p:nvPr/>
        </p:nvPicPr>
        <p:blipFill>
          <a:blip r:embed="rId6"/>
          <a:stretch/>
        </p:blipFill>
        <p:spPr>
          <a:xfrm>
            <a:off x="5224320" y="1512720"/>
            <a:ext cx="3427560" cy="2157480"/>
          </a:xfrm>
          <a:prstGeom prst="rect">
            <a:avLst/>
          </a:prstGeom>
          <a:ln w="0">
            <a:noFill/>
          </a:ln>
        </p:spPr>
      </p:pic>
      <p:sp>
        <p:nvSpPr>
          <p:cNvPr id="525" name="Управляющая кнопка: настраиваемая 15"/>
          <p:cNvSpPr/>
          <p:nvPr/>
        </p:nvSpPr>
        <p:spPr>
          <a:xfrm>
            <a:off x="4135320" y="4834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4000">
    <p:dissolve/>
    <p:sndAc>
      <p:stSnd>
        <p:snd r:embed="rId7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Скругленный прямоугольник 35"/>
          <p:cNvSpPr/>
          <p:nvPr/>
        </p:nvSpPr>
        <p:spPr>
          <a:xfrm>
            <a:off x="571680" y="428760"/>
            <a:ext cx="8143560" cy="61689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sp>
        <p:nvSpPr>
          <p:cNvPr id="531" name="Управляющая кнопка: настраиваемая 16">
            <a:hlinkClick r:id="" action="ppaction://hlinkshowjump?jump=nextslide"/>
          </p:cNvPr>
          <p:cNvSpPr/>
          <p:nvPr/>
        </p:nvSpPr>
        <p:spPr>
          <a:xfrm>
            <a:off x="3936960" y="4780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12" descr="C:\Documents and Settings\Admin\Рабочий стол\Новая папка (2)\qq.gif"/>
          <p:cNvPicPr/>
          <p:nvPr/>
        </p:nvPicPr>
        <p:blipFill>
          <a:blip r:embed="rId5"/>
          <a:stretch/>
        </p:blipFill>
        <p:spPr>
          <a:xfrm>
            <a:off x="1500120" y="1500120"/>
            <a:ext cx="1797120" cy="26431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C:\Documents and Settings\Admin\Рабочий стол\Новая папка (2)\qq.gif"/>
          <p:cNvPicPr/>
          <p:nvPr/>
        </p:nvPicPr>
        <p:blipFill>
          <a:blip r:embed="rId6"/>
          <a:stretch/>
        </p:blipFill>
        <p:spPr>
          <a:xfrm>
            <a:off x="3786120" y="857160"/>
            <a:ext cx="1797120" cy="26431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C:\Documents and Settings\Admin\Рабочий стол\Новая папка (2)\qq.gif"/>
          <p:cNvPicPr/>
          <p:nvPr/>
        </p:nvPicPr>
        <p:blipFill>
          <a:blip r:embed="rId7"/>
          <a:stretch/>
        </p:blipFill>
        <p:spPr>
          <a:xfrm>
            <a:off x="5954760" y="1571760"/>
            <a:ext cx="1797120" cy="264312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  <p:sndAc>
      <p:stSnd>
        <p:snd r:embed="rId8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Скругленный прямоугольник 23"/>
          <p:cNvSpPr/>
          <p:nvPr/>
        </p:nvSpPr>
        <p:spPr>
          <a:xfrm>
            <a:off x="571680" y="428760"/>
            <a:ext cx="8143560" cy="60958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E:\Мои документы\Рисунки\Клипарты без фона\Клепарты\пчела.png"/>
          <p:cNvPicPr/>
          <p:nvPr/>
        </p:nvPicPr>
        <p:blipFill>
          <a:blip r:embed="rId5"/>
          <a:stretch/>
        </p:blipFill>
        <p:spPr>
          <a:xfrm>
            <a:off x="2786040" y="1357200"/>
            <a:ext cx="1866960" cy="1785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E:\Мои документы\Рисунки\Клипарты без фона\Клепарты\пчела.png"/>
          <p:cNvPicPr/>
          <p:nvPr/>
        </p:nvPicPr>
        <p:blipFill>
          <a:blip r:embed="rId6"/>
          <a:stretch/>
        </p:blipFill>
        <p:spPr>
          <a:xfrm>
            <a:off x="4572000" y="1357200"/>
            <a:ext cx="1866960" cy="17859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E:\Мои документы\Рисунки\Клипарты без фона\Клепарты\пчела.png"/>
          <p:cNvPicPr/>
          <p:nvPr/>
        </p:nvPicPr>
        <p:blipFill>
          <a:blip r:embed="rId7"/>
          <a:stretch/>
        </p:blipFill>
        <p:spPr>
          <a:xfrm>
            <a:off x="6429240" y="2071800"/>
            <a:ext cx="1866960" cy="1785960"/>
          </a:xfrm>
          <a:prstGeom prst="rect">
            <a:avLst/>
          </a:prstGeom>
          <a:ln w="0">
            <a:noFill/>
          </a:ln>
        </p:spPr>
      </p:pic>
      <p:sp>
        <p:nvSpPr>
          <p:cNvPr id="543" name="Управляющая кнопка: настраиваемая 17"/>
          <p:cNvSpPr/>
          <p:nvPr/>
        </p:nvSpPr>
        <p:spPr>
          <a:xfrm>
            <a:off x="4049640" y="5079960"/>
            <a:ext cx="1044720" cy="1042920"/>
          </a:xfrm>
          <a:custGeom>
            <a:avLst/>
            <a:gdLst>
              <a:gd name="textAreaLeft" fmla="*/ 67320 w 1044720"/>
              <a:gd name="textAreaRight" fmla="*/ 977400 w 10447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37" h="21600">
                <a:moveTo>
                  <a:pt x="0" y="0"/>
                </a:moveTo>
                <a:lnTo>
                  <a:pt x="21637" y="0"/>
                </a:lnTo>
                <a:lnTo>
                  <a:pt x="21637" y="21600"/>
                </a:lnTo>
                <a:lnTo>
                  <a:pt x="0" y="21600"/>
                </a:lnTo>
                <a:close/>
              </a:path>
              <a:path fill="lightenLess" w="21637" h="21600">
                <a:moveTo>
                  <a:pt x="0" y="0"/>
                </a:moveTo>
                <a:lnTo>
                  <a:pt x="21637" y="0"/>
                </a:lnTo>
                <a:lnTo>
                  <a:pt x="20237" y="1400"/>
                </a:lnTo>
                <a:lnTo>
                  <a:pt x="1400" y="1400"/>
                </a:lnTo>
                <a:close/>
              </a:path>
              <a:path fill="darken" w="21637" h="21600">
                <a:moveTo>
                  <a:pt x="21637" y="0"/>
                </a:moveTo>
                <a:lnTo>
                  <a:pt x="21637" y="21600"/>
                </a:lnTo>
                <a:lnTo>
                  <a:pt x="20237" y="20200"/>
                </a:lnTo>
                <a:lnTo>
                  <a:pt x="20237" y="1400"/>
                </a:lnTo>
                <a:close/>
              </a:path>
              <a:path fill="darkenLess" w="21637" h="21600">
                <a:moveTo>
                  <a:pt x="21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7" y="20200"/>
                </a:lnTo>
                <a:close/>
              </a:path>
              <a:path fill="lighten" w="21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2" descr="E:\Мои документы\Рисунки\Клипарты без фона\Клепарты\пчела.png"/>
          <p:cNvPicPr/>
          <p:nvPr/>
        </p:nvPicPr>
        <p:blipFill>
          <a:blip r:embed="rId8"/>
          <a:stretch/>
        </p:blipFill>
        <p:spPr>
          <a:xfrm>
            <a:off x="1000080" y="2071800"/>
            <a:ext cx="2165400" cy="2071440"/>
          </a:xfrm>
          <a:prstGeom prst="rect">
            <a:avLst/>
          </a:prstGeom>
          <a:ln w="0">
            <a:noFill/>
          </a:ln>
        </p:spPr>
      </p:pic>
    </p:spTree>
  </p:cSld>
  <p:transition advTm="19000">
    <p:dissolve/>
    <p:sndAc>
      <p:stSnd>
        <p:snd r:embed="rId9" name="chimes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Скругленный прямоугольник 18"/>
          <p:cNvSpPr/>
          <p:nvPr/>
        </p:nvSpPr>
        <p:spPr>
          <a:xfrm>
            <a:off x="571680" y="428760"/>
            <a:ext cx="8143560" cy="60958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E:\Мои документы\Рисунки\Клипарты без фона\Цветы без фона\15.png"/>
          <p:cNvPicPr/>
          <p:nvPr/>
        </p:nvPicPr>
        <p:blipFill>
          <a:blip r:embed="rId5"/>
          <a:stretch/>
        </p:blipFill>
        <p:spPr>
          <a:xfrm>
            <a:off x="1214280" y="1643040"/>
            <a:ext cx="1868760" cy="16430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E:\Мои документы\Рисунки\Клипарты без фона\Цветы без фона\15.png"/>
          <p:cNvPicPr/>
          <p:nvPr/>
        </p:nvPicPr>
        <p:blipFill>
          <a:blip r:embed="rId6"/>
          <a:stretch/>
        </p:blipFill>
        <p:spPr>
          <a:xfrm>
            <a:off x="1857240" y="3286080"/>
            <a:ext cx="1868760" cy="16430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E:\Мои документы\Рисунки\Клипарты без фона\Цветы без фона\15.png"/>
          <p:cNvPicPr/>
          <p:nvPr/>
        </p:nvPicPr>
        <p:blipFill>
          <a:blip r:embed="rId7"/>
          <a:stretch/>
        </p:blipFill>
        <p:spPr>
          <a:xfrm>
            <a:off x="5572080" y="3214800"/>
            <a:ext cx="1868400" cy="16430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" descr="E:\Мои документы\Рисунки\Клипарты без фона\Цветы без фона\15.png"/>
          <p:cNvPicPr/>
          <p:nvPr/>
        </p:nvPicPr>
        <p:blipFill>
          <a:blip r:embed="rId8"/>
          <a:stretch/>
        </p:blipFill>
        <p:spPr>
          <a:xfrm>
            <a:off x="6357960" y="1571760"/>
            <a:ext cx="1868400" cy="16430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E:\Мои документы\Рисунки\Клипарты без фона\Цветы без фона\15.png"/>
          <p:cNvPicPr/>
          <p:nvPr/>
        </p:nvPicPr>
        <p:blipFill>
          <a:blip r:embed="rId9"/>
          <a:stretch/>
        </p:blipFill>
        <p:spPr>
          <a:xfrm>
            <a:off x="3786120" y="857160"/>
            <a:ext cx="1868400" cy="1643040"/>
          </a:xfrm>
          <a:prstGeom prst="rect">
            <a:avLst/>
          </a:prstGeom>
          <a:ln w="0">
            <a:noFill/>
          </a:ln>
        </p:spPr>
      </p:pic>
      <p:sp>
        <p:nvSpPr>
          <p:cNvPr id="555" name="Управляющая кнопка: настраиваемая 17"/>
          <p:cNvSpPr/>
          <p:nvPr/>
        </p:nvSpPr>
        <p:spPr>
          <a:xfrm>
            <a:off x="385128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6080040"/>
            <a:ext cx="2271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18000">
    <p:dissolve/>
    <p:sndAc>
      <p:stSnd>
        <p:snd r:embed="rId10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Молодец!!!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9" name="Picture 2" descr="C:\Program Files\Microsoft Office\MEDIA\CAGCAT10\j0216588.wmf"/>
          <p:cNvPicPr/>
          <p:nvPr/>
        </p:nvPicPr>
        <p:blipFill>
          <a:blip r:embed="rId1"/>
          <a:stretch/>
        </p:blipFill>
        <p:spPr>
          <a:xfrm>
            <a:off x="3564000" y="3933720"/>
            <a:ext cx="1609560" cy="1806840"/>
          </a:xfrm>
          <a:prstGeom prst="rect">
            <a:avLst/>
          </a:prstGeom>
          <a:ln w="0">
            <a:noFill/>
          </a:ln>
        </p:spPr>
      </p:pic>
      <p:pic>
        <p:nvPicPr>
          <p:cNvPr id="560" name="j0211966.wav" descr=""/>
          <p:cNvPicPr/>
          <p:nvPr/>
        </p:nvPicPr>
        <p:blipFill>
          <a:blip r:embed="rId2"/>
          <a:stretch/>
        </p:blipFill>
        <p:spPr>
          <a:xfrm>
            <a:off x="7236000" y="9079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  <p:sndAc>
      <p:stSnd>
        <p:snd r:embed="rId3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45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ИГРАЕМ ДАЛЬШЕ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6:27:13Z</dcterms:created>
  <dc:creator>Admin</dc:creator>
  <dc:description/>
  <dc:language>en-US</dc:language>
  <cp:lastModifiedBy>RePack by Diakov</cp:lastModifiedBy>
  <dcterms:modified xsi:type="dcterms:W3CDTF">2020-04-07T15:52:21Z</dcterms:modified>
  <cp:revision>20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260000000000010290110207f7000400038000</vt:lpwstr>
  </property>
</Properties>
</file>